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2ED-3FFF-45F7-9484-792DADC1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4E3-D884-4EE0-9728-92879500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D25-F177-44FD-A46D-519E27DF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98E-6ED6-4363-88B9-0EE55890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9ED-1AFF-49A2-A530-EF7F5C40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F9F-8243-4695-A51C-452C8DD2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E55-65C6-4A14-AEF6-B6FE494A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08C-B1DE-4E1C-A7A3-C8914C57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673-2EF4-45A2-B6BC-CC9FFBC0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471-6D3F-4862-A9E4-A7C272B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EBB-092E-4FE5-A667-D75E97C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C02-C3FD-4D7B-86D4-6E52AF7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EDE-9873-4E44-A42F-EB29F47EE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atholic Threat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37450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George I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daughter of Edward 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on of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4-03-25T21:00:21Z</dcterms:modified>
  <cp:revision>15</cp:revision>
  <dc:subject/>
  <dc:title>Slide 1</dc:title>
</cp:coreProperties>
</file>