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A57-296B-4B00-A71E-68C40536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57A-E4A6-4B3D-81E3-9BE27DE4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624-112A-4044-9338-3CE81540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0FC-BA14-460A-8C4F-0C244355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ED4-03FC-4FC7-AAFC-671568B5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4FB-761C-4778-8FEC-A2F8FF04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024-9303-4FC1-BAD0-55DC7D86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6741-750F-46EB-ABC6-5DD7C5EB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5B9-14A2-4C4A-B1EC-A09FAFDD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33E-3C94-4B81-A3F0-7D2F542E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CEA-5980-446E-8969-7E87BC70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D4D-66E0-4299-859B-A39A48D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2BBA-65D5-4DD2-A967-793055CAF3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FE1A-06C1-4785-B11D-D0210AEBE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0-01-22T17:15:59Z</dcterms:modified>
  <cp:revision>13</cp:revision>
  <dc:subject/>
  <dc:title>Slide 1</dc:title>
</cp:coreProperties>
</file>