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DRUMROLL.WAV" ContentType="audio/x-wav"/>
  <Override PartName="/ppt/media/CHIMES.WAV" ContentType="audio/x-wav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1461-D1E3-4F7C-9989-4D6E945A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9EBE-A3F5-4872-BB52-D27D5438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C4F-2F24-4E57-8FC1-1A0F6A85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829-139F-4AE8-882B-48865B17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32E3-790B-4C26-93CE-E2B81BD2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D975-26AA-4F2F-8F56-FC8220A7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8A0-3550-4849-B905-89081542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1E0-D683-44B5-8011-0B46BC22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2B0-B79C-4372-8AEE-5F882AF5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72B2-D1F8-44F2-81EC-6FE9781F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EC62-BA17-4E3F-AFAE-EC125699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96D8-A245-4B3E-8205-1BC1ECCC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76BB-4DFC-4AF6-88F0-77E94B161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362320" y="609480"/>
            <a:ext cx="4343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ouse of Stu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4191120" y="274320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&amp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2362320" y="3962520"/>
            <a:ext cx="4572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House of Hanov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8580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Stuart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58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 (1603-16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5800" y="1752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 (1625-16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85800" y="22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I (1660-16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3412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Hanover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2666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I (1685-16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31240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y II &amp; William of Orange (1689-17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4864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 (1714-17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48640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 (1727-17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48640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I (1760-1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486400" y="2590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V (1820-18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410080" y="31240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lliam IV (1830-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85800" y="3505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e &amp; George of Denmark (1702-17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486400" y="35053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ctoria (1837-19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95280" y="762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2666880" y="838080"/>
            <a:ext cx="533520" cy="228600"/>
          </a:xfrm>
          <a:custGeom>
            <a:avLst/>
            <a:gdLst>
              <a:gd name="textAreaLeft" fmla="*/ 124200 w 533520"/>
              <a:gd name="textAreaRight" fmla="*/ 408960 w 53352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505320" y="7621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uar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95280" y="11430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Henry, Elizabeth, Char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3962520" y="1523880"/>
            <a:ext cx="533160" cy="228600"/>
          </a:xfrm>
          <a:custGeom>
            <a:avLst/>
            <a:gdLst>
              <a:gd name="textAreaLeft" fmla="*/ 124200 w 533160"/>
              <a:gd name="textAreaRight" fmla="*/ 408600 w 533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971800" y="1752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Frederick V of Rhineland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447920" y="2286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819520" y="2362320"/>
            <a:ext cx="533160" cy="228600"/>
          </a:xfrm>
          <a:custGeom>
            <a:avLst/>
            <a:gdLst>
              <a:gd name="textAreaLeft" fmla="*/ 124200 w 533160"/>
              <a:gd name="textAreaRight" fmla="*/ 408600 w 533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657600" y="2286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Henrietta Maria of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447920" y="26668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beheaded – English Civil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447920" y="29718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Charles, James, 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447920" y="3505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2971800" y="3581280"/>
            <a:ext cx="533520" cy="228600"/>
          </a:xfrm>
          <a:custGeom>
            <a:avLst/>
            <a:gdLst>
              <a:gd name="textAreaLeft" fmla="*/ 124200 w 533520"/>
              <a:gd name="textAreaRight" fmla="*/ 408960 w 53352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657600" y="35053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Katherine of Braganza, 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3880" y="3886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Restoration king after Oliver Cromwell</a:t>
            </a:r>
            <a:r>
              <a:rPr b="1" lang="ja-JP" sz="2000" spc="-1" strike="noStrike">
                <a:solidFill>
                  <a:srgbClr val="000000"/>
                </a:solidFill>
                <a:latin typeface="NewCenturySchlbk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s Protect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388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1523880" y="4724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600200" y="50292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Charles II</a:t>
            </a:r>
            <a:r>
              <a:rPr b="1" lang="ja-JP" sz="2000" spc="-1" strike="noStrike">
                <a:solidFill>
                  <a:srgbClr val="000000"/>
                </a:solidFill>
                <a:latin typeface="NewCenturySchlbk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s br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600200" y="53341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</a:t>
            </a:r>
            <a:r>
              <a:rPr b="1" lang="ja-JP" sz="2000" spc="-1" strike="noStrike">
                <a:solidFill>
                  <a:srgbClr val="000000"/>
                </a:solidFill>
                <a:latin typeface="NewCenturySchlbk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atholic Threat</a:t>
            </a:r>
            <a:r>
              <a:rPr b="1" lang="ja-JP" sz="2000" spc="-1" strike="noStrike">
                <a:solidFill>
                  <a:srgbClr val="000000"/>
                </a:solidFill>
                <a:latin typeface="NewCenturySchlbk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–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00200" y="56386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married twice&amp; 4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85800" y="6858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981080" y="762120"/>
            <a:ext cx="533520" cy="228600"/>
          </a:xfrm>
          <a:custGeom>
            <a:avLst/>
            <a:gdLst>
              <a:gd name="textAreaLeft" fmla="*/ 124200 w 533520"/>
              <a:gd name="textAreaRight" fmla="*/ 408960 w 53352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438280" y="6858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Hyde(Anglic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uar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257800" y="685800"/>
            <a:ext cx="3886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ary &amp;  Anne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1828800" y="1219320"/>
            <a:ext cx="533520" cy="228600"/>
          </a:xfrm>
          <a:custGeom>
            <a:avLst/>
            <a:gdLst>
              <a:gd name="textAreaLeft" fmla="*/ 124200 w 533520"/>
              <a:gd name="textAreaRight" fmla="*/ 408960 w 53352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362320" y="12193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of Modena, Spain (Cathol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83808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1905120" y="2514600"/>
            <a:ext cx="533160" cy="228600"/>
          </a:xfrm>
          <a:custGeom>
            <a:avLst/>
            <a:gdLst>
              <a:gd name="textAreaLeft" fmla="*/ 124200 w 533160"/>
              <a:gd name="textAreaRight" fmla="*/ 408600 w 533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14600" y="24382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William of Orange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4400" y="2819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onarchs after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14400" y="31240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90720" y="49528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&amp; Anne = interim monarchs – females of bloo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105520" y="12193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James Francis Edward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Edward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838080" y="3809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905120" y="3886200"/>
            <a:ext cx="533160" cy="228600"/>
          </a:xfrm>
          <a:custGeom>
            <a:avLst/>
            <a:gdLst>
              <a:gd name="textAreaLeft" fmla="*/ 124200 w 533160"/>
              <a:gd name="textAreaRight" fmla="*/ 408600 w 533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514600" y="3809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Georg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9072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5062680" y="198108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*males inherit before femal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143000" y="304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2209680" y="228600"/>
            <a:ext cx="685800" cy="38088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95480" y="3049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Dorothea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143000" y="6094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914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laim to English throne – grandmother Elizabeth, daughter of James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143000" y="1219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-- 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752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209680" y="1676520"/>
            <a:ext cx="685800" cy="38088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895480" y="1752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143000" y="20574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43000" y="2362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– Freder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2209680" y="2895480"/>
            <a:ext cx="685800" cy="38124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1240"/>
              <a:gd name="textAreaBottom" fmla="*/ 241560 h 3812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895480" y="2971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Charlott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143000" y="32767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grand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9880" y="3276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broke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43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lost American colo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809880" y="3581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ra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143000" y="3886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6 children:  George, Frederick, William, Edward, Earnest Augustus, Adolp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43000" y="1905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illiam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209680" y="1828800"/>
            <a:ext cx="685800" cy="38088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1905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ela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43000" y="22096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br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43000" y="2514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no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43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c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066680" y="3745080"/>
            <a:ext cx="4648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  George III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granddaugh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  daughter of Edward , 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son of 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533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209680" y="457200"/>
            <a:ext cx="685800" cy="38088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895480" y="533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143000" y="8380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14300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daughter – Charl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2:24:52Z</dcterms:created>
  <dc:creator>Jennifer Finkenhagen</dc:creator>
  <dc:description/>
  <dc:language>en-US</dc:language>
  <cp:lastModifiedBy>Rowell, Sandra</cp:lastModifiedBy>
  <dcterms:modified xsi:type="dcterms:W3CDTF">2014-03-25T21:00:21Z</dcterms:modified>
  <cp:revision>15</cp:revision>
  <dc:subject/>
  <dc:title>Slide 1</dc:title>
</cp:coreProperties>
</file>