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217-00D6-4EA6-9A70-29D19FEF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776-CB89-4B2B-B417-CD12A438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D2D-FD20-44BB-9B95-4575D511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070-3059-46C0-A04D-AC28A173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DE7-57DB-40A7-9E00-2BC6E59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5EE-6B78-46E6-8B30-7FEB25DC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3A4-BF24-4036-8EDC-282B379D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9EB-1538-4807-901D-D61B5104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46E-FDEE-40F0-8B6F-6D0A0D7B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96C-E89F-4798-B27D-2166889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E4B-EE39-414C-B2E3-0E759E6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F63-94C7-4B8E-A8A1-171348DF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CE75-2C06-4356-8CB6-BCFEB3B75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atholic Threat</a:t>
            </a:r>
            <a:r>
              <a:rPr b="1" lang="ja-JP" sz="2000" spc="-1" strike="noStrike">
                <a:solidFill>
                  <a:srgbClr val="000000"/>
                </a:solidFill>
                <a:latin typeface="NewCenturySchlbk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custGeom>
            <a:avLst/>
            <a:gdLst>
              <a:gd name="textAreaLeft" fmla="*/ 124200 w 533520"/>
              <a:gd name="textAreaRight" fmla="*/ 408960 w 53352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custGeom>
            <a:avLst/>
            <a:gdLst>
              <a:gd name="textAreaLeft" fmla="*/ 124200 w 533160"/>
              <a:gd name="textAreaRight" fmla="*/ 408600 w 533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1240"/>
              <a:gd name="textAreaBottom" fmla="*/ 241560 h 3812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66680" y="3745080"/>
            <a:ext cx="4648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George III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granddaugh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  daughter of Edward ,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on of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custGeom>
            <a:avLst/>
            <a:gdLst>
              <a:gd name="textAreaLeft" fmla="*/ 159840 w 685800"/>
              <a:gd name="textAreaRight" fmla="*/ 525960 w 685800"/>
              <a:gd name="textAreaTop" fmla="*/ 39960 h 380880"/>
              <a:gd name="textAreaBottom" fmla="*/ 241200 h 3808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4-03-25T21:00:21Z</dcterms:modified>
  <cp:revision>15</cp:revision>
  <dc:subject/>
  <dc:title>Slide 1</dc:title>
</cp:coreProperties>
</file>