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DRUMROLL.WAV" ContentType="audio/x-wav"/>
  <Override PartName="/ppt/media/CHIMES.WAV" ContentType="audio/x-wav"/>
  <Override PartName="/ppt/media/lase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CAD5-78F8-459F-9A07-D0DCB83B7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F080-3598-4675-80D5-483B712F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2407-94AB-49CE-AE4F-E8E1C8C4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CF28-775E-4A94-BD8F-16080E311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1D33-32BF-443D-8F61-01FFB463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A8BE-0B82-42F2-BC02-53005501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D7B8-B493-4188-96D0-3C504106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F0FA-2B9F-46FE-A244-9601F6BA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33EE-01B9-4DCF-A365-FA4AE619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0692-EF6E-435A-A38A-C1BF42C6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935D-046F-45C4-BB79-52FB03D0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3F0C-6B1B-4545-8A0C-E4565B2E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0A3D-6144-453E-BA8F-0BDFF83498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audio" Target="../media/DRUMROLL.WAV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2362320" y="609480"/>
            <a:ext cx="4343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House of Stuar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2" name="WordArt 11"/>
          <p:cNvSpPr txBox="1"/>
          <p:nvPr/>
        </p:nvSpPr>
        <p:spPr>
          <a:xfrm>
            <a:off x="4191120" y="2743200"/>
            <a:ext cx="761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&amp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3" name="WordArt 12"/>
          <p:cNvSpPr txBox="1"/>
          <p:nvPr/>
        </p:nvSpPr>
        <p:spPr>
          <a:xfrm>
            <a:off x="2362320" y="3962520"/>
            <a:ext cx="45720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House of Hanov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685800" y="762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Stuart Monarc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685800" y="12952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ames I (1603-16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685800" y="17524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rles I (1625-164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685800" y="2209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rles II (1660-168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5334120" y="762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Hanover Monarc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85800" y="26668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ames II (1685-168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85800" y="312408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ry II &amp; William of Orange (1689-17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486400" y="12952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 (1714-17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486400" y="16765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I (1727-176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486400" y="21337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II (1760-18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5486400" y="25909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V (1820-18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5410080" y="312408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lliam IV (1830-18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85800" y="35053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ne &amp; George of Denmark (1702-17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486400" y="35053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ictoria (1837-19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295280" y="7621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James 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2666880" y="838080"/>
            <a:ext cx="533520" cy="228600"/>
          </a:xfrm>
          <a:custGeom>
            <a:avLst/>
            <a:gdLst>
              <a:gd name="textAreaLeft" fmla="*/ 124200 w 533520"/>
              <a:gd name="textAreaRight" fmla="*/ 408960 w 53352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505320" y="76212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Anne of Den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20"/>
          <p:cNvSpPr txBox="1"/>
          <p:nvPr/>
        </p:nvSpPr>
        <p:spPr>
          <a:xfrm rot="5400000">
            <a:off x="-2991240" y="2990880"/>
            <a:ext cx="66294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Stuart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295280" y="11430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3 Children = Henry, Elizabeth, Char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"/>
          <p:cNvSpPr/>
          <p:nvPr/>
        </p:nvSpPr>
        <p:spPr>
          <a:xfrm>
            <a:off x="3962520" y="1523880"/>
            <a:ext cx="533160" cy="228600"/>
          </a:xfrm>
          <a:custGeom>
            <a:avLst/>
            <a:gdLst>
              <a:gd name="textAreaLeft" fmla="*/ 124200 w 533160"/>
              <a:gd name="textAreaRight" fmla="*/ 408600 w 53316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971800" y="1752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Frederick V of Rhineland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1447920" y="228600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harles 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819520" y="2362320"/>
            <a:ext cx="533160" cy="228600"/>
          </a:xfrm>
          <a:custGeom>
            <a:avLst/>
            <a:gdLst>
              <a:gd name="textAreaLeft" fmla="*/ 124200 w 533160"/>
              <a:gd name="textAreaRight" fmla="*/ 408600 w 53316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657600" y="228600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Henrietta Maria of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447920" y="26668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beheaded – English Civil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447920" y="29718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3 Children = Charles, James, 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1447920" y="35053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harles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"/>
          <p:cNvSpPr/>
          <p:nvPr/>
        </p:nvSpPr>
        <p:spPr>
          <a:xfrm>
            <a:off x="2971800" y="3581280"/>
            <a:ext cx="533520" cy="228600"/>
          </a:xfrm>
          <a:custGeom>
            <a:avLst/>
            <a:gdLst>
              <a:gd name="textAreaLeft" fmla="*/ 124200 w 533520"/>
              <a:gd name="textAreaRight" fmla="*/ 408960 w 53352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657600" y="35053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Katherine of Braganza, Portu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523880" y="38862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Restoration king after Oliver Cromwell</a:t>
            </a:r>
            <a:r>
              <a:rPr b="1" lang="ja-JP" sz="2000" spc="-1" strike="noStrike">
                <a:solidFill>
                  <a:srgbClr val="000000"/>
                </a:solidFill>
                <a:latin typeface="NewCenturySchlbk"/>
              </a:rPr>
              <a:t>’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s Protecto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523880" y="41911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N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1523880" y="47242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James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600200" y="50292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Charles II</a:t>
            </a:r>
            <a:r>
              <a:rPr b="1" lang="ja-JP" sz="2000" spc="-1" strike="noStrike">
                <a:solidFill>
                  <a:srgbClr val="000000"/>
                </a:solidFill>
                <a:latin typeface="NewCenturySchlbk"/>
              </a:rPr>
              <a:t>’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s br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1600200" y="53341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 </a:t>
            </a:r>
            <a:r>
              <a:rPr b="1" lang="ja-JP" sz="2000" spc="-1" strike="noStrike">
                <a:solidFill>
                  <a:srgbClr val="000000"/>
                </a:solidFill>
                <a:latin typeface="NewCenturySchlbk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atholic Threat</a:t>
            </a:r>
            <a:r>
              <a:rPr b="1" lang="ja-JP" sz="2000" spc="-1" strike="noStrike">
                <a:solidFill>
                  <a:srgbClr val="000000"/>
                </a:solidFill>
                <a:latin typeface="NewCenturySchlbk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– Glorious/Bloodless R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600200" y="56386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 married twice&amp; 4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685800" y="68580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James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1981080" y="762120"/>
            <a:ext cx="533520" cy="228600"/>
          </a:xfrm>
          <a:custGeom>
            <a:avLst/>
            <a:gdLst>
              <a:gd name="textAreaLeft" fmla="*/ 124200 w 533520"/>
              <a:gd name="textAreaRight" fmla="*/ 408960 w 53352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438280" y="68580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Anne Hyde(Anglic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20"/>
          <p:cNvSpPr txBox="1"/>
          <p:nvPr/>
        </p:nvSpPr>
        <p:spPr>
          <a:xfrm rot="5400000">
            <a:off x="-2991240" y="2990880"/>
            <a:ext cx="66294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Stuart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257800" y="685800"/>
            <a:ext cx="3886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Mary &amp;  Anne (child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1828800" y="1219320"/>
            <a:ext cx="533520" cy="228600"/>
          </a:xfrm>
          <a:custGeom>
            <a:avLst/>
            <a:gdLst>
              <a:gd name="textAreaLeft" fmla="*/ 124200 w 533520"/>
              <a:gd name="textAreaRight" fmla="*/ 408960 w 53352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362320" y="121932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Mary of Modena, Spain (Cathol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838080" y="24382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Mary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1905120" y="2514600"/>
            <a:ext cx="533160" cy="228600"/>
          </a:xfrm>
          <a:custGeom>
            <a:avLst/>
            <a:gdLst>
              <a:gd name="textAreaLeft" fmla="*/ 124200 w 533160"/>
              <a:gd name="textAreaRight" fmla="*/ 408600 w 53316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514600" y="24382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William of Orange,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914400" y="28195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monarchs after Glorious/Bloodless R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914400" y="31240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N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90720" y="495288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Mary &amp; Anne = interim monarchs – females of bloo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105520" y="121932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James Francis Edward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harles Edward (child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838080" y="38098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A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1905120" y="3886200"/>
            <a:ext cx="533160" cy="228600"/>
          </a:xfrm>
          <a:custGeom>
            <a:avLst/>
            <a:gdLst>
              <a:gd name="textAreaLeft" fmla="*/ 124200 w 533160"/>
              <a:gd name="textAreaRight" fmla="*/ 408600 w 53316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514600" y="38098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George of Den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990720" y="41911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N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2"/>
          <p:cNvSpPr/>
          <p:nvPr/>
        </p:nvSpPr>
        <p:spPr>
          <a:xfrm>
            <a:off x="5062680" y="1981080"/>
            <a:ext cx="37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</a:rPr>
              <a:t>*males inherit before female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 rot="5400000">
            <a:off x="-2605680" y="2999520"/>
            <a:ext cx="6249960" cy="704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Hanover</a:t>
            </a:r>
            <a:endParaRPr b="0" i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143000" y="304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2209680" y="228600"/>
            <a:ext cx="685800" cy="380880"/>
          </a:xfrm>
          <a:custGeom>
            <a:avLst/>
            <a:gdLst>
              <a:gd name="textAreaLeft" fmla="*/ 159840 w 685800"/>
              <a:gd name="textAreaRight" fmla="*/ 525960 w 685800"/>
              <a:gd name="textAreaTop" fmla="*/ 39960 h 380880"/>
              <a:gd name="textAreaBottom" fmla="*/ 241200 h 3808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895480" y="3049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phia Dorothea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143000" y="6094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rman – spoke no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143000" y="9144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claim to English throne – grandmother Elizabeth, daughter of James 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143000" y="12193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1 child -- Geo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143000" y="1752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2209680" y="1676520"/>
            <a:ext cx="685800" cy="380880"/>
          </a:xfrm>
          <a:custGeom>
            <a:avLst/>
            <a:gdLst>
              <a:gd name="textAreaLeft" fmla="*/ 159840 w 685800"/>
              <a:gd name="textAreaRight" fmla="*/ 525960 w 685800"/>
              <a:gd name="textAreaTop" fmla="*/ 39960 h 380880"/>
              <a:gd name="textAreaBottom" fmla="*/ 241200 h 3808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895480" y="17524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roline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143000" y="20574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rman – spoke no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143000" y="23623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1 child – Freder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143000" y="2971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2209680" y="2895480"/>
            <a:ext cx="685800" cy="381240"/>
          </a:xfrm>
          <a:custGeom>
            <a:avLst/>
            <a:gdLst>
              <a:gd name="textAreaLeft" fmla="*/ 159840 w 685800"/>
              <a:gd name="textAreaRight" fmla="*/ 525960 w 685800"/>
              <a:gd name="textAreaTop" fmla="*/ 39960 h 381240"/>
              <a:gd name="textAreaBottom" fmla="*/ 241560 h 3812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895480" y="2971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phia Charlotte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143000" y="32767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orge II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 grand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809880" y="3276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speaks broken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143000" y="3581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lost American colo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809880" y="35812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cra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143000" y="38862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6 children:  George, Frederick, William, Edward, Earnest Augustus, Adolph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 rot="5400000">
            <a:off x="-2605680" y="2999520"/>
            <a:ext cx="6249960" cy="704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Hanover</a:t>
            </a:r>
            <a:endParaRPr b="0" i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143000" y="1905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illiam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2209680" y="1828800"/>
            <a:ext cx="685800" cy="380880"/>
          </a:xfrm>
          <a:custGeom>
            <a:avLst/>
            <a:gdLst>
              <a:gd name="textAreaLeft" fmla="*/ 159840 w 685800"/>
              <a:gd name="textAreaRight" fmla="*/ 525960 w 685800"/>
              <a:gd name="textAreaTop" fmla="*/ 39960 h 380880"/>
              <a:gd name="textAreaBottom" fmla="*/ 241200 h 3808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895480" y="19051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ela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143000" y="22096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orge IV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 br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143000" y="25146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no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143000" y="33526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icto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1066680" y="3745080"/>
            <a:ext cx="4648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  George III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 granddaugh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  daughter of Edward , 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son of George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143000" y="533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2209680" y="457200"/>
            <a:ext cx="685800" cy="380880"/>
          </a:xfrm>
          <a:custGeom>
            <a:avLst/>
            <a:gdLst>
              <a:gd name="textAreaLeft" fmla="*/ 159840 w 685800"/>
              <a:gd name="textAreaRight" fmla="*/ 525960 w 685800"/>
              <a:gd name="textAreaTop" fmla="*/ 39960 h 380880"/>
              <a:gd name="textAreaBottom" fmla="*/ 241200 h 3808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895480" y="533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ro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143000" y="8380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speaks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143000" y="11430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1 daughter – Charlo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0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22:24:52Z</dcterms:created>
  <dc:creator>Jennifer Finkenhagen</dc:creator>
  <dc:description/>
  <dc:language>en-US</dc:language>
  <cp:lastModifiedBy>Rowell, Sandra</cp:lastModifiedBy>
  <dcterms:modified xsi:type="dcterms:W3CDTF">2014-03-25T21:00:21Z</dcterms:modified>
  <cp:revision>15</cp:revision>
  <dc:subject/>
  <dc:title>Slide 1</dc:title>
</cp:coreProperties>
</file>