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EDE-47D8-46B8-9FD7-5B22735B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744-E2CB-44B6-ADDC-44AA814B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17A-B3ED-4120-BB1E-B03BFA60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249-E4BC-412A-A176-563A86D1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F76-A7CD-4BCF-815F-35743F86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4EF-E456-4085-8D7B-63CC310B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141-95E1-4584-B2DF-FE55FC6B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42F-0D45-4E3B-A5E6-114BE088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3C2-4730-4458-8CE5-7347D839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9B8-F14E-44CD-A6BD-0E126D3A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2D7-5487-4DDC-BF1D-8F74DCBE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B36-9C92-49A8-8064-E695FF4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620B-148A-4D20-9E26-E3261D413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tuart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’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’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“Catholic Threat”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tuart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’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’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3657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I’s grand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Jennifer Finkenhagen</cp:lastModifiedBy>
  <dcterms:modified xsi:type="dcterms:W3CDTF">2009-01-29T15:12:03Z</dcterms:modified>
  <cp:revision>11</cp:revision>
  <dc:subject/>
  <dc:title>Slide 1</dc:title>
</cp:coreProperties>
</file>