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DRUMROLL.WAV" ContentType="audio/x-wav"/>
  <Override PartName="/ppt/media/CHIMES.WAV" ContentType="audio/x-wav"/>
  <Override PartName="/ppt/media/laser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8302-3970-4DF7-96AF-92DF27949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D642-3F99-4811-B30B-43036416C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4662-9ECA-4B32-8510-843A7D650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D7F8-ABA7-4618-800B-129BB5478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1BA7-BB0E-4396-8EF4-1C3CBC71D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DC21-46CA-4197-A13B-657E5F135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022B-FCCD-4701-9E53-428F48048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6C9D-C4D2-4804-880A-DBB73B931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B60C-0F54-4183-A2C8-39519141B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C1C7-1E5A-436F-8448-E8E12B95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6EC1-1A13-4204-8161-4EF96401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93E8-0C20-410A-A446-B135A54F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FA928-1857-489C-8149-74A94C93F1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audio" Target="../media/DRUMROLL.WAV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2362320" y="609480"/>
            <a:ext cx="43434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House of Stuar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2" name="WordArt 11"/>
          <p:cNvSpPr txBox="1"/>
          <p:nvPr/>
        </p:nvSpPr>
        <p:spPr>
          <a:xfrm>
            <a:off x="4191120" y="2743200"/>
            <a:ext cx="7617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&amp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3" name="WordArt 12"/>
          <p:cNvSpPr txBox="1"/>
          <p:nvPr/>
        </p:nvSpPr>
        <p:spPr>
          <a:xfrm>
            <a:off x="2362320" y="3962520"/>
            <a:ext cx="457200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 Black"/>
              </a:rPr>
              <a:t>House of Hanov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685800" y="762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2523"/>
                </a:solidFill>
                <a:latin typeface="Calibri"/>
              </a:rPr>
              <a:t>Stuart Monarc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685800" y="12952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ames I (1603-16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685800" y="17524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harles I (1625-164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685800" y="22096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harles II (1660-168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5334120" y="762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2523"/>
                </a:solidFill>
                <a:latin typeface="Calibri"/>
              </a:rPr>
              <a:t>Hanover Monarc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685800" y="26668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ames II (1685-168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685800" y="312408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ry II &amp; William of Orange (1689-170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5486400" y="12952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eorge I (1714-172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486400" y="16765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eorge II (1727-176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5486400" y="21337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eorge III (1760-18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5486400" y="25909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eorge IV (1820-183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5410080" y="312408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illiam IV (1830-183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685800" y="350532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nne &amp; George of Denmark (1702-171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5486400" y="35053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Victoria (1837-190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295280" y="7621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James I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3"/>
          <p:cNvSpPr/>
          <p:nvPr/>
        </p:nvSpPr>
        <p:spPr>
          <a:xfrm>
            <a:off x="2666880" y="838080"/>
            <a:ext cx="533520" cy="2286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3505320" y="76212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Anne of Den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20"/>
          <p:cNvSpPr txBox="1"/>
          <p:nvPr/>
        </p:nvSpPr>
        <p:spPr>
          <a:xfrm rot="5400000">
            <a:off x="-2991240" y="2990880"/>
            <a:ext cx="662940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</a:rPr>
              <a:t>Stuart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1295280" y="114300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3 Children = Henry, Elizabeth, Char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"/>
          <p:cNvSpPr/>
          <p:nvPr/>
        </p:nvSpPr>
        <p:spPr>
          <a:xfrm>
            <a:off x="3962520" y="1523880"/>
            <a:ext cx="533160" cy="2286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2971800" y="17524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Frederick V of Rhineland, 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1447920" y="228600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Charles I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819520" y="2362320"/>
            <a:ext cx="533160" cy="2286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3657600" y="228600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Henrietta Maria of F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1447920" y="26668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beheaded – English Civil W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1447920" y="297180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3 Children = Charles, James, 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1447920" y="35053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Charles II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3"/>
          <p:cNvSpPr/>
          <p:nvPr/>
        </p:nvSpPr>
        <p:spPr>
          <a:xfrm>
            <a:off x="2971800" y="3581280"/>
            <a:ext cx="533520" cy="2286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3657600" y="350532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Katherine of Braganza, Portug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523880" y="388620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Restoration king after Oliver Cromwell’s Protecto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1523880" y="41911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No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1523880" y="472428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James II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1600200" y="502920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Charles II’s br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1600200" y="53341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 “Catholic Threat” – Glorious/Bloodless Rev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1600200" y="56386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 married twice&amp; 4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685800" y="68580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James II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"/>
          <p:cNvSpPr/>
          <p:nvPr/>
        </p:nvSpPr>
        <p:spPr>
          <a:xfrm>
            <a:off x="1981080" y="762120"/>
            <a:ext cx="533520" cy="2286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2438280" y="68580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Anne Hyde(Anglic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20"/>
          <p:cNvSpPr txBox="1"/>
          <p:nvPr/>
        </p:nvSpPr>
        <p:spPr>
          <a:xfrm rot="5400000">
            <a:off x="-2991240" y="2990880"/>
            <a:ext cx="662940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</a:rPr>
              <a:t>Stuart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5257800" y="685800"/>
            <a:ext cx="38862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Mary &amp;  Anne (childr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3"/>
          <p:cNvSpPr/>
          <p:nvPr/>
        </p:nvSpPr>
        <p:spPr>
          <a:xfrm>
            <a:off x="1828800" y="1219320"/>
            <a:ext cx="533520" cy="2286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2362320" y="1219320"/>
            <a:ext cx="281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Mary of Modena, Spain (Cathol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838080" y="243828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Mary II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3"/>
          <p:cNvSpPr/>
          <p:nvPr/>
        </p:nvSpPr>
        <p:spPr>
          <a:xfrm>
            <a:off x="1905120" y="2514600"/>
            <a:ext cx="533160" cy="2286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2514600" y="243828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William of Orange, Nether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914400" y="281952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monarchs after Glorious/Bloodless Rev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914400" y="31240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No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90720" y="495288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Mary &amp; Anne = interim monarchs – females of bloo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5105520" y="1219320"/>
            <a:ext cx="403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James Francis Edward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Charles Edward (childr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838080" y="38098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A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3"/>
          <p:cNvSpPr/>
          <p:nvPr/>
        </p:nvSpPr>
        <p:spPr>
          <a:xfrm>
            <a:off x="1905120" y="3886200"/>
            <a:ext cx="533160" cy="2286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514600" y="380988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George of Den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990720" y="41911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No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2"/>
          <p:cNvSpPr/>
          <p:nvPr/>
        </p:nvSpPr>
        <p:spPr>
          <a:xfrm>
            <a:off x="5062680" y="1981080"/>
            <a:ext cx="378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CenturySchlbk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</a:rPr>
              <a:t>*males inherit before females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 rot="5400000">
            <a:off x="-2605680" y="2999520"/>
            <a:ext cx="6249960" cy="704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</a:rPr>
              <a:t>Hanover</a:t>
            </a:r>
            <a:endParaRPr b="0" i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143000" y="3049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orge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2209680" y="228600"/>
            <a:ext cx="685800" cy="38088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2895480" y="3049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phia Dorothea, 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1143000" y="60948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German – spoke no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1143000" y="9144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claim to English throne – grandmother Elizabeth, daughter of James 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1143000" y="12193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1 child -- Geo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143000" y="1752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orge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2209680" y="1676520"/>
            <a:ext cx="685800" cy="38088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2895480" y="175248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roline, 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143000" y="205740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German – spoke no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143000" y="23623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1 child – Frederi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143000" y="29718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orge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2209680" y="2895480"/>
            <a:ext cx="685800" cy="3812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2895480" y="29718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phia Charlotte, 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1143000" y="327672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George II’s grand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3809880" y="32767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speaks broken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143000" y="35812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lost American colo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809880" y="35812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craz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1143000" y="38862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6 children:  George, Frederick, William, Edward, Earnest Augustus, Adolph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2"/>
          <p:cNvSpPr txBox="1"/>
          <p:nvPr/>
        </p:nvSpPr>
        <p:spPr>
          <a:xfrm rot="5400000">
            <a:off x="-2605680" y="2999520"/>
            <a:ext cx="6249960" cy="704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</a:rPr>
              <a:t>Hanover</a:t>
            </a:r>
            <a:endParaRPr b="0" i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1143000" y="19051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illiam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2209680" y="1828800"/>
            <a:ext cx="685800" cy="38088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2895480" y="19051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dela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143000" y="220968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George IV’s br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1143000" y="25146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no child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143000" y="33526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Victor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1143000" y="365760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George III’s granddaugh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143000" y="5335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orge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2209680" y="457200"/>
            <a:ext cx="685800" cy="38088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2895480" y="5335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ro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143000" y="83808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speaks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1143000" y="11430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1 daughter – Charlo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22:24:52Z</dcterms:created>
  <dc:creator>Jennifer Finkenhagen</dc:creator>
  <dc:description/>
  <dc:language>en-US</dc:language>
  <cp:lastModifiedBy>Jennifer Finkenhagen</cp:lastModifiedBy>
  <dcterms:modified xsi:type="dcterms:W3CDTF">2009-01-29T15:12:03Z</dcterms:modified>
  <cp:revision>11</cp:revision>
  <dc:subject/>
  <dc:title>Slide 1</dc:title>
</cp:coreProperties>
</file>