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793-E257-4C78-9EB0-4C00AA62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E19-3E03-4D8D-934E-FD1CA7A1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AF9-F504-4046-8917-B3A95018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BCD-1A09-44C8-A51C-545A20FE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142-4986-4D72-899D-633AD62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A67-CFD7-4413-8C77-AFA432A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59B-6FB0-4D8B-831E-9DDDA3A7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C90-4AD0-4742-B86B-3B73192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2BD-12CC-4070-A0F3-25AF222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EBC-72BA-4453-AE7A-2DF2937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C13-8A54-466E-92A7-29951D0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6D2-BAC4-4662-A3FA-4DCB7EA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A22-D066-47D9-9D9F-64D0D895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Jennifer Finkenhagen</cp:lastModifiedBy>
  <dcterms:modified xsi:type="dcterms:W3CDTF">2009-01-29T15:12:03Z</dcterms:modified>
  <cp:revision>11</cp:revision>
  <dc:subject/>
  <dc:title>Slide 1</dc:title>
</cp:coreProperties>
</file>