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RUMROLL.WAV" ContentType="audio/x-wav"/>
  <Override PartName="/ppt/media/CHIMES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A8A-F3F6-4289-9BFB-3F4191B9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00F-6191-4EEA-B15C-612266FF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C8F-CE39-4D85-A5BF-3A52DE2E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7F5-6540-47AD-85C9-29BB0795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F26-E67B-463F-A750-BF739EA8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38D-C7DB-4A2A-A4B8-656DE4AE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B83-4CA1-4BD0-B253-AFB7FF2F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E84-2A14-4F90-AFAE-FE948A95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D45-1C50-4592-9F06-A0839DA2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934-54F5-4014-A935-4C2F19E0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485F-A2F1-44DF-853B-7CB39A13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9E9-E559-4CCA-9676-18CD7B46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D9DC-F59F-477C-859C-F2459E228A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A234-549D-4303-8E78-3C4F8A8A4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362320" y="6094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House of St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191120" y="274320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2362320" y="396252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House of Hanov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Stuart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 (1603-16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752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 (1625-16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580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I (1660-16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41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Hanover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2666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I (1685-16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3124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y II &amp; William of Orange (1689-17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4864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 (1714-17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48640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 (1727-17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48640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I (1760-1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86400" y="2590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V (1820-18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410080" y="3124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liam IV (1830-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3505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&amp; George of Denmark (1702-17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86400" y="3505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toria (1837-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280" y="762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666880" y="8380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505320" y="7621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95280" y="1143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Henry, Elizabeth, Char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962520" y="152388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71800" y="1752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rederick V of Rhineland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447920" y="2286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819520" y="236232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6576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Henrietta Maria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47920" y="2666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beheaded – Engl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29718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Charles, James, 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447920" y="3505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2971800" y="35812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57600" y="35053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Katherine of Braganza,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3880" y="3886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Restoration king after Oliver Cromwell’s Prot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388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523880" y="4724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600200" y="5029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Charles II’s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00200" y="5334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“Catholic Threat” –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00200" y="5638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married twice&amp; 4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685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981080" y="7621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438280" y="685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Hyde(Angli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257800" y="6858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ary &amp;  Anne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1828800" y="12193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623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of Modena, Spain (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3808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905120" y="25146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1460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William of Orange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4400" y="2819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onarchs after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14400" y="3124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4952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&amp; Anne = interim monarchs – females of bloo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105520" y="1219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James Francis Edward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Edward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905120" y="38862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514600" y="3809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Georg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9072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062680" y="198108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*males inherit before fema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430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209680" y="2286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304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Dorothea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14300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laim to English throne – grandmother Elizabeth, daughter of James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0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--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752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209680" y="167652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895480" y="1752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143000" y="2057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43000" y="2362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– Freder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209680" y="2895480"/>
            <a:ext cx="685800" cy="3812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95480" y="2971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Charlott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43000" y="3276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’s gran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988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broke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lost American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09880" y="3581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ra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886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6 children:  George, Frederick, William, Edward, Earnest Augustus, Adolp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iam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209680" y="18288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ela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2209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V’s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43000" y="2514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n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c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143000" y="3657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I’s  granddau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209680" y="4572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95480" y="533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838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1430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daughter – Char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2:24:52Z</dcterms:created>
  <dc:creator>Jennifer Finkenhagen</dc:creator>
  <dc:description/>
  <dc:language>en-US</dc:language>
  <cp:lastModifiedBy>Rowell, Sandra</cp:lastModifiedBy>
  <dcterms:modified xsi:type="dcterms:W3CDTF">2010-01-22T17:15:59Z</dcterms:modified>
  <cp:revision>13</cp:revision>
  <dc:subject/>
  <dc:title>Slide 1</dc:title>
</cp:coreProperties>
</file>