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BDE-DBE7-4676-BE1C-EE79C6E3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9D4-3C95-411A-8783-BC7EEC84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5A4-A068-4116-BE1E-ABF78E72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497-F4AB-4712-A56D-39BDE1F6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7E2-E09E-4051-8879-2A74BD98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9A5-E19A-4C7A-B320-318F28F1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0B3-0784-4694-9B57-3C4CD928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4D1-6069-47A4-957B-1624B982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B0B-EF14-418B-A36D-ED537FD5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869-AF02-482B-AAB0-6FE549B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4F3-21BC-43AB-A086-6682405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2A4-3564-4F38-970F-E3BDC1D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207-A77B-4183-B76B-CAA1CB925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5D7A-B041-4281-975B-80596CEE3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0-01-22T17:15:59Z</dcterms:modified>
  <cp:revision>13</cp:revision>
  <dc:subject/>
  <dc:title>Slide 1</dc:title>
</cp:coreProperties>
</file>