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DRUMROLL.WAV" ContentType="audio/x-wav"/>
  <Override PartName="/ppt/media/CHIMES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1A8-8368-4FFE-BC5A-E58129C8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904-E236-4988-80C7-281C1108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455-3A5A-4670-A6D2-49E3C578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09C-4B57-49BE-B2F8-3F79F8A1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2C9-3819-4F48-926B-0C05A31D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3D6-FBBD-4470-A4BD-33436B8B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79D-7651-446F-8BA4-E3A7E1B3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3BC-EAF9-4DF9-AE1B-4DAA8C47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7C6-F761-4359-B224-0869FBF2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F0B-BD8F-47F7-90F5-175569A7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369-1B52-4593-97B8-64554012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28B-6356-43B6-A751-972E075F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AE2B-E2EF-405C-A1E6-EDF17CDD25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DD26-7282-4045-A5C1-11EFE2243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362320" y="609480"/>
            <a:ext cx="434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House of Stu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191120" y="274320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2362320" y="39625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House of Hanov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Stuart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 (1603-16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5800" y="1752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 (1625-16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les II (1660-16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341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2523"/>
                </a:solidFill>
                <a:latin typeface="Calibri"/>
              </a:rPr>
              <a:t>Hanover Monar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2666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mes II (1685-16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5800" y="3124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y II &amp; William of Orange (1689-17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48640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 (1714-17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48640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 (1727-17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4864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II (1760-1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86400" y="2590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orge IV (1820-18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410080" y="3124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liam IV (1830-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85800" y="3505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&amp; George of Denmark (1702-17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486400" y="3505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toria (1837-19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295280" y="762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2666880" y="8380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505320" y="7621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95280" y="1143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Henry, Elizabeth, Char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962520" y="152388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971800" y="1752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Frederick V of Rhineland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47920" y="2286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819520" y="236232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657600" y="22860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Henrietta Maria of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447920" y="2666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beheaded – English Civil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47920" y="29718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3 Children = Charles, James, 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447920" y="3505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2971800" y="358128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Katherine of Braganza, 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3880" y="38862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Restoration king after Oliver Cromwell’s Protect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388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1523880" y="4724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600200" y="50292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Charles II’s br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00200" y="53341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“Catholic Threat” –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00200" y="5638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 married twice&amp; 4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85800" y="685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James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981080" y="7621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438280" y="685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 Hyde(Anglic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 rot="5400000">
            <a:off x="-2991240" y="2990880"/>
            <a:ext cx="6629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uart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257800" y="6858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ary &amp;  Anne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828800" y="1219320"/>
            <a:ext cx="53352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1219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of Modena, Spain (Cathol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83808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II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905120" y="25146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14600" y="24382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William of Orange,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4400" y="2819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monarchs after Glorious/Bloodless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914400" y="3124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952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Mary &amp; Anne = interim monarchs – females of bloo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105520" y="12193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James Francis Edward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Charles Edward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3809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905120" y="3886200"/>
            <a:ext cx="53316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9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George of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90720" y="419112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CenturySchlbk"/>
              </a:rPr>
              <a:t>*No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062680" y="198108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</a:rPr>
              <a:t>*males inherit before females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430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209680" y="2286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304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Dorothea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14300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laim to English throne – grandmother Elizabeth, daughter of James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1430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--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209680" y="167652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95480" y="1752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3000" y="20574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rman – spoke no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43000" y="2362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child – Freder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2209680" y="2895480"/>
            <a:ext cx="685800" cy="3812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2971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phia Charlotte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143000" y="3276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’s grand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988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broke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lost American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09880" y="3581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cr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886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6 children:  George, Frederick, William, Edward, Earnest Augustus, Adolp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 rot="5400000">
            <a:off x="-2605680" y="2999520"/>
            <a:ext cx="62499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Hanover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209680" y="18288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ela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43000" y="22096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V’s br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43000" y="2514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no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ic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143000" y="3657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George III’s  granddau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rge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09680" y="457200"/>
            <a:ext cx="685800" cy="38088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895480" y="533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43000" y="838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speaks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430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*1 daughter – Char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2:24:52Z</dcterms:created>
  <dc:creator>Jennifer Finkenhagen</dc:creator>
  <dc:description/>
  <dc:language>en-US</dc:language>
  <cp:lastModifiedBy>Rowell, Sandra</cp:lastModifiedBy>
  <dcterms:modified xsi:type="dcterms:W3CDTF">2010-01-22T17:15:59Z</dcterms:modified>
  <cp:revision>13</cp:revision>
  <dc:subject/>
  <dc:title>Slide 1</dc:title>
</cp:coreProperties>
</file>