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448-BD35-4CFD-8E04-516EC151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C9F-0882-4A39-80B2-D4961586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A4C-BC59-4994-92E5-6F9202FB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660-B137-41AB-A164-757BD0B4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944-A05A-4CD7-97CD-088439D5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BE1-C746-466F-99E4-F35D7C1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9B1-96AD-4D2F-9E47-34C4B38A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470-7ACF-4907-83F8-4AF5224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E41-B544-4684-8DB0-F5186DD9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339-C3DE-4B3A-BD9D-F6FF1D68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E75-09DB-473E-AD0F-F0D55BC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DB2-3DC1-4A4D-9B07-78EF2B3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93A-026B-4A15-8C29-6A5E7E75ED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FB34-9931-464D-8F99-ECD2BD964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0-01-22T17:15:59Z</dcterms:modified>
  <cp:revision>13</cp:revision>
  <dc:subject/>
  <dc:title>Slide 1</dc:title>
</cp:coreProperties>
</file>