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EC9D-9E02-4623-8986-C3C88856E2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CAB3-EED1-46D3-B01D-0A9493070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352F-2A48-48B1-943C-3CD1D7DBE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F61A-26BA-4E0B-B292-D1B7C88E3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2B79-9C8A-4E26-A24D-27115CE42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24C2-F564-424D-87C8-5D576E377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28D2-835A-47FF-8DEE-BE3B76653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8543-6A2C-4022-AE02-56F586F7B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F2E8-2C12-4920-926C-8E13DDAD6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E718-EE79-444F-8C07-20205BB13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1F2F-E3B9-410D-81F7-C7C75924E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FB6A-EAD8-4F95-B203-560C8561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185C-BBAB-4066-A607-809ECA59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240DA-6D0E-4120-9B89-8BF2B8CB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09F92-C70F-4740-8C76-8C487922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B0047-2277-4AB7-A077-8D4E802C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FA300-53A9-4D4A-8993-1642DBEE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C8871-87AC-4996-BD61-780D6CE0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05688-DEC3-4E95-A4DA-BF1CFDB7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91780-5030-49A1-A6A9-B5FDDBEE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3B23D-26CC-4486-8145-1A78F61D7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11C3E-BBA1-413C-973B-B3C3F9D07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7BF81-8233-4DEB-93BF-0A82E527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E1E4-4FD5-4ED6-93CB-AD22ABCF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93013-90FC-4F61-988B-37A78FFE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2D850E-ADF8-4E68-B090-01C34B63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4BCBC-A973-4225-8157-96E22187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C00CC-5CB4-4BE6-A9E0-FD04040B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298B95-44D9-4B63-8446-2391CE06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888789-2C87-41C6-86FE-3D69795D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E34C4-BE59-47AD-90DD-6280377D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B5897-92E9-476A-9603-0E39BF91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088F4-717E-4E27-AE27-2D1D885E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256FB-28CB-4324-A046-D09C809AA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E589-2B9E-4D96-B668-A1B487E3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C6AA8-FCE7-4FB4-B0F8-173F9C73A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3419F-C005-42D6-B428-B2D45C510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BF0F6-859A-4BD8-A7D8-68FB45C6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3AFCC-C2BB-4C4A-B0B2-7DF5984E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C158F-D801-4F41-8D90-987A420F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B4DE9-C45C-4F59-B446-8A1E6FFB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657B8-A052-4A7E-8A7F-C9171EC0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25EF8-CCCE-4BC8-9C3A-23D78392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1A2AF-D899-4A5A-A928-3BE788A5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15017-6B60-433E-B110-8DD58393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186D-7F2B-4A0A-B1DC-8444EB80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68ECD-C7E0-4BBE-95CF-C8E4CD21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E2C96-8B0E-4EB1-9799-B1301B13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294C0-2F19-4F00-94FC-A7E1E1C4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FF4D8-572B-44AF-8184-E16E7300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97A11E-0442-4BBD-8DA6-B33874D8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82C42-55E4-4912-BF7D-74F8B32E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75F76-A8DA-4600-925B-ADB74971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315B6-3FCB-41DF-A9AE-6E10E84B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C12E0-2989-4979-A5E2-D4ED4591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AD7FD-54FD-4AFE-86BB-BBB9980B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B7C5-F60C-437A-A3CB-A5CDCC48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655A7D-C22D-46B0-B466-6D8DE40E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6AC8D3-FFF0-45A9-9D8F-686976B7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A5284-1CD1-40D5-ACE5-ADC5029C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D8CC1F-5A3C-445F-8A7B-2B823376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EE0015-62CC-45FD-AD5F-E48A91CBA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2720E2-C341-4B68-A6B6-CC9A48E0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68F83A-C60F-46F6-9013-306EDA5F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BB2CD1-B895-466F-93D6-3185E0D8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39446C-F341-4D02-AAE0-D883D890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FEB740-1F7F-4574-8CD5-CD2EFEC6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E399-0AF1-436A-B82B-592766B4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AD50A0-F2FF-485A-BD16-CF2E8580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953370-7C09-4F20-8BE9-BD9C08BF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762FD3-685A-4E8F-BD71-1EF46FF5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AE18AA-6974-443C-B2D4-50423C2A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7DC5D8-CE68-4D18-8D1F-3E0D2A5A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438578-5069-42F3-80C8-DE4EA8EE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63BCB9-DEFF-4FFE-A978-98F53D3F8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E3FF0E-0439-4661-9AAF-AA01730D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AB74A0-E3B7-48E4-9D77-A6B501D9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6E8900-E2C7-474E-8546-9A952CD2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85D4-4D1B-417F-939C-3E4EB0F3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447259-F95D-434E-91FB-E4AB06AB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530A8B-40D8-4240-A377-E7B23D01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183CC2-60D7-4FAA-BFE4-B714A117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7C7D96-8A49-450B-BE38-AA82F4D7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118C16-1E2E-4456-8364-D95486EA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7A618D-A1B6-4A77-BE19-2694C661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2CF026-95B6-4ED9-B774-E26688F0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F381E6-72A7-4B1F-B42C-6E03445B4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661150-E52E-4EF8-9675-5AC209817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DCD492-9B25-470E-B86E-4B1DAB53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673F-FDE5-4504-8AFA-E0E1FBB7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9A7A9A-02E3-44C8-B617-0B80E817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9C41BC-59DA-450A-B25C-9B3EB4B9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70EE89-73F6-4983-8058-2BF52DE3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D6CF95-6FDF-4448-BAD1-14956D25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3F3880-95B3-4EFE-B25E-320481FC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DDCF43-42E0-48FF-9980-E5A4DD81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057D9B-9D68-4347-912E-AC9DCBD5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288F48-F533-4023-943B-D279D97F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E568C6-6105-424F-A7B7-D137A1ED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2D595C-9DE8-47FE-8C16-8147F9E67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660C-249F-4DCF-AFCE-FCEBCD04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B28F4C-3791-4600-BCAA-FD5F46BC8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4C480A-0D67-4E78-912B-82382438E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EE973F-1BBF-434C-930D-05AB94EA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993469-68D5-407A-9260-DE2FEACD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131A6A-668F-4011-9CF2-CD0A3831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5D67C7-3141-49C6-8C39-AEFC5ECE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CFE9F4-0562-46C0-BEE2-4A596FEE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ED1D26-0B4F-4C59-A5BE-D5BF0DEC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AA8A78-26FC-4BA6-AD74-637CCBF7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7F2789-255D-4EFF-9A27-667E46F5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CAD2-3E6D-4952-8D5B-A59CD0A2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FFDC7B-66C2-499A-B6C2-F8EDAE96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A8A227-A2C7-4F59-8956-2304801A3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5B6FF0-4EA4-4504-A64A-3820DEA5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0AF364-3BA5-4E08-8BDD-0EEA8B569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47B063-5BD7-4E51-91FD-07D84FD8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F45023-0C93-435E-9A35-14ED58A4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5FD4E0-5E4A-452D-B1A1-E112BC7E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C7AADF-70A8-48B9-94B1-573AF482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5312ED-1F47-433D-BD51-C3D5F4CE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05809A-A0B8-4D2D-B32C-F8232FA0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4A08-D675-41DA-A142-002A6EEE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9EC5-FA54-4AA0-AA49-238758D6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7F2E44-7DC2-4CFA-86F5-ACFDFCA3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5247CD-591E-4C67-BF4C-66CB15E8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57B6B4-931A-49CF-B181-CDFE96FE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AFDDBF-F8A9-45FE-9014-811F5412D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EA5896-5FD1-4EDB-843E-B50AF4DD1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C098-A8D5-4029-B629-D7463D8B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7368-3638-4788-9FC7-C2002975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EBF9-0161-4240-8F28-D4D184E7D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26B4-9179-4603-AE96-F8A2AC41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8E611-6C6F-4388-996B-2FD1C4FB1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6F6AE-B3A6-4C9B-96A7-F67F65D2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3A9D8-068A-4085-B890-3E2934BF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82175-8718-40DA-AC13-1430ABAD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F8C2E-F269-43FE-BBFB-B179418F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9FA0-7DA6-41BB-AB9C-A7673234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20D61-96BA-4924-A030-C5454829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C336A-2298-4631-96CC-3734BC0F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20E82-7F96-42DA-AE93-0773706E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9BD2F-8163-443B-AD72-0347D52D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E6801-DFD5-4056-809B-96A11742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6E166-0645-4CDC-B396-15524D55A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3054A-4FCB-477E-AE38-565BBDC7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7B125-95B5-4D9B-92D8-A33149080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A7A79-0FD6-411C-ACF3-2E37C1F5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FCDBD-E51D-491A-B409-D34282BC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4D0B-746B-4559-B469-AAF885CA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63E39-199D-4C66-BEDD-5A4D5C09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F45A0-3F5A-4822-9AAE-CCBEC90A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152A8-C440-440A-9DFC-118FBB71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9BA14-8519-4D27-914C-DC4F50B9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48110-4B89-441D-9A9F-835DACC2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26DB0-570A-4EAD-A103-068CEC14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5544B-1353-4CD7-9B74-E1F52DEF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DECB2-96D1-4BF1-965A-0BF04C5B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E627A-BEAB-42DE-BAB3-FECE93DBB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07702-4B7F-4B4B-8072-F62D6B04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1654-639B-4150-B03F-6E6C4A26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C9DC3-63A9-4847-83C1-352C979E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BF7B0-973C-435D-9AEC-F9105D31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C5E2F-9ABE-42B8-834D-7A5FA86A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1F963-E389-4A08-BA9D-6EBEADCD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0F41D-C688-48B7-8B70-13406F86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CB704-B798-4FE3-B06D-99AD406D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BBF6A-1AD0-4C59-A370-6CEF7370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86590-4A5E-4144-BCF6-CE8CA2E8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1CB15-93F6-4170-B62A-479FC6D3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2C1E9-47EF-471A-97C8-F66B45C2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2B97-15E9-4807-B41C-9A2BBDE0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15B64-824E-4C7A-AD39-89044056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1EACA-73C7-4682-A908-B90DF222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D7AA4-6098-45CB-9380-97E9243E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DABA3-F5CA-4A3E-9AE4-30E791FB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4F4A1-C6F5-4202-B762-B209F3E6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88D8E-39B9-4CEC-9FD9-B4150311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99CAE-EA42-4DB4-9742-A2122720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9BF05-FAE6-4D4A-BB89-A9310B79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131F5-C5CB-4F90-8A12-39AEC25C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E7592-70F3-4D09-BFA2-886B1177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AA90-402B-4527-A009-64164F1B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9454D-54F8-4922-8CFF-40AA1A30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6C008-D048-44DF-8747-88CA7B328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914A5-38C0-41AD-AA58-FDFFF821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A630B-DB8D-4545-970D-8003DE9B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601BD-0B33-4AD7-9A4D-6BF16830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87E54-1BD2-4AE6-A65F-AAADBA76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7B2D2-A418-4EAA-94AC-6026F0A3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D5ECB-9A4D-4333-9FD8-822F0D6B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4B75E-542D-42E1-8FD4-6390912C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7979E-BD7F-441C-B828-97182BB3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454A-1C85-423C-8C35-3B3E377F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3B779-D075-4BD7-ABCA-CC7D28C5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F3AB2-8DA7-44DE-8555-0D5D55F2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DC8B9-E1D4-44FA-B33E-0C5B3E67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D7314-8413-4A58-B607-EF1E1B29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8F434-1738-4936-B54D-26DA6E451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96B69-32B5-4414-8181-603828C7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FD493-663E-4FE4-9B52-5E80EEB5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BF373-69D8-4689-9563-13B10CC3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C0610-6E4D-449C-BFE3-BBA9941D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DD6BE-4FE3-4231-B628-E7E859CD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E19F-E5DB-4C6C-B15B-7C4AA867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AC6CB-9AE1-4271-B66C-AB880A5B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A0DC4-3FFB-48F6-BA21-9F3FBA4F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20D29-6A59-45C5-AA5C-639E1F82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12569-5895-417D-9DAA-D6B618ED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9BB7C-76B1-40C3-AB11-6DE72BE8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19D27-2CD2-40D9-9141-B7D5E52E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8761B-ADDA-4571-B657-60748084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ACF34-5426-4BF4-ACF2-B6B9B34EF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EACA8-4C79-4951-9585-8E7F94BB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C5F00A-7186-4545-AB3D-06501CC7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655D-29EF-448F-B2FB-298AF4209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0B1B-29FC-4329-A6E7-35BA27D444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5489-E7E0-452C-975F-EDEAD00ACC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064D-BC98-454B-9054-FFB81DB9FF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AE07-D95A-4E64-9B38-7792930BF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05EC-064C-4BF0-BA18-A31F1CD637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407B-319B-413D-974B-6C4A0C9848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DE9C-0820-4CB4-9F2F-7C0EE995CB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71D1-A6B0-40FC-8730-0A5C49C21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3D09-D9E5-4C5B-B0E1-2B92D13378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1E6A-3446-4A04-8236-A43BEAD476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DC17-CA0F-440A-BB6C-E442FCAD33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7018-C636-4B74-A507-29A643CE45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E4EE-D2F9-4974-9322-3563F69897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0CB8-114D-4684-B1CE-E22B2C952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040A-51B1-4333-BA86-3ED5353234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2636-9CE2-444C-A576-52C16070F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73F2-AC96-46B4-86BC-43F5EE803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E062-FEBB-4055-9DDF-1F8C5937B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8674-A855-4B7D-9FB3-2689DB3187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19D0-3866-4A81-A992-41CF0DC19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7BFA-D9C3-458E-B6AE-3A40BA7CCD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143F-6A78-4747-8747-1816A33FFB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D5A8-3494-4753-980E-43323367D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FD60-BE93-4BFD-8C7F-56850224DA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F044-3B3E-46E2-9973-84CD7B6EA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B656-88C1-4EDC-B700-F6D7186809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5983-0A4B-4E8D-B8E5-5115EDF554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9B1F-B66C-4A2B-BC6B-2C79882E3E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979E-D0C1-4FFC-9085-97213D1CE9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WordArt 4"/>
          <p:cNvSpPr txBox="1"/>
          <p:nvPr/>
        </p:nvSpPr>
        <p:spPr>
          <a:xfrm>
            <a:off x="457200" y="380880"/>
            <a:ext cx="4419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Warm Up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228600" y="2057400"/>
            <a:ext cx="82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5-6 minutes – beginning of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6"/>
          <p:cNvSpPr/>
          <p:nvPr/>
        </p:nvSpPr>
        <p:spPr>
          <a:xfrm>
            <a:off x="209520" y="1523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Grammar Skills &amp; Vocabulary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9"/>
          <p:cNvSpPr/>
          <p:nvPr/>
        </p:nvSpPr>
        <p:spPr>
          <a:xfrm>
            <a:off x="0" y="25146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Collected every 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9"/>
          <p:cNvSpPr/>
          <p:nvPr/>
        </p:nvSpPr>
        <p:spPr>
          <a:xfrm>
            <a:off x="0" y="2971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Unexcused Tardy – no mak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9"/>
          <p:cNvSpPr/>
          <p:nvPr/>
        </p:nvSpPr>
        <p:spPr>
          <a:xfrm>
            <a:off x="22860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bsent/Excused Tar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9"/>
          <p:cNvSpPr/>
          <p:nvPr/>
        </p:nvSpPr>
        <p:spPr>
          <a:xfrm>
            <a:off x="3505320" y="35053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-- write that day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’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9"/>
          <p:cNvSpPr/>
          <p:nvPr/>
        </p:nvSpPr>
        <p:spPr>
          <a:xfrm>
            <a:off x="3581280" y="39625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-- A (absent) or ET (excused tar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9"/>
          <p:cNvSpPr/>
          <p:nvPr/>
        </p:nvSpPr>
        <p:spPr>
          <a:xfrm>
            <a:off x="0" y="46483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opy another student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’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 warm ups = no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Text Box 5"/>
          <p:cNvSpPr/>
          <p:nvPr/>
        </p:nvSpPr>
        <p:spPr>
          <a:xfrm>
            <a:off x="0" y="838080"/>
            <a:ext cx="82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Litera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9"/>
          <p:cNvSpPr/>
          <p:nvPr/>
        </p:nvSpPr>
        <p:spPr>
          <a:xfrm>
            <a:off x="-228600" y="14479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male domin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9"/>
          <p:cNvSpPr/>
          <p:nvPr/>
        </p:nvSpPr>
        <p:spPr>
          <a:xfrm>
            <a:off x="-228600" y="19810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reflect their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9"/>
          <p:cNvSpPr/>
          <p:nvPr/>
        </p:nvSpPr>
        <p:spPr>
          <a:xfrm>
            <a:off x="-304920" y="3124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oral not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9"/>
          <p:cNvSpPr/>
          <p:nvPr/>
        </p:nvSpPr>
        <p:spPr>
          <a:xfrm>
            <a:off x="3276720" y="312408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-- scops/bards (storytell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9"/>
          <p:cNvSpPr/>
          <p:nvPr/>
        </p:nvSpPr>
        <p:spPr>
          <a:xfrm>
            <a:off x="3733920" y="36576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 = to warri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9"/>
          <p:cNvSpPr/>
          <p:nvPr/>
        </p:nvSpPr>
        <p:spPr>
          <a:xfrm>
            <a:off x="3733920" y="4191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offer immortality &amp; teach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9"/>
          <p:cNvSpPr/>
          <p:nvPr/>
        </p:nvSpPr>
        <p:spPr>
          <a:xfrm>
            <a:off x="0" y="2590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extol (praise) warrior virt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 Box 6"/>
          <p:cNvSpPr/>
          <p:nvPr/>
        </p:nvSpPr>
        <p:spPr>
          <a:xfrm>
            <a:off x="20952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KING ALFRED OF WESSEX – ALFRED THE 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9"/>
          <p:cNvSpPr/>
          <p:nvPr/>
        </p:nvSpPr>
        <p:spPr>
          <a:xfrm>
            <a:off x="0" y="9144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1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united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9"/>
          <p:cNvSpPr/>
          <p:nvPr/>
        </p:nvSpPr>
        <p:spPr>
          <a:xfrm>
            <a:off x="0" y="13716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Christia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9"/>
          <p:cNvSpPr/>
          <p:nvPr/>
        </p:nvSpPr>
        <p:spPr>
          <a:xfrm>
            <a:off x="0" y="1828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stop D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9"/>
          <p:cNvSpPr/>
          <p:nvPr/>
        </p:nvSpPr>
        <p:spPr>
          <a:xfrm>
            <a:off x="0" y="24382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2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i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Anglo-Saxon Chron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9"/>
          <p:cNvSpPr/>
          <p:nvPr/>
        </p:nvSpPr>
        <p:spPr>
          <a:xfrm>
            <a:off x="0" y="28954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history of England – early days to 11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9"/>
          <p:cNvSpPr/>
          <p:nvPr/>
        </p:nvSpPr>
        <p:spPr>
          <a:xfrm>
            <a:off x="0" y="33526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still referenced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9"/>
          <p:cNvSpPr/>
          <p:nvPr/>
        </p:nvSpPr>
        <p:spPr>
          <a:xfrm>
            <a:off x="0" y="38862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3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English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9"/>
          <p:cNvSpPr/>
          <p:nvPr/>
        </p:nvSpPr>
        <p:spPr>
          <a:xfrm>
            <a:off x="0" y="43434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predominantly sp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9"/>
          <p:cNvSpPr/>
          <p:nvPr/>
        </p:nvSpPr>
        <p:spPr>
          <a:xfrm>
            <a:off x="0" y="48006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now written –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nglo-Saxon Chron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9"/>
          <p:cNvSpPr/>
          <p:nvPr/>
        </p:nvSpPr>
        <p:spPr>
          <a:xfrm>
            <a:off x="1295280" y="5176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language not respected until it</a:t>
            </a:r>
            <a:r>
              <a:rPr b="1" lang="ja-JP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’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s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6"/>
          <p:cNvSpPr/>
          <p:nvPr/>
        </p:nvSpPr>
        <p:spPr>
          <a:xfrm>
            <a:off x="20952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ANGLO-SAXON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9"/>
          <p:cNvSpPr/>
          <p:nvPr/>
        </p:nvSpPr>
        <p:spPr>
          <a:xfrm>
            <a:off x="0" y="9144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1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not expected 2B subserv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9"/>
          <p:cNvSpPr/>
          <p:nvPr/>
        </p:nvSpPr>
        <p:spPr>
          <a:xfrm>
            <a:off x="0" y="17524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2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had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9"/>
          <p:cNvSpPr/>
          <p:nvPr/>
        </p:nvSpPr>
        <p:spPr>
          <a:xfrm>
            <a:off x="0" y="22096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could inherit &amp; hold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9"/>
          <p:cNvSpPr/>
          <p:nvPr/>
        </p:nvSpPr>
        <p:spPr>
          <a:xfrm>
            <a:off x="0" y="2666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dowry (morgengifu) – substantial gift of $ and/or land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groom gives to b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2"/>
          <p:cNvSpPr/>
          <p:nvPr/>
        </p:nvSpPr>
        <p:spPr>
          <a:xfrm>
            <a:off x="0" y="0"/>
            <a:ext cx="9144000" cy="8942760"/>
          </a:xfrm>
          <a:prstGeom prst="rect">
            <a:avLst/>
          </a:prstGeom>
          <a:gradFill rotWithShape="0">
            <a:gsLst>
              <a:gs pos="0">
                <a:srgbClr val="000076"/>
              </a:gs>
              <a:gs pos="50000">
                <a:srgbClr val="0000ff"/>
              </a:gs>
              <a:gs pos="100000">
                <a:srgbClr val="0000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rm Up #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cabulary Lis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tence Com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/28/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great British poets are quoted so often that their words now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m 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poets use the ideas and styles of previous writers, their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ntion is not to ________ but to build on and reinterpret th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st.  Occasionally, however, a poet has been accused of stea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WordArt 4"/>
          <p:cNvSpPr txBox="1"/>
          <p:nvPr/>
        </p:nvSpPr>
        <p:spPr>
          <a:xfrm>
            <a:off x="914400" y="1143000"/>
            <a:ext cx="708660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nglo-Sax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449-106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WordArt 4"/>
          <p:cNvSpPr txBox="1"/>
          <p:nvPr/>
        </p:nvSpPr>
        <p:spPr>
          <a:xfrm>
            <a:off x="457200" y="380880"/>
            <a:ext cx="6553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4 influential  Invad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16" name="Text Box 5"/>
          <p:cNvSpPr/>
          <p:nvPr/>
        </p:nvSpPr>
        <p:spPr>
          <a:xfrm>
            <a:off x="228600" y="2286000"/>
            <a:ext cx="82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*name island Great Bri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6"/>
          <p:cNvSpPr/>
          <p:nvPr/>
        </p:nvSpPr>
        <p:spPr>
          <a:xfrm>
            <a:off x="209520" y="19051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CE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9"/>
          <p:cNvSpPr/>
          <p:nvPr/>
        </p:nvSpPr>
        <p:spPr>
          <a:xfrm>
            <a:off x="0" y="27432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religion – Animism (Latin for spir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9"/>
          <p:cNvSpPr/>
          <p:nvPr/>
        </p:nvSpPr>
        <p:spPr>
          <a:xfrm>
            <a:off x="0" y="32004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spirits everywhere; control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9"/>
          <p:cNvSpPr/>
          <p:nvPr/>
        </p:nvSpPr>
        <p:spPr>
          <a:xfrm>
            <a:off x="0" y="36576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Stonehenge – Druids (pries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9"/>
          <p:cNvSpPr/>
          <p:nvPr/>
        </p:nvSpPr>
        <p:spPr>
          <a:xfrm>
            <a:off x="0" y="40384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myth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9"/>
          <p:cNvSpPr/>
          <p:nvPr/>
        </p:nvSpPr>
        <p:spPr>
          <a:xfrm>
            <a:off x="0" y="44956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fierce women; enchanting &amp; b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9"/>
          <p:cNvSpPr/>
          <p:nvPr/>
        </p:nvSpPr>
        <p:spPr>
          <a:xfrm>
            <a:off x="0" y="4876920"/>
            <a:ext cx="824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influence later Irish &amp; English wri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(Sir Thomas Malory &amp; William Butler Yea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0" y="57913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language -- Gae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5"/>
          <p:cNvSpPr/>
          <p:nvPr/>
        </p:nvSpPr>
        <p:spPr>
          <a:xfrm>
            <a:off x="228600" y="1295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6"/>
          <p:cNvSpPr/>
          <p:nvPr/>
        </p:nvSpPr>
        <p:spPr>
          <a:xfrm>
            <a:off x="209520" y="7621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RO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9"/>
          <p:cNvSpPr/>
          <p:nvPr/>
        </p:nvSpPr>
        <p:spPr>
          <a:xfrm>
            <a:off x="2666880" y="12952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stop invaders for several hundred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9"/>
          <p:cNvSpPr/>
          <p:nvPr/>
        </p:nvSpPr>
        <p:spPr>
          <a:xfrm>
            <a:off x="2743200" y="17524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departure = chaos &amp; Anglo- Saxons con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5"/>
          <p:cNvSpPr/>
          <p:nvPr/>
        </p:nvSpPr>
        <p:spPr>
          <a:xfrm>
            <a:off x="0" y="2438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9"/>
          <p:cNvSpPr/>
          <p:nvPr/>
        </p:nvSpPr>
        <p:spPr>
          <a:xfrm>
            <a:off x="2438280" y="24382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defensive wall (Hadrian</a:t>
            </a:r>
            <a:r>
              <a:rPr b="1" lang="ja-JP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’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s w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9"/>
          <p:cNvSpPr/>
          <p:nvPr/>
        </p:nvSpPr>
        <p:spPr>
          <a:xfrm>
            <a:off x="2514600" y="28954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built network of 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5"/>
          <p:cNvSpPr/>
          <p:nvPr/>
        </p:nvSpPr>
        <p:spPr>
          <a:xfrm>
            <a:off x="0" y="3505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9"/>
          <p:cNvSpPr/>
          <p:nvPr/>
        </p:nvSpPr>
        <p:spPr>
          <a:xfrm>
            <a:off x="2438280" y="35053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organized centralized gov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5"/>
          <p:cNvSpPr/>
          <p:nvPr/>
        </p:nvSpPr>
        <p:spPr>
          <a:xfrm>
            <a:off x="0" y="4114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9"/>
          <p:cNvSpPr/>
          <p:nvPr/>
        </p:nvSpPr>
        <p:spPr>
          <a:xfrm>
            <a:off x="2438280" y="4114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introduce Christia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5"/>
          <p:cNvSpPr/>
          <p:nvPr/>
        </p:nvSpPr>
        <p:spPr>
          <a:xfrm>
            <a:off x="0" y="4724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9"/>
          <p:cNvSpPr/>
          <p:nvPr/>
        </p:nvSpPr>
        <p:spPr>
          <a:xfrm>
            <a:off x="2438280" y="47242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La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6"/>
          <p:cNvSpPr/>
          <p:nvPr/>
        </p:nvSpPr>
        <p:spPr>
          <a:xfrm>
            <a:off x="209520" y="685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ANGLO-SAX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9"/>
          <p:cNvSpPr/>
          <p:nvPr/>
        </p:nvSpPr>
        <p:spPr>
          <a:xfrm>
            <a:off x="0" y="12193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Germanic ori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9"/>
          <p:cNvSpPr/>
          <p:nvPr/>
        </p:nvSpPr>
        <p:spPr>
          <a:xfrm>
            <a:off x="0" y="16765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</a:t>
            </a:r>
            <a:r>
              <a:rPr b="1" i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Beowulf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sounds more German than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9"/>
          <p:cNvSpPr/>
          <p:nvPr/>
        </p:nvSpPr>
        <p:spPr>
          <a:xfrm>
            <a:off x="0" y="21337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language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9"/>
          <p:cNvSpPr/>
          <p:nvPr/>
        </p:nvSpPr>
        <p:spPr>
          <a:xfrm>
            <a:off x="0" y="25909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German + Gaelic + Latin = Old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9"/>
          <p:cNvSpPr/>
          <p:nvPr/>
        </p:nvSpPr>
        <p:spPr>
          <a:xfrm>
            <a:off x="0" y="31240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religion – Warrior 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6"/>
          <p:cNvSpPr/>
          <p:nvPr/>
        </p:nvSpPr>
        <p:spPr>
          <a:xfrm>
            <a:off x="304920" y="3733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VIKINGS &amp; NOR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9"/>
          <p:cNvSpPr/>
          <p:nvPr/>
        </p:nvSpPr>
        <p:spPr>
          <a:xfrm>
            <a:off x="0" y="41911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ended Anglo-Saxon do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9"/>
          <p:cNvSpPr/>
          <p:nvPr/>
        </p:nvSpPr>
        <p:spPr>
          <a:xfrm>
            <a:off x="0" y="47242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1066 Battle of Hastings – William the Conque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9"/>
          <p:cNvSpPr/>
          <p:nvPr/>
        </p:nvSpPr>
        <p:spPr>
          <a:xfrm>
            <a:off x="0" y="5181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Duke of Normandy (Fren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9"/>
          <p:cNvSpPr/>
          <p:nvPr/>
        </p:nvSpPr>
        <p:spPr>
          <a:xfrm>
            <a:off x="0" y="5562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Viking des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 Box 2"/>
          <p:cNvSpPr/>
          <p:nvPr/>
        </p:nvSpPr>
        <p:spPr>
          <a:xfrm>
            <a:off x="0" y="0"/>
            <a:ext cx="9144000" cy="7875720"/>
          </a:xfrm>
          <a:prstGeom prst="rect">
            <a:avLst/>
          </a:prstGeom>
          <a:gradFill rotWithShape="0">
            <a:gsLst>
              <a:gs pos="0">
                <a:srgbClr val="000076"/>
              </a:gs>
              <a:gs pos="50000">
                <a:srgbClr val="0000ff"/>
              </a:gs>
              <a:gs pos="100000">
                <a:srgbClr val="0000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rm Up 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cabulary Lis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tence Com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/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oems are so joyful that they are almost ecstatic; other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so sad that they could be considered 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one would accuse Sir Francis Bacon of being _______.  He wa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smooth talker, but his statements and his writing had sub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WordArt 4"/>
          <p:cNvSpPr txBox="1"/>
          <p:nvPr/>
        </p:nvSpPr>
        <p:spPr>
          <a:xfrm>
            <a:off x="457200" y="380880"/>
            <a:ext cx="6553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nglo-Saxon Engl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51" name="Text Box 5"/>
          <p:cNvSpPr/>
          <p:nvPr/>
        </p:nvSpPr>
        <p:spPr>
          <a:xfrm>
            <a:off x="228600" y="2362320"/>
            <a:ext cx="82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Tribal Government (initi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6"/>
          <p:cNvSpPr/>
          <p:nvPr/>
        </p:nvSpPr>
        <p:spPr>
          <a:xfrm>
            <a:off x="209520" y="16765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*influenced  by harsh climate; centered on surv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9"/>
          <p:cNvSpPr/>
          <p:nvPr/>
        </p:nvSpPr>
        <p:spPr>
          <a:xfrm>
            <a:off x="0" y="28195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strong leader w/council of wise e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9"/>
          <p:cNvSpPr/>
          <p:nvPr/>
        </p:nvSpPr>
        <p:spPr>
          <a:xfrm>
            <a:off x="0" y="32767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rule by cons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9"/>
          <p:cNvSpPr/>
          <p:nvPr/>
        </p:nvSpPr>
        <p:spPr>
          <a:xfrm>
            <a:off x="0" y="4114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2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Occupations – Social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9"/>
          <p:cNvSpPr/>
          <p:nvPr/>
        </p:nvSpPr>
        <p:spPr>
          <a:xfrm>
            <a:off x="0" y="45720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Warriors – highest social standing; tribe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’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9"/>
          <p:cNvSpPr/>
          <p:nvPr/>
        </p:nvSpPr>
        <p:spPr>
          <a:xfrm>
            <a:off x="0" y="49528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Craftsman – weaponry &amp; jewel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9"/>
          <p:cNvSpPr/>
          <p:nvPr/>
        </p:nvSpPr>
        <p:spPr>
          <a:xfrm>
            <a:off x="0" y="54100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Farmers – unskilled labo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 Box 5"/>
          <p:cNvSpPr/>
          <p:nvPr/>
        </p:nvSpPr>
        <p:spPr>
          <a:xfrm>
            <a:off x="0" y="838080"/>
            <a:ext cx="82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Religion – Christianity &amp; paganism co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9"/>
          <p:cNvSpPr/>
          <p:nvPr/>
        </p:nvSpPr>
        <p:spPr>
          <a:xfrm>
            <a:off x="-228600" y="12952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Christianity -- monas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9"/>
          <p:cNvSpPr/>
          <p:nvPr/>
        </p:nvSpPr>
        <p:spPr>
          <a:xfrm>
            <a:off x="-228600" y="17524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shelter &amp;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9"/>
          <p:cNvSpPr/>
          <p:nvPr/>
        </p:nvSpPr>
        <p:spPr>
          <a:xfrm>
            <a:off x="-228600" y="2971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paganism – dark &amp; hop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9"/>
          <p:cNvSpPr/>
          <p:nvPr/>
        </p:nvSpPr>
        <p:spPr>
          <a:xfrm>
            <a:off x="-228600" y="342900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no control own destiny (predestin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9"/>
          <p:cNvSpPr/>
          <p:nvPr/>
        </p:nvSpPr>
        <p:spPr>
          <a:xfrm>
            <a:off x="0" y="38862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no after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9"/>
          <p:cNvSpPr/>
          <p:nvPr/>
        </p:nvSpPr>
        <p:spPr>
          <a:xfrm>
            <a:off x="0" y="4343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morality code – 4 Warrior Virt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9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learning – preserve Greek &amp; Latin litera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9"/>
          <p:cNvSpPr/>
          <p:nvPr/>
        </p:nvSpPr>
        <p:spPr>
          <a:xfrm>
            <a:off x="0" y="4876920"/>
            <a:ext cx="93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braver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gen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oyalt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friend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9:26:14Z</dcterms:created>
  <dc:creator>Jennifer Finkenhagen</dc:creator>
  <dc:description/>
  <dc:language>en-US</dc:language>
  <cp:lastModifiedBy>Finkenhagen, Jennifer</cp:lastModifiedBy>
  <dcterms:modified xsi:type="dcterms:W3CDTF">2012-08-28T15:33:05Z</dcterms:modified>
  <cp:revision>24</cp:revision>
  <dc:subject/>
  <dc:title>Slide 1</dc:title>
</cp:coreProperties>
</file>