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FEE4-9411-46EC-9A13-A171C2027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88E7-13EC-44EC-9907-BEDB7979D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B724-F4B3-45AD-9D60-8205B3A30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8EC2-8683-4068-BC83-1A3DCFD89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7230-9DEF-47A6-BBAF-047B5F172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C309-8F9F-4AFA-9CC5-BC403110A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2502-4180-4485-BB5D-634DB8773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EA1D-51FA-4AF7-B723-74478C77B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B42A-D4E3-40AF-96C2-B28C5A014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7CCA-35E5-48EA-8058-584B273E9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C93F-2CC0-4BCB-AF72-D9CB02F8D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366-616F-4BBC-BA81-FF614FCF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D30-3FBA-4FAA-AD37-3E2A33CB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9348E-F866-4AFC-A13E-D313CA6E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8A78A-DAC5-4E71-89B0-E1DD26B7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08067-1AB1-4671-A7E5-D5AA930A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85FDB-150B-4775-A649-DCFFDB7F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EAF47-06B5-4688-BFD5-B553F163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8610C-9427-4D81-AA90-31F2075E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E4E49-ED11-4B0E-BF86-1560CBCF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7CE88-DB75-412D-8206-82C1904D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CF10D-AA65-4478-BFA0-0115594F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899E4-5D3C-4FD3-A49A-988406E1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A9D-7EF0-4C53-A149-CE94A40A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19C91-C201-4A81-B27A-DCC2B2D4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DE173-F8BF-4554-8FE4-DAA9D0D7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76219-EA72-4C96-8225-504F7DE9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37E96-7D91-44B6-B2E5-E882F5A4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3DD60-6C76-4219-A249-A386B1E5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61D8E-1A4C-4F2A-AFAD-00873F96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AC208-DB00-443B-BCB8-C86E6263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B24F2-0AFE-4CA5-A410-8A6F1B12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2C97A-4282-418E-8F28-D5C2A7C3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C94DC-EB32-42AF-8E9B-A6A190B1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50B-2E23-4629-A385-AEDBABEF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73ECF-5937-490D-A485-D2159E77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099F5-E00D-4BEC-9CB3-F42565FB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9DE0E-1CFA-4474-B3DE-F2F3810C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0C0DA-2522-4F56-BDE8-026961E4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F2AFD-29C4-4429-A39F-4EC94086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7B00C-7611-471B-B429-088EBB4C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F727E-7B7C-4D76-B2FD-9E267C3D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F5367-ABE4-4089-9A32-FCB7983E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8F90D-4212-433A-8CFB-26C4AF11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51BAA-825B-4239-8045-4650CBEA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3D5C-44AF-4157-8669-2386DD35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ADAF0-A483-400B-BB98-DC7B655C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9BAC5-1DF9-4600-AA1A-ADDF3FAE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C7096-7B1C-4366-8061-AD6839F9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67D7E-2E06-462B-8B92-DCFADF4E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6BFEB-1DE0-486F-AC8C-6A35D4FF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C3DDD-A1E0-473B-83C8-9E520FE3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8CDFA-AE93-440C-9270-5D5F9C08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E9579-A179-4736-BD4F-66E9D9F1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F8A57-3E06-4436-92E9-50C6EA1F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37E69-5981-4679-86D2-576AAE77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FAFF-A9D0-4CB4-B193-EC5EF957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1BC83-C3A7-4AE3-8779-6E854D6C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0E00A-84AC-40B4-8E47-6996FBE3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B3718-0963-405B-91D3-BBCCEBAA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D8CC9-6F0A-46C0-B6D7-7594C3F1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31B77-555A-4F25-8529-C534B987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1C4F2-FD69-40D1-BBFE-0A7C3DEE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54FA74-218D-49BC-8FCD-6A4FAD64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FD403C-7B49-4367-BC22-157DE976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E4EEF-C91A-4CB9-AF34-BBFA0C63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EF725F-1B0C-49C4-8596-F9B0759D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B3AC-6670-45D3-84FF-45A40B69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2FB736-4776-4D82-9B77-865C2073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69761E-CC99-4AAC-8435-B2CC7562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ECCA9-54B5-4EBD-8BFD-51D5E933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F109B-29E6-466B-B2D4-B138D65D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6CEFC7-99E3-4FEA-B2D8-29ED0A63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FC98C9-AF56-4554-A52B-EA2E4998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ABBEA-5ED9-45B0-B7C4-321CA76B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A782E8-A570-4CBF-854D-914ABBC7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EC89E6-9256-4C80-B83A-EA0BC7AB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350627-A119-4EA4-A401-76F3F1C4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6173-E0AA-4780-A400-96B0755B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BA60C6-8F3B-4BA1-9A6D-9CF7B8C0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97296E-6ED2-4CE3-A726-BF2586D3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2F50BD-0731-4C93-A070-EA0224B4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D32A12-B6B7-4F06-B6A5-334E134E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4AA7A1-D70C-412D-8BE4-E7A307DD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9C6772-ADD1-40D4-A09E-61573C68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494726-A975-448F-B33D-C5628FFE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04B63D-5594-422F-BFE3-CD407B5C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FDD959-31B0-4182-B8D2-9F5B2E9A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8188A9-301B-4599-9FC7-7206B42C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926D-BBEB-41ED-A243-D5D41342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3AEBCF-B589-46C2-9997-F3EDD176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0B571E-B3C4-4D4B-B2B1-96642A17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F85228-458E-4013-84F3-144B2728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EA546B-E975-4205-A50A-E7A859FB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24732B-33E2-41E1-A654-C0E9D2B3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835C46-72E5-47FF-BC00-947C366B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DDBA02-0775-4A69-B304-99677591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3A3FBB-2F80-44FF-BCA7-AED4AE0E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B80890-530F-4EA5-81A7-70EBC614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E1AAC3-AAE3-490F-BB3A-371AFCC6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3003-7DB8-4513-AB16-FF752F1A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5CE229-3252-48FC-ACAE-81211B75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E90326-704F-41A5-9B2C-9043C242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F523DD-2088-40C6-BA02-C18988B0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F01E9-0660-4CAD-B7E6-F6B372B3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54EC22-16C2-4F3F-90A2-415C0C27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9660B9-E459-4871-9B80-2DA4D7B3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7A9CD0-2542-4B09-99DF-86F50FC7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672885-3F31-4B05-A678-10998A55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4B75ED-FA8E-4B39-A0AB-2740A5AE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C4E6B5-E625-4F0C-8FF7-7E1133AF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ADDD-056B-485A-89FF-A2B6A8B5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D077E5-75CA-413E-8DBF-ECD40B09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5A8984-6545-4D62-821B-1711F489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B02A19-331B-4609-AFCD-F02DE277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56687-8074-41FC-B7A1-3E38700B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7AA71C-20C2-40A5-97AF-9FD0314A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BB2CCB-D0A6-451F-A6F0-30D3C7F5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37F8EF-2CFF-43B9-B24A-13E238D1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4B6ABC-BDA4-4C63-BE63-BE34F105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DA3770-8079-462D-ABAC-C8E69EC9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DA0327-D468-43CA-8A68-AE767A2F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2A5-BD88-4050-8BF2-025D2289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4D33-CDC6-4F7F-ADE0-A0939C84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2EC0DA-5283-464C-B9D9-5B0A9521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B286A4-063E-4A83-8945-82589CE3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DF173E-64A5-4B92-A9E6-070D9E30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96A1EC-A6ED-40D7-8929-E1DF8F21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51D6FB-878A-492C-B48E-D2F0C717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B670-474C-42C4-B6E2-9339D7B7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1020-3B31-4FB5-A68A-20381A40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9930-F859-4AF2-A8F9-05B7CAB4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9372-51A7-43AE-A51E-D6A50005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271D0-AD3F-4379-83A0-7A16A023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B3297-048A-4F43-8B42-15BF51C8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FD0ED-83BF-4623-8077-8AE5E83E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D7FE6-A128-4AE2-A0A0-08B44659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A0DF9-89F6-420D-A379-2E33D6A3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0E66-142F-4D85-9394-03F62BE4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8252D-ECB1-4988-98DA-C506EBC8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604CB-0601-47BF-930A-7FD538FE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ED4B0-B69B-4391-8EA6-107037D7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EAE62-10B5-4DDC-B89E-A4DA0B28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E4E4F-31DD-45B6-A6DB-44EDF709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BB615-2864-434C-86D4-DFEB6D38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5E7A7-B90F-4C9B-A862-7AAB392C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83F80-AFCF-432A-9A58-4F50AD40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09CFC-9355-41BD-B37C-BA0E94FA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F7765-78E1-47AA-B7E2-D41CA806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8AB-5031-4B2B-B511-92F9928E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A1A80-50A5-427C-AEB5-AC303E28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E8BE4-228A-4992-B1C6-0EDCA5D4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9AB4B-AC33-44B4-97B0-24E9E8FA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C7FBE-8D92-4BB7-A4D7-13766CE1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1A7C8-AA81-40DA-AB0E-9F5D6BC1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4F1A9-38AC-44BE-83F9-0CCD4C3E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E3303-517B-4913-9023-E3244DB3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9668C-50C6-44A4-B216-4509E228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8BB46-0BB6-437A-AE81-AF7CECD8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171A1-5AB3-4DA2-BDB7-20423CDA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580-41AD-4FBA-B31D-ABC381FA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C8BFF-247F-4393-B2F0-33BF6C60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D7413-7000-451D-AD93-8AC542D1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C1348-A276-499B-A02E-5B98588C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56F26-EEA3-4294-BD61-5F09B0C8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DED32-6EA4-4930-A80B-1FB8A15F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A5C8F-F903-4CD0-9E68-67A7466B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57D3E-2492-4957-A09F-DDF87ADE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D32F8-3E7A-4523-9DC5-29908F3B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3F531-2379-4F85-BD21-F6B11A91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813FA-D556-48BB-89CC-7DC4D48D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5A59-E08E-4228-8C2E-4A2BB509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13D92-EFD4-4501-9256-AF7FE890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16411-63DD-4B70-8610-79668C7C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29E13-2A78-44C1-9470-A4FDA3BB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D859B-88EA-4319-B315-AD60B075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787F8-DF4D-4FF7-9C2B-C93FF33B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4ED4E-A02B-4445-93B6-B6F42F44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9159F-39C5-4CF5-B00B-B34D9970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CAC5C-EEF6-42B1-99B9-2A3DC62F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F847E-EB2E-4B72-A6E3-5D2EEF9D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93B6E-7C8C-41C6-B926-F558C78F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CE8-E67D-400D-BE86-55EBEBE0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97BC5-DC98-46D2-8C4D-03A89353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9BF2D-6C4B-45DF-A1B3-913D3FD3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BC95E-4C95-4D1A-B48E-91244B35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81CE5-01EF-4BE9-88AD-05E78302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79D88-6F6F-4CB3-9B6E-9D882956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ADD51-1A34-4564-9F90-2DE7B7E3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19FCF-A4A2-448E-834C-5E7B0E14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10A7B-2BAA-4BCB-BCD1-1D2069B4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1FA95-2EB9-479E-A047-26507359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14992-9B18-42C7-A2F8-777E64C3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79E-FDD7-4FCD-B60B-A2BC9049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E234F-1D22-47C6-AB01-4E042041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7ECF9-80C1-42E3-878B-61841581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08FE5-F608-4A99-9E63-2A109B14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7E8D0-9F79-4C7A-9B7A-7E147C49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1387B-420A-460B-9229-3834937E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33366-B4F9-4FDD-A268-860DAE06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528BB-D67C-4806-A4E4-CBF8787F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B6F22-9EE7-4298-AA7A-296C67E0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66CC7-6B67-47E9-B44C-EDEC0AB1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7790C-A619-404C-AFAA-0F89E6F1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C60-D61C-41EE-B0B5-2FC0CCA3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76072-484E-40A7-BC77-9990DA09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C4905-7878-4F19-8357-171AFEA2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8B6D5-6C24-4257-A621-92FFA590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B572E-8377-490B-A2B4-83B8591D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FD21F-D3D5-40E3-A628-F6F2D94C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3F965-BD17-47AA-AE8D-BEB888E9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3531F-C51B-4B55-8652-CB4260E8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D35B6-66C1-46CA-B06C-A87E4E78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37DF1-D617-48B9-A106-7B475365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671BA-2D68-4880-B7B7-546C876F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807C-674D-4D08-9DFA-40328AEC2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8DCC-1300-4AF0-9FE9-B65EA968CB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9E36-1C7F-4B47-B869-FBE5F8AF8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9C65-6E17-4E92-B8E0-F89F6BE2A4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4DF3-029E-436C-9BAF-5372C24CF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47B7-8779-423D-B672-942C5A10DF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1C4F-181F-401A-B0CF-DD754BEEE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6C92-931F-49FE-8120-3C95A9BB6C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9EB4-164C-449F-AB14-47C8C2E7D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5A69-0F33-4F0C-9B7F-969C13B5FE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547C-EE11-465A-8FC3-8720B7ECC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A8B5-60F6-4F9C-A46C-E1FBB779D7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7DD7-4400-4F75-AAA6-17CC46C6F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7FAC-EC63-464B-A7F6-CB46E48684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5AEC-CC1C-428E-80DE-7E088D115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64C6-ACB2-430B-8325-00036AA164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F6E6-A78D-4653-A99A-4176C4D64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EF84-8CD4-4C68-9336-60A17B67F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AF3B-C012-4D64-8DD5-A701149F8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F59A-C8D9-402D-B1BE-DB6763B00F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0B51-2F63-4B05-9393-9FFD7DD93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42F7-DC2A-453A-8F06-9D4E19EFAB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DC8E-4C80-4610-BB42-321B40E6C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6DE0-2EA4-4CCE-A71E-D8A87C4CE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48F6-FB8B-4BCE-9867-E88EE34B64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C230-3C92-45ED-A6B8-462C48168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2458-FA87-4409-AB0C-F50B9AA028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23E6-CE7A-474C-AF1B-571EA0F96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4470-8C92-4F0C-8E02-22600A3FB3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A716-2AF6-4336-9DD6-42195FE88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WordArt 4"/>
          <p:cNvSpPr txBox="1"/>
          <p:nvPr/>
        </p:nvSpPr>
        <p:spPr>
          <a:xfrm>
            <a:off x="457200" y="380880"/>
            <a:ext cx="4419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Warm U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228600" y="205740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5-6 minutes – beginning of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209520" y="1523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Grammar Skills &amp; Vocabular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9"/>
          <p:cNvSpPr/>
          <p:nvPr/>
        </p:nvSpPr>
        <p:spPr>
          <a:xfrm>
            <a:off x="0" y="2514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Collected every 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9"/>
          <p:cNvSpPr/>
          <p:nvPr/>
        </p:nvSpPr>
        <p:spPr>
          <a:xfrm>
            <a:off x="0" y="2971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Unexcused Tardy – no mak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22860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bsent/Excused T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9"/>
          <p:cNvSpPr/>
          <p:nvPr/>
        </p:nvSpPr>
        <p:spPr>
          <a:xfrm>
            <a:off x="3505320" y="3505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write that day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"/>
          <p:cNvSpPr/>
          <p:nvPr/>
        </p:nvSpPr>
        <p:spPr>
          <a:xfrm>
            <a:off x="3581280" y="39625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A (absent) or ET (excused tar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9"/>
          <p:cNvSpPr/>
          <p:nvPr/>
        </p:nvSpPr>
        <p:spPr>
          <a:xfrm>
            <a:off x="0" y="4648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py another student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 warm ups = no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5"/>
          <p:cNvSpPr/>
          <p:nvPr/>
        </p:nvSpPr>
        <p:spPr>
          <a:xfrm>
            <a:off x="0" y="83808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it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9"/>
          <p:cNvSpPr/>
          <p:nvPr/>
        </p:nvSpPr>
        <p:spPr>
          <a:xfrm>
            <a:off x="-228600" y="14479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male domin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9"/>
          <p:cNvSpPr/>
          <p:nvPr/>
        </p:nvSpPr>
        <p:spPr>
          <a:xfrm>
            <a:off x="-228600" y="1981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reflect thei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9"/>
          <p:cNvSpPr/>
          <p:nvPr/>
        </p:nvSpPr>
        <p:spPr>
          <a:xfrm>
            <a:off x="-304920" y="3124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oral not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9"/>
          <p:cNvSpPr/>
          <p:nvPr/>
        </p:nvSpPr>
        <p:spPr>
          <a:xfrm>
            <a:off x="3276720" y="312408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scops/bards (storytell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9"/>
          <p:cNvSpPr/>
          <p:nvPr/>
        </p:nvSpPr>
        <p:spPr>
          <a:xfrm>
            <a:off x="3733920" y="3657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 = to warr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3733920" y="4191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offer immortality &amp; teach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9"/>
          <p:cNvSpPr/>
          <p:nvPr/>
        </p:nvSpPr>
        <p:spPr>
          <a:xfrm>
            <a:off x="0" y="2590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extol (praise) warrior virt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6"/>
          <p:cNvSpPr/>
          <p:nvPr/>
        </p:nvSpPr>
        <p:spPr>
          <a:xfrm>
            <a:off x="2095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KING ALFRED OF WESSEX – ALFRED THE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9"/>
          <p:cNvSpPr/>
          <p:nvPr/>
        </p:nvSpPr>
        <p:spPr>
          <a:xfrm>
            <a:off x="0" y="914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united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9"/>
          <p:cNvSpPr/>
          <p:nvPr/>
        </p:nvSpPr>
        <p:spPr>
          <a:xfrm>
            <a:off x="0" y="1371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9"/>
          <p:cNvSpPr/>
          <p:nvPr/>
        </p:nvSpPr>
        <p:spPr>
          <a:xfrm>
            <a:off x="0" y="1828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stop D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0" y="2438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i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Anglo-Saxon Chron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9"/>
          <p:cNvSpPr/>
          <p:nvPr/>
        </p:nvSpPr>
        <p:spPr>
          <a:xfrm>
            <a:off x="0" y="2895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history of England – early days to 11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9"/>
          <p:cNvSpPr/>
          <p:nvPr/>
        </p:nvSpPr>
        <p:spPr>
          <a:xfrm>
            <a:off x="0" y="33526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still referenced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9"/>
          <p:cNvSpPr/>
          <p:nvPr/>
        </p:nvSpPr>
        <p:spPr>
          <a:xfrm>
            <a:off x="0" y="38862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3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English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9"/>
          <p:cNvSpPr/>
          <p:nvPr/>
        </p:nvSpPr>
        <p:spPr>
          <a:xfrm>
            <a:off x="0" y="4343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predominantly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0" y="4800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now written –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nglo-Saxon Chron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9"/>
          <p:cNvSpPr/>
          <p:nvPr/>
        </p:nvSpPr>
        <p:spPr>
          <a:xfrm>
            <a:off x="1295280" y="5176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language not respected until it</a:t>
            </a:r>
            <a:r>
              <a:rPr b="1" lang="ja-JP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6"/>
          <p:cNvSpPr/>
          <p:nvPr/>
        </p:nvSpPr>
        <p:spPr>
          <a:xfrm>
            <a:off x="2095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ANGLO-SAXON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9"/>
          <p:cNvSpPr/>
          <p:nvPr/>
        </p:nvSpPr>
        <p:spPr>
          <a:xfrm>
            <a:off x="0" y="914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not expected 2B subser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9"/>
          <p:cNvSpPr/>
          <p:nvPr/>
        </p:nvSpPr>
        <p:spPr>
          <a:xfrm>
            <a:off x="0" y="1752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had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9"/>
          <p:cNvSpPr/>
          <p:nvPr/>
        </p:nvSpPr>
        <p:spPr>
          <a:xfrm>
            <a:off x="0" y="22096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could inherit &amp; hold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9"/>
          <p:cNvSpPr/>
          <p:nvPr/>
        </p:nvSpPr>
        <p:spPr>
          <a:xfrm>
            <a:off x="0" y="2666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dowry (morgengifu) – substantial gift of $ and/or land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room gives to b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0" y="0"/>
            <a:ext cx="9144000" cy="894276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m Up #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cabulary Lis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ence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/28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great British poets are quoted so often that their words now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m 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poets use the ideas and styles of previous writers, their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ntion is not to ________ but to build on and reinterpret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t.  Occasionally, however, a poet has been accused of stea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WordArt 4"/>
          <p:cNvSpPr txBox="1"/>
          <p:nvPr/>
        </p:nvSpPr>
        <p:spPr>
          <a:xfrm>
            <a:off x="914400" y="1143000"/>
            <a:ext cx="70866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nglo-Sax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449-106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4 influential  Invad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228600" y="228600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name island Great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209520" y="1905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CE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9"/>
          <p:cNvSpPr/>
          <p:nvPr/>
        </p:nvSpPr>
        <p:spPr>
          <a:xfrm>
            <a:off x="0" y="27432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religion – Animism (Latin for spir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0" y="3200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spirits everywhere; control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9"/>
          <p:cNvSpPr/>
          <p:nvPr/>
        </p:nvSpPr>
        <p:spPr>
          <a:xfrm>
            <a:off x="0" y="3657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Stonehenge – Druids (prie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9"/>
          <p:cNvSpPr/>
          <p:nvPr/>
        </p:nvSpPr>
        <p:spPr>
          <a:xfrm>
            <a:off x="0" y="4038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myt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9"/>
          <p:cNvSpPr/>
          <p:nvPr/>
        </p:nvSpPr>
        <p:spPr>
          <a:xfrm>
            <a:off x="0" y="44956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fierce women; enchanting &amp; b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9"/>
          <p:cNvSpPr/>
          <p:nvPr/>
        </p:nvSpPr>
        <p:spPr>
          <a:xfrm>
            <a:off x="0" y="4876920"/>
            <a:ext cx="824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influence later Irish &amp; English wr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(Sir Thomas Malory &amp; William Butler Ye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0" y="5791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language -- Gae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5"/>
          <p:cNvSpPr/>
          <p:nvPr/>
        </p:nvSpPr>
        <p:spPr>
          <a:xfrm>
            <a:off x="228600" y="1295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209520" y="762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RO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9"/>
          <p:cNvSpPr/>
          <p:nvPr/>
        </p:nvSpPr>
        <p:spPr>
          <a:xfrm>
            <a:off x="2666880" y="1295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stop invaders for several hundred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9"/>
          <p:cNvSpPr/>
          <p:nvPr/>
        </p:nvSpPr>
        <p:spPr>
          <a:xfrm>
            <a:off x="2743200" y="1752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departure = chaos &amp; Anglo- Saxons con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0" y="2438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2438280" y="2438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defensive wall (Hadrian</a:t>
            </a:r>
            <a:r>
              <a:rPr b="1" lang="ja-JP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s w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9"/>
          <p:cNvSpPr/>
          <p:nvPr/>
        </p:nvSpPr>
        <p:spPr>
          <a:xfrm>
            <a:off x="2514600" y="2895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built network of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0" y="3505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2438280" y="3505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organized centralized gov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5"/>
          <p:cNvSpPr/>
          <p:nvPr/>
        </p:nvSpPr>
        <p:spPr>
          <a:xfrm>
            <a:off x="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9"/>
          <p:cNvSpPr/>
          <p:nvPr/>
        </p:nvSpPr>
        <p:spPr>
          <a:xfrm>
            <a:off x="2438280" y="4114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introduce 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2438280" y="4724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L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6"/>
          <p:cNvSpPr/>
          <p:nvPr/>
        </p:nvSpPr>
        <p:spPr>
          <a:xfrm>
            <a:off x="209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ANGLO-SAX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0" y="1219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Germanic ori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9"/>
          <p:cNvSpPr/>
          <p:nvPr/>
        </p:nvSpPr>
        <p:spPr>
          <a:xfrm>
            <a:off x="0" y="1676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</a:t>
            </a:r>
            <a:r>
              <a:rPr b="1" i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Beowulf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sounds more German tha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9"/>
          <p:cNvSpPr/>
          <p:nvPr/>
        </p:nvSpPr>
        <p:spPr>
          <a:xfrm>
            <a:off x="0" y="21337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language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9"/>
          <p:cNvSpPr/>
          <p:nvPr/>
        </p:nvSpPr>
        <p:spPr>
          <a:xfrm>
            <a:off x="0" y="25909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German + Gaelic + Latin = Old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9"/>
          <p:cNvSpPr/>
          <p:nvPr/>
        </p:nvSpPr>
        <p:spPr>
          <a:xfrm>
            <a:off x="0" y="3124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religion – Warrior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6"/>
          <p:cNvSpPr/>
          <p:nvPr/>
        </p:nvSpPr>
        <p:spPr>
          <a:xfrm>
            <a:off x="304920" y="3733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VIKINGS &amp; NOR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0" y="41911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ended Anglo-Saxon do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"/>
          <p:cNvSpPr/>
          <p:nvPr/>
        </p:nvSpPr>
        <p:spPr>
          <a:xfrm>
            <a:off x="0" y="4724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1066 Battle of Hastings – William the Conqu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0" y="5181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Duke of Normandy (Fren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9"/>
          <p:cNvSpPr/>
          <p:nvPr/>
        </p:nvSpPr>
        <p:spPr>
          <a:xfrm>
            <a:off x="0" y="5562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Viking des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"/>
          <p:cNvSpPr/>
          <p:nvPr/>
        </p:nvSpPr>
        <p:spPr>
          <a:xfrm>
            <a:off x="0" y="0"/>
            <a:ext cx="9144000" cy="787572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m Up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cabulary Lis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ence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/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oems are so joyful that they are almost ecstatic; other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so sad that they could be considered 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one would accuse Sir Francis Bacon of being _______.  He wa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mooth talker, but his statements and his writing had sub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nglo-Saxon Engl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51" name="Text Box 5"/>
          <p:cNvSpPr/>
          <p:nvPr/>
        </p:nvSpPr>
        <p:spPr>
          <a:xfrm>
            <a:off x="228600" y="236232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Tribal Government (initi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6"/>
          <p:cNvSpPr/>
          <p:nvPr/>
        </p:nvSpPr>
        <p:spPr>
          <a:xfrm>
            <a:off x="209520" y="1676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influenced  by harsh climate; centered on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9"/>
          <p:cNvSpPr/>
          <p:nvPr/>
        </p:nvSpPr>
        <p:spPr>
          <a:xfrm>
            <a:off x="0" y="2819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strong leader w/council of wise e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0" y="32767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rule by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9"/>
          <p:cNvSpPr/>
          <p:nvPr/>
        </p:nvSpPr>
        <p:spPr>
          <a:xfrm>
            <a:off x="0" y="4114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Occupations – Social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0" y="45720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Warriors – highest social standing; tribe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9"/>
          <p:cNvSpPr/>
          <p:nvPr/>
        </p:nvSpPr>
        <p:spPr>
          <a:xfrm>
            <a:off x="0" y="49528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Craftsman – weaponry &amp; jewe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9"/>
          <p:cNvSpPr/>
          <p:nvPr/>
        </p:nvSpPr>
        <p:spPr>
          <a:xfrm>
            <a:off x="0" y="5410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Farmers – unskilled labo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5"/>
          <p:cNvSpPr/>
          <p:nvPr/>
        </p:nvSpPr>
        <p:spPr>
          <a:xfrm>
            <a:off x="0" y="83808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Religion – Christianity &amp; paganism co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9"/>
          <p:cNvSpPr/>
          <p:nvPr/>
        </p:nvSpPr>
        <p:spPr>
          <a:xfrm>
            <a:off x="-228600" y="1295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Christianity -- monas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-228600" y="1752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shelter &amp;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9"/>
          <p:cNvSpPr/>
          <p:nvPr/>
        </p:nvSpPr>
        <p:spPr>
          <a:xfrm>
            <a:off x="-228600" y="2971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paganism – dark &amp; hop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9"/>
          <p:cNvSpPr/>
          <p:nvPr/>
        </p:nvSpPr>
        <p:spPr>
          <a:xfrm>
            <a:off x="-228600" y="34290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no control own destiny (predest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9"/>
          <p:cNvSpPr/>
          <p:nvPr/>
        </p:nvSpPr>
        <p:spPr>
          <a:xfrm>
            <a:off x="0" y="38862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no after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9"/>
          <p:cNvSpPr/>
          <p:nvPr/>
        </p:nvSpPr>
        <p:spPr>
          <a:xfrm>
            <a:off x="0" y="4343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morality code – 4 Warrior Virt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learning – preserve Greek &amp; Latin lit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"/>
          <p:cNvSpPr/>
          <p:nvPr/>
        </p:nvSpPr>
        <p:spPr>
          <a:xfrm>
            <a:off x="0" y="487692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brave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en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yal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riend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9:26:14Z</dcterms:created>
  <dc:creator>Jennifer Finkenhagen</dc:creator>
  <dc:description/>
  <dc:language>en-US</dc:language>
  <cp:lastModifiedBy>Finkenhagen, Jennifer</cp:lastModifiedBy>
  <dcterms:modified xsi:type="dcterms:W3CDTF">2012-08-28T15:33:05Z</dcterms:modified>
  <cp:revision>24</cp:revision>
  <dc:subject/>
  <dc:title>Slide 1</dc:title>
</cp:coreProperties>
</file>