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 type="dt" idx="5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5"/>
          <p:cNvSpPr>
            <a:spLocks noGrp="1"/>
          </p:cNvSpPr>
          <p:nvPr>
            <p:ph type="ftr" idx="5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6"/>
          <p:cNvSpPr>
            <a:spLocks noGrp="1"/>
          </p:cNvSpPr>
          <p:nvPr>
            <p:ph type="sldNum" idx="5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04939-44E4-4DDE-A057-2332546125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BA0F5-227A-4BDB-B19D-D613612A80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5E56C-702B-49E4-ACEC-F8336C39D6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7365B-35FE-45D9-A6E5-E1497F7DF3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58C09-1989-4816-9D9D-70FCCA3629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31912-D44A-4169-9CB4-77562C9AE7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C5478-A23A-4DCC-A774-FC1375C33C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02455-2FD0-40F9-AF3C-F173A0AC98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4B4F5-A08B-4DC3-B0E9-77B4B42071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51AD8-DE4C-4225-BE8A-9F0FA2D7EE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EFF8C-0C8E-407F-9F19-0FAB28836E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B461-34AD-4B7D-81D5-619792EA3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0231-668E-4E81-92B9-4BF892979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71D6AC-C467-4B47-B0E4-B0B2058EC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8755BB-346C-4AA4-A0D3-904F42D6E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21268C-1586-4732-8D6C-0CDC60DFA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6D3F31-2B98-46F0-98C7-06C30FBB9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8DCCBB-9E5B-4FF5-A523-5FCC5AEFD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1A1F75-EEC6-48D7-AA03-C0743FA9D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019C91-21B5-40EE-8C1C-4686D7588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8E767C-9840-4B0C-8953-03691BBBE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A55FC7-0F45-4B9A-ABED-58E2CA759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EC7EF2-A2EE-49D9-8014-3649A8A25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DB48-EB46-4398-9F18-609F369B4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F88743-C5D1-408B-8D76-A50A2D4C7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96F6DA-BF1A-482E-9729-09AAF8522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309262-E47C-4AB4-8A65-DE40B1889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AACD4B-3A11-4B11-A541-D33CAC725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8B4F0E-8417-4F46-9405-63C784739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337CF4-2EA6-477F-AFB1-4E6D903D1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4B7E59-80E3-452A-8150-44ABF847D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B4C229-3F5E-4D8E-BD20-ED22F41F4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85DBAC-5891-4C15-88C0-5118F3D56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0C08D2-D266-46B3-AF11-9AEC3000E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0260-D991-4A13-8A7A-73405B4E5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93CA80-7CD0-455C-AD2D-46EA51FB8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CE9C6D-3201-473D-A5AF-1D970F485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38AA94-BC3A-4A55-8D42-DA1BC1119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55F69D-0C29-42FD-8EDA-27F30BACD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50C9C2-3AD7-45BA-8222-5BF18AC38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C8B3B6-0EAD-4423-A496-73B677A0A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19ED6E-42CF-4E27-BFE1-544B433F1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A0D765-77A4-4BD1-87DB-4E479A425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23FFE3-5B93-45C8-96B6-706929C47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EEB77E-9CBC-438F-964C-AC48FF663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1AD55-B332-46FF-8352-08E50E190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07F160-4008-4CB0-AD0E-7DA83190F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8020A9-1340-4C21-8060-7221001BE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B86BF3-49E3-43A2-AB11-93E155282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E7265E-F6BC-4479-B273-90B91A7C8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AEBCED-E289-44A7-8E65-CCF972E7C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A10BD8-5923-4926-BA9B-2C2472F9F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7EB92C-FE15-474A-B4FA-BBAFE3AAE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A23A50-20E4-492A-893E-F05C54C61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75F636-96A1-49A6-8506-8D5A21524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9F8227-9B16-4291-BA1B-86913CA45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3D3DD-96D2-4553-B1E8-437EB10B3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A47B4C-3AA6-49FC-9E91-C5DF8FD96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C628A2-ED17-4F26-9D2B-BAB931493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6E4D2E-42F2-4884-ABEF-58EB8F6B5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29BCC3-9723-45EC-9DC3-0A1E30AAA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32B463-F8B9-4F17-B413-D71DA3165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DDB8E3-415D-4D2E-A7C9-F07A8A907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B743A0-47A8-4494-8EDE-53B2564AC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D9FCE5-2809-49F7-9555-EE9106540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179DF0-CCEF-4468-B9BB-F8EB0D5F2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004C25-D4BF-4292-B341-0758ADB62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D5F0F-38A4-4BB7-B795-0FF0D45A4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67AD49-2D59-460A-AE7C-447B302FD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BF3307-C11C-4B28-A6FA-18665E361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E63D67-DAD6-4DE4-B4E5-4D642A253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2FF8DA-C5F0-4BC7-B9EA-958F1B6EA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770238-AC67-4D5A-A422-3E598044B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F7DB82-7CA7-43D9-919C-ECB51EA34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F75DEE-B044-4FDB-A54F-BC3F4D418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A1659A-D6CF-4A3B-8D0B-762E9F5AF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E3F527-7314-41B0-8651-28791BB48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73A0EC4-FE21-41B6-B44F-FBB67FF96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64450-A657-40D5-B944-3B13092D8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7E60A1D-8587-46E4-9D47-E6D2B01C7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2EB223-D5D1-479E-8E87-F7E3CA7D0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BAD752-5B32-4FF6-96FB-320750271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E7C9B8-86AB-4D6E-925F-8B63D32C4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0352439-BED8-459F-8FDA-0159B06C4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68D1DB-D499-4E3B-885D-8F8B0EDCE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4C30F3F-3005-4ADF-9FA4-6B7F04B86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BC2727-107D-486E-808B-414BD3283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E5A0CA2-BE3A-4FE8-B24E-48C03A8B2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FDC1AE0-41AF-4B2E-BEBA-CA711DB50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D878A-6525-475E-A38E-3CB4CCAC6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300C82E-3DB7-4D8E-AF38-2B6E4389A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752F569-D881-46B9-9021-C5E486373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90D57C7-D876-4DB2-9C6C-54B35B82D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2B4C6BC-3A17-48B8-9254-8928236E8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F1A4D1C-E3B8-4A1C-BCFC-5378D10D0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B11B6B6-FB44-42B5-8C45-4E689E7B5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77F7F3D-A26C-48FA-952A-A988D2AED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488894E-1403-40AB-8C47-F863EB68D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4E62CB6-B3F2-4D49-94EC-79F6AA969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02DD9EC-2C0F-4199-864C-C5C1689FA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80353-B409-4AEC-9A84-5FABB8DE2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A3A80A0-CEC5-4708-8765-037ABC703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72BE3E1-7EF6-4280-8063-5DBB97C1C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7C66789-9994-42B5-A676-6422875FF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C8EA235-B4D2-4CBE-B214-0ED1BB5F5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EF3A9A3-5922-47F7-BF50-B57633BF1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A82F862-528E-4A42-B3A0-209745300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B1DA05E-B794-400B-B88C-45C1588DF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B2CD701-6520-44BE-A464-F9D7AC03A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36B955A-B313-460D-B894-845A19315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68F08E7-A776-4C3C-9839-6140F7441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3B193-6818-4DB7-BB3C-4BF4D916B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6BD6A34-3B17-4F4F-87CA-D075D3461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DDD246E-AA30-4D80-BF2F-A55D6F21A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A3E42DB-637C-45B9-9A40-DCB76F6B2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2B2A520-704F-44A3-8A88-60AEA1F6A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5B6924C-3ABD-4349-BA14-E52506A04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226AA82-9EE7-4808-934C-355F8DA2B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E30D5CA-C62A-499D-80CF-A5C8563DB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3C2F2E6-B557-44F0-8024-267AFFB05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DD9BF4B-E0FC-457B-A823-8A4830B59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BF66BE7-F2FE-4054-A4F1-6ABFCE5A6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BDEC-E83F-483A-AED9-C20464C75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51F02-CCC9-4EAC-ADFC-6096BC0F5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3FEDFBD-1616-4E7C-B574-CAE574217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608E14A-3DD2-4AB2-8F0E-1E864BFCA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2680F1C-8AF7-437B-AFC4-E381B78E8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B2C0AA6-C064-464D-B93E-BA2C3003B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75F6A4E-A559-4F28-AEE0-64985DBEF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46D4F-67C0-4E89-B30A-8733CE810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2592C-C07A-4766-9B57-7660E51CE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4279B-CF4F-4731-9731-2231BF1A7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FF6A8-0FB2-4CFF-AA41-98D253652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2F246B-76D7-4FE7-9815-05D11F614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B05BC5-BEE3-4E8D-B8E2-B998F822B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F627CD-B4E3-46D6-86C7-FCD27FE8B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EB7B79-2CC0-4054-8B48-15166696B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6BACF2-2D41-44D6-8F8B-56C01362E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77BF-9D4D-4D1B-B6B3-5E4F8F0FB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465F82-D56B-45D9-B601-BA82F9752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985677-88E1-44F8-A6B6-C053C24D5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405F79-39AB-4B77-B651-ABE1CF656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0AACE4-EE30-462C-B5E1-7F7E6F53F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9884BE-C7C7-48D9-9E8D-AA39B1F1B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8343B5-4D9D-4711-9C3B-8EB2E3E60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1168F3-AC8D-4CDA-A485-02A3BBB64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033480-11B3-4EB5-941C-DC40381A2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11F02F-3C3A-4AA5-A0A0-FAC38BF86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C8A2A6-90F0-4D65-952A-0A44EA4B3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53F8-AE15-4903-93B8-9B6C818AD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9F2A6B-E4EE-45B3-92AC-7CE8E816D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D0D7F7-AAF4-47B8-B76A-9DB965B57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7958CF-1F12-4152-A3C8-071601E6E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BBE971-F958-4956-A993-6B7395357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5DFC2D-A0FF-401C-A27A-396177867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9171D5-809C-45A1-9163-8B6A15D81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5A9692-538E-4B95-9077-00DDA8B9F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D28312-1223-4459-AB53-652F02655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16F8F3-1C59-4626-A2D1-0FA601417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E491C3-9713-425D-BB01-8744FADFF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4D5A-4286-4DCF-9A22-71D966EBC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81C4AD-89FC-4C11-884F-8D3ADCC17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758204-9E02-401D-B56B-BD7796F3F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841FC5-88EA-4C62-BF16-0C37E31CE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47E351-0123-4601-B069-9B8EC213D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3486DA-23EB-4B07-A658-724A09BDD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3326DA-505B-4970-A2B1-E72C1C8C8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AD8BDE-398D-4FCB-9F0B-EB315C590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84B78B-9839-4B90-AC1A-A8330E293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F8CBA9-A2D3-4655-A076-0FD1812F4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41D28B-6C98-4FAA-8EDF-7E641BC5C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1FB5-8D8E-4127-B1E1-0C2577968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725E3A-3262-4FB3-98B5-436574E98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E7C562-FD13-40B0-A08C-6301CCA0F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9DE7FA-CEDD-43A0-8360-76AE162F8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2B87D1-6C91-45DA-B9F4-9A0E6B10E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F0EA06-0536-41FD-ADD1-AE3D4B2AE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63770B-9100-4859-AD15-C1560E6D0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D520F4-275A-41D7-A5D1-DFE578E3A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73CFD9-08B0-40A9-8210-7366319E5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56457A-E700-4C6F-936D-9F8496A86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1F8D4D-7BE6-4F61-9E56-CB3391D36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55EF-88D5-416C-AB04-EB2F0AFC9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4E1E11-CB03-452B-8F79-051692597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FE70F3-8911-43E5-B5CC-567A33393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06E62C-3ACF-47FE-B8FC-65BE98CAB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CE3E79-89D9-4D51-86B9-C08B801BD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928105-AF66-4A21-8DC2-9B853F600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1C07F9-A8D7-4B15-9161-8176E758F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E1ED1A-AD47-4708-8D15-5180F35B8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B894FE-7410-4926-952B-01DA9AE22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5B6F00-96F6-4018-ACE7-DF359F61D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A445AA-2CA9-49C0-B06A-84B54E075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C192-CC67-4EC4-B03A-A71733A15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1A1CDB-4C5F-484A-93A3-BA0CA84DE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8B217A-7192-4D78-A7FD-787356439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2E8CD3-E705-473A-82AF-372869E7F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E52BDB-509A-40BA-AB24-FD7DF5A73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3B9B4B-9ECD-4918-8F32-4D889EB8A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B93FD6-9DCF-4E2E-85C6-AB9768C0B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E1DCF7-1E8E-45FE-9F29-125339748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D4CBE9-288B-48A5-AB26-C97FF9DAB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3CBDDD-54E0-45A9-A041-279E58A82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54B61D-4991-4741-90CA-1CA04D750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AC9D-8A6E-4434-8362-8DDE5610E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D8782E-D095-45FC-B0B1-B092D10BD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7D846A-370F-4BAB-A074-92A2A8E70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B3D219-58B0-405C-8B92-BA942D12D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97E91E-DB22-4706-A2DF-570A3C405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04BCE8-D601-4561-939B-CE3F88B2B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71DB6D-3857-4848-807C-EF273C60E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AD88B3-CA1C-471C-90F3-F24C062DF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E0C21F-BF41-40D6-9254-A4CCB2FAE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9B5CA8-8610-45D1-AA3E-55F2B63DA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6FC378-8C8A-46F2-BC00-D4D2A4945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8791A-CFF9-41ED-9A92-279903B910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2C70C-3D8A-40EA-BB84-0F99AD76C26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50229-E698-4DAA-A3FE-1A839830F2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B9D71-2C3D-47A4-B8EE-6180181BE3B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EA1F2-098D-4995-81EB-C9A2835F3C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EFB5E-81A8-4CDC-95E3-C67CEDC4946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4F206-8346-40ED-A8D0-FFB03535E1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10498-2D13-4DCD-8588-9F7242D97A4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51FAC-DD84-4891-82E1-E9B5619DCD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3F6C5-B60E-4AC1-98C7-81ECF0A0CCF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F90CB-C29D-4806-9CE3-4F8D08E059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82BA1-706E-46E0-B482-479080A1F45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613BE-AD30-4C1F-B59E-2F64A252EF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2F943-D726-4686-9DD2-385306E47E0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CEDB2-5850-435E-964C-A69BB3FF36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77FDB-0516-4BBC-9F85-BF776A1EE8C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E171B-9DF6-431F-AB37-82EF22873A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1F575-8366-4D00-BD40-BF9F7DEFB0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D148B-9943-41F1-88D2-475A60B59A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CC739-3BAE-443C-855D-66E71D1A10F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593F9-F1D2-43D2-8F31-490AF29D8D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B3323-1FE9-441A-9421-FA7708E0C5A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04A15-59B6-4E6C-8494-B57FFAABC7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39109-D0EA-40A6-AEDA-E6D7B4D75E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E856F-4827-4B3E-9D8C-BA07F27E43E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090E8-89C5-44F9-B1E5-C1FC239C6F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918E2-65C5-4AB0-8E23-AA7756E1A07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1055B-18F9-4BFC-9B52-6447DBE1CA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08D95-5FBA-44F3-9AE4-22D34AF70D0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47E6B-9A1E-419F-AF62-3C369370C0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a50021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WordArt 4"/>
          <p:cNvSpPr txBox="1"/>
          <p:nvPr/>
        </p:nvSpPr>
        <p:spPr>
          <a:xfrm>
            <a:off x="457200" y="380880"/>
            <a:ext cx="44197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Warm Up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705" name="Text Box 5"/>
          <p:cNvSpPr/>
          <p:nvPr/>
        </p:nvSpPr>
        <p:spPr>
          <a:xfrm>
            <a:off x="228600" y="2057400"/>
            <a:ext cx="823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5-6 minutes – beginning of 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Text Box 6"/>
          <p:cNvSpPr/>
          <p:nvPr/>
        </p:nvSpPr>
        <p:spPr>
          <a:xfrm>
            <a:off x="209520" y="152388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Grammar Skills &amp; Vocabulary Buil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Text Box 9"/>
          <p:cNvSpPr/>
          <p:nvPr/>
        </p:nvSpPr>
        <p:spPr>
          <a:xfrm>
            <a:off x="0" y="251460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Collected every Fri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Text Box 9"/>
          <p:cNvSpPr/>
          <p:nvPr/>
        </p:nvSpPr>
        <p:spPr>
          <a:xfrm>
            <a:off x="0" y="297180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Unexcused Tardy – no make 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Text Box 9"/>
          <p:cNvSpPr/>
          <p:nvPr/>
        </p:nvSpPr>
        <p:spPr>
          <a:xfrm>
            <a:off x="228600" y="35053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Absent/Excused Tar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Text Box 9"/>
          <p:cNvSpPr/>
          <p:nvPr/>
        </p:nvSpPr>
        <p:spPr>
          <a:xfrm>
            <a:off x="3505320" y="350532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-- write that day</a:t>
            </a:r>
            <a:r>
              <a:rPr b="1" lang="ja-JP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’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s 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 Box 9"/>
          <p:cNvSpPr/>
          <p:nvPr/>
        </p:nvSpPr>
        <p:spPr>
          <a:xfrm>
            <a:off x="3581280" y="396252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-- A (absent) or ET (excused tard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Text Box 9"/>
          <p:cNvSpPr/>
          <p:nvPr/>
        </p:nvSpPr>
        <p:spPr>
          <a:xfrm>
            <a:off x="0" y="464832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Copy another student</a:t>
            </a:r>
            <a:r>
              <a:rPr b="1" lang="ja-JP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’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s warm ups = no cre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a50021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Text Box 5"/>
          <p:cNvSpPr/>
          <p:nvPr/>
        </p:nvSpPr>
        <p:spPr>
          <a:xfrm>
            <a:off x="0" y="838080"/>
            <a:ext cx="823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4.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Literatu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Text Box 9"/>
          <p:cNvSpPr/>
          <p:nvPr/>
        </p:nvSpPr>
        <p:spPr>
          <a:xfrm>
            <a:off x="-228600" y="144792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*male dominat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Text Box 9"/>
          <p:cNvSpPr/>
          <p:nvPr/>
        </p:nvSpPr>
        <p:spPr>
          <a:xfrm>
            <a:off x="-228600" y="198108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*reflect their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Text Box 9"/>
          <p:cNvSpPr/>
          <p:nvPr/>
        </p:nvSpPr>
        <p:spPr>
          <a:xfrm>
            <a:off x="-304920" y="312408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*oral not writ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Text Box 9"/>
          <p:cNvSpPr/>
          <p:nvPr/>
        </p:nvSpPr>
        <p:spPr>
          <a:xfrm>
            <a:off x="3276720" y="3124080"/>
            <a:ext cx="9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-- scops/bards (storytell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Text Box 9"/>
          <p:cNvSpPr/>
          <p:nvPr/>
        </p:nvSpPr>
        <p:spPr>
          <a:xfrm>
            <a:off x="3733920" y="365760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* = to warri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Text Box 9"/>
          <p:cNvSpPr/>
          <p:nvPr/>
        </p:nvSpPr>
        <p:spPr>
          <a:xfrm>
            <a:off x="3733920" y="4191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*offer immortality &amp; teach hi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Text Box 9"/>
          <p:cNvSpPr/>
          <p:nvPr/>
        </p:nvSpPr>
        <p:spPr>
          <a:xfrm>
            <a:off x="0" y="25909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      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*extol (praise) warrior virt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a50021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Text Box 6"/>
          <p:cNvSpPr/>
          <p:nvPr/>
        </p:nvSpPr>
        <p:spPr>
          <a:xfrm>
            <a:off x="209520" y="38088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KING ALFRED OF WESSEX – ALFRED THE GR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Text Box 9"/>
          <p:cNvSpPr/>
          <p:nvPr/>
        </p:nvSpPr>
        <p:spPr>
          <a:xfrm>
            <a:off x="0" y="91440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1.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united Eng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Text Box 9"/>
          <p:cNvSpPr/>
          <p:nvPr/>
        </p:nvSpPr>
        <p:spPr>
          <a:xfrm>
            <a:off x="0" y="137160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*Christia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Text Box 9"/>
          <p:cNvSpPr/>
          <p:nvPr/>
        </p:nvSpPr>
        <p:spPr>
          <a:xfrm>
            <a:off x="0" y="182880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*stop Da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Text Box 9"/>
          <p:cNvSpPr/>
          <p:nvPr/>
        </p:nvSpPr>
        <p:spPr>
          <a:xfrm>
            <a:off x="0" y="243828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2.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	</a:t>
            </a:r>
            <a:r>
              <a:rPr b="1" i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Anglo-Saxon Chroni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Text Box 9"/>
          <p:cNvSpPr/>
          <p:nvPr/>
        </p:nvSpPr>
        <p:spPr>
          <a:xfrm>
            <a:off x="0" y="289548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*history of England – early days to 115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Text Box 9"/>
          <p:cNvSpPr/>
          <p:nvPr/>
        </p:nvSpPr>
        <p:spPr>
          <a:xfrm>
            <a:off x="0" y="335268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*still referenced to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Text Box 9"/>
          <p:cNvSpPr/>
          <p:nvPr/>
        </p:nvSpPr>
        <p:spPr>
          <a:xfrm>
            <a:off x="0" y="388620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3.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English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Text Box 9"/>
          <p:cNvSpPr/>
          <p:nvPr/>
        </p:nvSpPr>
        <p:spPr>
          <a:xfrm>
            <a:off x="0" y="434340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*predominantly spo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Text Box 9"/>
          <p:cNvSpPr/>
          <p:nvPr/>
        </p:nvSpPr>
        <p:spPr>
          <a:xfrm>
            <a:off x="0" y="480060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*now written –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Anglo-Saxon Chroni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 Box 9"/>
          <p:cNvSpPr/>
          <p:nvPr/>
        </p:nvSpPr>
        <p:spPr>
          <a:xfrm>
            <a:off x="1295280" y="517680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-- language not respected until it</a:t>
            </a:r>
            <a:r>
              <a:rPr b="1" lang="ja-JP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’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s writ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a50021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6"/>
          <p:cNvSpPr/>
          <p:nvPr/>
        </p:nvSpPr>
        <p:spPr>
          <a:xfrm>
            <a:off x="209520" y="38088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ANGLO-SAXON WO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Text Box 9"/>
          <p:cNvSpPr/>
          <p:nvPr/>
        </p:nvSpPr>
        <p:spPr>
          <a:xfrm>
            <a:off x="0" y="91440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1.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not expected 2B subserv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Text Box 9"/>
          <p:cNvSpPr/>
          <p:nvPr/>
        </p:nvSpPr>
        <p:spPr>
          <a:xfrm>
            <a:off x="0" y="175248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2.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had righ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Text Box 9"/>
          <p:cNvSpPr/>
          <p:nvPr/>
        </p:nvSpPr>
        <p:spPr>
          <a:xfrm>
            <a:off x="0" y="220968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*could inherit &amp; hold prope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Text Box 9"/>
          <p:cNvSpPr/>
          <p:nvPr/>
        </p:nvSpPr>
        <p:spPr>
          <a:xfrm>
            <a:off x="0" y="26668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*dowry (morgengifu) – substantial gift of $ and/or land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groom gives to br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Text Box 2"/>
          <p:cNvSpPr/>
          <p:nvPr/>
        </p:nvSpPr>
        <p:spPr>
          <a:xfrm>
            <a:off x="0" y="0"/>
            <a:ext cx="9144000" cy="8942760"/>
          </a:xfrm>
          <a:prstGeom prst="rect">
            <a:avLst/>
          </a:prstGeom>
          <a:gradFill rotWithShape="0">
            <a:gsLst>
              <a:gs pos="0">
                <a:srgbClr val="000076"/>
              </a:gs>
              <a:gs pos="50000">
                <a:srgbClr val="0000ff"/>
              </a:gs>
              <a:gs pos="100000">
                <a:srgbClr val="0000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arm Up #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ocabulary List #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ntence Comple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8/28/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ny great British poets are quoted so often that their words now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em _________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poets use the ideas and styles of previous writers, their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tention is not to ________ but to build on and reinterpret the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st.  Occasionally, however, a poet has been accused of steal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a50021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WordArt 4"/>
          <p:cNvSpPr txBox="1"/>
          <p:nvPr/>
        </p:nvSpPr>
        <p:spPr>
          <a:xfrm>
            <a:off x="914400" y="1143000"/>
            <a:ext cx="7086600" cy="441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Anglo-Saxon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449-106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2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a50021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WordArt 4"/>
          <p:cNvSpPr txBox="1"/>
          <p:nvPr/>
        </p:nvSpPr>
        <p:spPr>
          <a:xfrm>
            <a:off x="457200" y="380880"/>
            <a:ext cx="65530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4 influential  Invader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716" name="Text Box 5"/>
          <p:cNvSpPr/>
          <p:nvPr/>
        </p:nvSpPr>
        <p:spPr>
          <a:xfrm>
            <a:off x="228600" y="2286000"/>
            <a:ext cx="823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*name island Great Brit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Text Box 6"/>
          <p:cNvSpPr/>
          <p:nvPr/>
        </p:nvSpPr>
        <p:spPr>
          <a:xfrm>
            <a:off x="209520" y="190512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1.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CE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Text Box 9"/>
          <p:cNvSpPr/>
          <p:nvPr/>
        </p:nvSpPr>
        <p:spPr>
          <a:xfrm>
            <a:off x="0" y="274320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*religion – Animism (Latin for spiri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Text Box 9"/>
          <p:cNvSpPr/>
          <p:nvPr/>
        </p:nvSpPr>
        <p:spPr>
          <a:xfrm>
            <a:off x="0" y="320040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*spirits everywhere; control 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 Box 9"/>
          <p:cNvSpPr/>
          <p:nvPr/>
        </p:nvSpPr>
        <p:spPr>
          <a:xfrm>
            <a:off x="0" y="365760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*Stonehenge – Druids (pries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Text Box 9"/>
          <p:cNvSpPr/>
          <p:nvPr/>
        </p:nvSpPr>
        <p:spPr>
          <a:xfrm>
            <a:off x="0" y="403848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*myth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Text Box 9"/>
          <p:cNvSpPr/>
          <p:nvPr/>
        </p:nvSpPr>
        <p:spPr>
          <a:xfrm>
            <a:off x="0" y="449568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*fierce women; enchanting &amp; br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Text Box 9"/>
          <p:cNvSpPr/>
          <p:nvPr/>
        </p:nvSpPr>
        <p:spPr>
          <a:xfrm>
            <a:off x="0" y="4876920"/>
            <a:ext cx="824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*influence later Irish &amp; English wri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(Sir Thomas Malory &amp; William Butler Yea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Text Box 9"/>
          <p:cNvSpPr/>
          <p:nvPr/>
        </p:nvSpPr>
        <p:spPr>
          <a:xfrm>
            <a:off x="0" y="579132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*language -- Gael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9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a50021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Text Box 5"/>
          <p:cNvSpPr/>
          <p:nvPr/>
        </p:nvSpPr>
        <p:spPr>
          <a:xfrm>
            <a:off x="228600" y="12952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Text Box 6"/>
          <p:cNvSpPr/>
          <p:nvPr/>
        </p:nvSpPr>
        <p:spPr>
          <a:xfrm>
            <a:off x="209520" y="76212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2.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ROM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Text Box 9"/>
          <p:cNvSpPr/>
          <p:nvPr/>
        </p:nvSpPr>
        <p:spPr>
          <a:xfrm>
            <a:off x="2666880" y="129528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-- stop invaders for several hundred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Text Box 9"/>
          <p:cNvSpPr/>
          <p:nvPr/>
        </p:nvSpPr>
        <p:spPr>
          <a:xfrm>
            <a:off x="2743200" y="175248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-- departure = chaos &amp; Anglo- Saxons conqu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Text Box 5"/>
          <p:cNvSpPr/>
          <p:nvPr/>
        </p:nvSpPr>
        <p:spPr>
          <a:xfrm>
            <a:off x="0" y="24382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 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Text Box 9"/>
          <p:cNvSpPr/>
          <p:nvPr/>
        </p:nvSpPr>
        <p:spPr>
          <a:xfrm>
            <a:off x="2438280" y="243828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-- defensive wall (Hadrian</a:t>
            </a:r>
            <a:r>
              <a:rPr b="1" lang="ja-JP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’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s wal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Text Box 9"/>
          <p:cNvSpPr/>
          <p:nvPr/>
        </p:nvSpPr>
        <p:spPr>
          <a:xfrm>
            <a:off x="2514600" y="289548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-- built network of ro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Text Box 5"/>
          <p:cNvSpPr/>
          <p:nvPr/>
        </p:nvSpPr>
        <p:spPr>
          <a:xfrm>
            <a:off x="0" y="35053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 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Gover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Text Box 9"/>
          <p:cNvSpPr/>
          <p:nvPr/>
        </p:nvSpPr>
        <p:spPr>
          <a:xfrm>
            <a:off x="2438280" y="350532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-- organized centralized gov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Text Box 5"/>
          <p:cNvSpPr/>
          <p:nvPr/>
        </p:nvSpPr>
        <p:spPr>
          <a:xfrm>
            <a:off x="0" y="41148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 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Reli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 Box 9"/>
          <p:cNvSpPr/>
          <p:nvPr/>
        </p:nvSpPr>
        <p:spPr>
          <a:xfrm>
            <a:off x="2438280" y="411480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-- introduce Christia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Text Box 5"/>
          <p:cNvSpPr/>
          <p:nvPr/>
        </p:nvSpPr>
        <p:spPr>
          <a:xfrm>
            <a:off x="0" y="47242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 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Text Box 9"/>
          <p:cNvSpPr/>
          <p:nvPr/>
        </p:nvSpPr>
        <p:spPr>
          <a:xfrm>
            <a:off x="2438280" y="472428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-- Lat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a50021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Text Box 6"/>
          <p:cNvSpPr/>
          <p:nvPr/>
        </p:nvSpPr>
        <p:spPr>
          <a:xfrm>
            <a:off x="209520" y="6858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3.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ANGLO-SAX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Text Box 9"/>
          <p:cNvSpPr/>
          <p:nvPr/>
        </p:nvSpPr>
        <p:spPr>
          <a:xfrm>
            <a:off x="0" y="121932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*Germanic orig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Text Box 9"/>
          <p:cNvSpPr/>
          <p:nvPr/>
        </p:nvSpPr>
        <p:spPr>
          <a:xfrm>
            <a:off x="0" y="167652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*</a:t>
            </a:r>
            <a:r>
              <a:rPr b="1" i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Beowulf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sounds more German than Engl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Text Box 9"/>
          <p:cNvSpPr/>
          <p:nvPr/>
        </p:nvSpPr>
        <p:spPr>
          <a:xfrm>
            <a:off x="0" y="213372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*language 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Text Box 9"/>
          <p:cNvSpPr/>
          <p:nvPr/>
        </p:nvSpPr>
        <p:spPr>
          <a:xfrm>
            <a:off x="0" y="259092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*German + Gaelic + Latin = Old Engl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 Box 9"/>
          <p:cNvSpPr/>
          <p:nvPr/>
        </p:nvSpPr>
        <p:spPr>
          <a:xfrm>
            <a:off x="0" y="312408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*religion – Warrior Reli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Text Box 6"/>
          <p:cNvSpPr/>
          <p:nvPr/>
        </p:nvSpPr>
        <p:spPr>
          <a:xfrm>
            <a:off x="304920" y="373392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4.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VIKINGS &amp; NORM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Text Box 9"/>
          <p:cNvSpPr/>
          <p:nvPr/>
        </p:nvSpPr>
        <p:spPr>
          <a:xfrm>
            <a:off x="0" y="419112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*ended Anglo-Saxon do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Text Box 9"/>
          <p:cNvSpPr/>
          <p:nvPr/>
        </p:nvSpPr>
        <p:spPr>
          <a:xfrm>
            <a:off x="0" y="472428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*1066 Battle of Hastings – William the Conque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Text Box 9"/>
          <p:cNvSpPr/>
          <p:nvPr/>
        </p:nvSpPr>
        <p:spPr>
          <a:xfrm>
            <a:off x="0" y="51814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*Duke of Normandy (Frenc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Text Box 9"/>
          <p:cNvSpPr/>
          <p:nvPr/>
        </p:nvSpPr>
        <p:spPr>
          <a:xfrm>
            <a:off x="0" y="5562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*Viking desc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Text Box 2"/>
          <p:cNvSpPr/>
          <p:nvPr/>
        </p:nvSpPr>
        <p:spPr>
          <a:xfrm>
            <a:off x="0" y="0"/>
            <a:ext cx="9144000" cy="7875720"/>
          </a:xfrm>
          <a:prstGeom prst="rect">
            <a:avLst/>
          </a:prstGeom>
          <a:gradFill rotWithShape="0">
            <a:gsLst>
              <a:gs pos="0">
                <a:srgbClr val="000076"/>
              </a:gs>
              <a:gs pos="50000">
                <a:srgbClr val="0000ff"/>
              </a:gs>
              <a:gs pos="100000">
                <a:srgbClr val="0000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arm Up #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ocabulary List #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ntence Comple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8/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oems are so joyful that they are almost ecstatic; others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re so sad that they could be considered ________________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one would accuse Sir Francis Bacon of being _______.  He was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smooth talker, but his statements and his writing had subst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a50021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WordArt 4"/>
          <p:cNvSpPr txBox="1"/>
          <p:nvPr/>
        </p:nvSpPr>
        <p:spPr>
          <a:xfrm>
            <a:off x="457200" y="380880"/>
            <a:ext cx="65530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Anglo-Saxon Englan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751" name="Text Box 5"/>
          <p:cNvSpPr/>
          <p:nvPr/>
        </p:nvSpPr>
        <p:spPr>
          <a:xfrm>
            <a:off x="228600" y="2362320"/>
            <a:ext cx="823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1.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Tribal Government (initial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Text Box 6"/>
          <p:cNvSpPr/>
          <p:nvPr/>
        </p:nvSpPr>
        <p:spPr>
          <a:xfrm>
            <a:off x="209520" y="167652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*influenced  by harsh climate; centered on survi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Text Box 9"/>
          <p:cNvSpPr/>
          <p:nvPr/>
        </p:nvSpPr>
        <p:spPr>
          <a:xfrm>
            <a:off x="0" y="281952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*strong leader w/council of wise el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Text Box 9"/>
          <p:cNvSpPr/>
          <p:nvPr/>
        </p:nvSpPr>
        <p:spPr>
          <a:xfrm>
            <a:off x="0" y="327672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*rule by consens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Text Box 9"/>
          <p:cNvSpPr/>
          <p:nvPr/>
        </p:nvSpPr>
        <p:spPr>
          <a:xfrm>
            <a:off x="0" y="411480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2.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Occupations – Social Hierarc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Text Box 9"/>
          <p:cNvSpPr/>
          <p:nvPr/>
        </p:nvSpPr>
        <p:spPr>
          <a:xfrm>
            <a:off x="0" y="457200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*Warriors – highest social standing; tribe</a:t>
            </a:r>
            <a:r>
              <a:rPr b="1" lang="ja-JP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’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s saf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Text Box 9"/>
          <p:cNvSpPr/>
          <p:nvPr/>
        </p:nvSpPr>
        <p:spPr>
          <a:xfrm>
            <a:off x="0" y="495288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*Craftsman – weaponry &amp; jewel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Text Box 9"/>
          <p:cNvSpPr/>
          <p:nvPr/>
        </p:nvSpPr>
        <p:spPr>
          <a:xfrm>
            <a:off x="0" y="541008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*Farmers – unskilled labor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8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a50021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Text Box 5"/>
          <p:cNvSpPr/>
          <p:nvPr/>
        </p:nvSpPr>
        <p:spPr>
          <a:xfrm>
            <a:off x="0" y="838080"/>
            <a:ext cx="823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3.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Religion – Christianity &amp; paganism coex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ext Box 9"/>
          <p:cNvSpPr/>
          <p:nvPr/>
        </p:nvSpPr>
        <p:spPr>
          <a:xfrm>
            <a:off x="-228600" y="129528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*Christianity -- monaste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Text Box 9"/>
          <p:cNvSpPr/>
          <p:nvPr/>
        </p:nvSpPr>
        <p:spPr>
          <a:xfrm>
            <a:off x="-228600" y="175248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*shelter &amp; saf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Text Box 9"/>
          <p:cNvSpPr/>
          <p:nvPr/>
        </p:nvSpPr>
        <p:spPr>
          <a:xfrm>
            <a:off x="-228600" y="297180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*paganism – dark &amp; hopel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ext Box 9"/>
          <p:cNvSpPr/>
          <p:nvPr/>
        </p:nvSpPr>
        <p:spPr>
          <a:xfrm>
            <a:off x="-228600" y="3429000"/>
            <a:ext cx="9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*no control own destiny (predestin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Text Box 9"/>
          <p:cNvSpPr/>
          <p:nvPr/>
        </p:nvSpPr>
        <p:spPr>
          <a:xfrm>
            <a:off x="0" y="388620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*no after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Text Box 9"/>
          <p:cNvSpPr/>
          <p:nvPr/>
        </p:nvSpPr>
        <p:spPr>
          <a:xfrm>
            <a:off x="0" y="43434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*morality code – 4 Warrior Virt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Text Box 9"/>
          <p:cNvSpPr/>
          <p:nvPr/>
        </p:nvSpPr>
        <p:spPr>
          <a:xfrm>
            <a:off x="0" y="2133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*learning – preserve Greek &amp; Latin literatu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Text Box 9"/>
          <p:cNvSpPr/>
          <p:nvPr/>
        </p:nvSpPr>
        <p:spPr>
          <a:xfrm>
            <a:off x="0" y="4876920"/>
            <a:ext cx="9372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bravery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genero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loyalty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friend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9:26:14Z</dcterms:created>
  <dc:creator>Jennifer Finkenhagen</dc:creator>
  <dc:description/>
  <dc:language>en-US</dc:language>
  <cp:lastModifiedBy>Finkenhagen, Jennifer</cp:lastModifiedBy>
  <dcterms:modified xsi:type="dcterms:W3CDTF">2012-08-28T15:33:05Z</dcterms:modified>
  <cp:revision>24</cp:revision>
  <dc:subject/>
  <dc:title>Slide 1</dc:title>
</cp:coreProperties>
</file>