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204F5-16BD-492F-9D65-7943D4C585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8D1EE-6AAD-49A3-90CE-A777DFF078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DCF37-0C9A-4E16-BA39-5F527CCA2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C6152-D867-40B9-B598-EEC0CBA51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293A7-B559-48CB-9A87-4BEFA93D92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95AF1-F6EA-4238-8CC5-81171687BF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00F90-F49D-4C1F-823A-29E8689866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16A0B-7B76-432C-899B-F6A0EE4731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54FE9-61BD-49AC-9F6A-4566C77792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E289A-EBB7-46C4-B0E8-F3430CE02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68F4A-1E7C-4FA7-9D4D-0964DFF7C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527A-4901-4A71-923F-70E14B852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223F-0EB1-4CEA-B7B8-F1E4E85E6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D2EAAA-1A63-414E-BC68-7582FF551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E45D86-B099-4982-9474-76782F72A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C3C0F3-711E-4FE9-8731-2382D9E98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319D6A-A489-44D5-8B75-5E5F166B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66F6EE-4DA3-4968-8340-E253BA43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7ED2B8-22B4-4564-AF1E-4B1DA0A1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03B98E-CC60-46C3-A7EE-591F2B410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E1ED08-E3B3-487E-8309-902DEDEB8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07E3C3-A00B-4267-934A-9FE24D92A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A7AEA2-8846-4E52-9B8C-E98FF57B2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B6B4-A68C-497D-826B-D9F56C497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A31645-CA1C-443D-BE5B-CF5C4857D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A219D4-863C-440F-9606-E5DE7AAAA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001ADD-9D12-45E4-9B27-144B95923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C5B5A6-FDF1-4DE3-B461-5E8A513EE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A10EDF-6FCA-4237-8E45-E64EB20E6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655A0F-1150-4FDE-A738-B1A0F9BE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005967-F2EA-4957-82CB-2544FDFE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9F759C-FF14-4153-A9AE-05C6A212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E43F29-B094-485F-B0F1-E240657E4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9B62A6-33AA-4B4A-A33E-54813E12C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F660-FE03-41E1-8ABC-47A3E188D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71D081-7D5B-4709-A964-196D7E4F6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E7FB21-05F7-45F8-9C7E-54CCDE61C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3076FB-879F-43FE-80AE-E73796326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836A69-1177-41D7-AEAB-3ACBCAFB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9F3963-3342-46D8-9EB2-2D4776D07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E28EE5-FDA8-459A-9C25-675B78048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533A8D-F99B-45B7-BF2D-C8C6C2FA5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AB0022-7FE3-4ED9-97E8-79CBC96C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C52777-510F-4259-A9C0-C1C907C7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1C4D15-5122-4F1D-85EA-DEE3EE42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A3FD4-345A-4E8B-BFDA-D1571F714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594E94-0D13-49EB-9CD9-5E20FF649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E2E9E6-0D79-43D4-97A0-204304229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01FC29-3793-41BB-B9AF-4F61B8C7F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E0E3F9-6022-4FBB-86C8-45F3C6A1A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D57CBA-6F5F-4B07-A734-DF7B935FE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DA397F-2807-48B9-A489-92247A8CE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0CB985-3D33-4937-86C2-73EE42A8A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8B7019-309B-4614-A9C2-6931242E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6940A9-C5FB-45CE-8ECC-47C83A057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82F4E4-1584-4D7B-BF61-DC2ECB34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32D33-DBD6-45A5-954A-45F2DD0C2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100B80-7DBC-4262-A8D5-6E4853AC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E84E85-5EB6-4186-B01B-EB127DC3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4BEB00-27A6-425B-85B1-020E48DE6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335898-3C4C-41AD-AAD4-923AD0F30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08AAB0-F56A-441B-8FDD-C26ABEDA6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4AE06A-98A7-4764-8808-ED891278D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DB164A-FE0D-44A8-ABF8-64A0D1169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9BC08C-A602-470A-9957-F02D4144C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04F1FB-3372-48C0-85C1-C5B30B868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37343B-937B-4C08-BD1D-BE30AF058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41C07-5A2F-40C4-B31B-263464568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DF4F74-2E7A-4758-87B5-DE75DF88B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399B56-5825-4CDD-AFC4-090D6AA8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2996DD-43E8-4260-AAE8-51580654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945D50-37E3-477A-A7DE-CAC806A7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1599D6-7F18-4D99-BDA9-7A961E84F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256B1B-D9A9-404F-A89E-83815CE25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35D7D9-C9FF-4451-A8ED-7B4B70865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41D2D1-9AEE-48AA-B4D9-8BA6B80A3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05C597-08B0-4812-92C2-0F1C0E10B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7B4D77-0E46-45B8-B48A-2105BFA43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249E7-AA43-4E4D-ABBE-D4854679E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3F5401-BE2C-4132-BD69-CDDE72F0C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EA35A8-A571-4754-9C0A-A4ADEE4BE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91ED77-C126-461A-A9EC-CC843BD22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2821E3-F5AF-42A5-A33B-43D8959B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60AC42-C261-4477-AD87-DF3B945E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0CAEBC-59E2-4678-92B1-73FBEBE3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AC5907-1266-4F14-9E9B-B36583145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43ACEF-D760-40F7-8830-B1CCCC586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64FFE1-CF9E-4F46-9168-A530FFF47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E8A876-AADD-4D8B-8D36-439A2E57A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E5B53-890E-4548-B447-8FAC722B0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F0D599-A8FE-4A95-8DB6-6334D5FB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4C16EE-7EFA-4893-9390-A671ABBE2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C0523F-8894-48DB-B90F-92AC0BBF5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0312DE-1EC3-4902-93C8-D0488D252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2AD6D4-DC2E-40EA-9A5D-6AB35EA9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B0CA36-4A2A-4F52-94E0-1C28BA97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030AE1-1ACF-4E9E-9ABC-1301328F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5F43A7-18EC-4DED-8309-CCB6F5D2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DAB9C3-F082-4CEA-8552-5CF29AF19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B71796-4FEE-44CF-AFA9-BA1647402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82046-FDF0-43F5-A92A-1CD8FD2C7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B59A24-417E-4CC0-B944-A40D01F79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CE7A71-AC4D-40F5-AC1E-D02CFBE73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C44073-DAC9-4345-80B0-664FEC8E7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7D7CC0-D5CE-41F8-8728-4116EE313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1C3740-512B-4868-AEA5-6D042C049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377F2E-9014-43D4-80B1-B89D83271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279DDA-0197-45E6-8064-1BD2F7DB3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D97566-8C26-48E6-8457-807ACC83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216B0B-F8B0-45BA-9986-BE797E7E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7A30C9-80CD-418E-8A0C-97E032B0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8C7CA-45BC-4017-B5F4-E2CDD4CC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FF52F5-03D5-4C54-8DDF-59E78C186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90F1C1-9AF5-4FBB-AA08-B5C2F8712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8FCA4B-CEE2-472E-B497-52E9BD805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449F2F-796A-427B-B285-EE3E73E7D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640470-5852-43EC-AA59-EF35F66EB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0FCA73-FB35-439C-806C-5332ABE3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20B7B3-1A20-41C9-A28C-EB327EC62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5BD44C-69AF-415D-9B3C-4925991AB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663FB8-C146-4405-A276-5BB3FF882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39CFD1-F276-4451-BEB4-15F9849B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6C59-9C93-4653-B210-2D67B2E42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6D13E-E594-4349-A2D8-E580B93B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1246A3-829B-4100-98DE-4E76E709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8256A6-5CC0-4A47-84BE-A544EC2A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6CCC4A-4270-4CC3-BE2C-E4C73F1A4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7EF6B9-3E3F-471E-99D9-5EDAEB580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C8771F-86F1-423C-B614-89B99B48C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FFE4D-7518-4005-8978-2960F558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C4825-EC53-4A18-8F54-88F27A172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D48D6-52CB-4668-9752-99C6A5717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ABACE-7E4C-455D-AC70-FC7D1B20D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3421A-2FDE-4F1C-A1BA-B35D9E3DB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34563-EDE2-49C0-8B70-2D3B10448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78224-3B9C-45B6-8306-BCF631445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6DE54-EDF9-4178-B981-487812AE2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C1CA0-7AAB-49EB-81E3-70C3F5E7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C01E-AB7F-4F54-B91A-349FDE0E7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6FF1D-3A61-4541-8E8C-442A8DFB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488FC-61B7-4896-8974-DF9B420E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C8BC2-F240-48D3-8D3B-715C1BA4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3A31D-C84C-41D0-A6A8-A7992F6F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835E8-3C32-46C9-92C2-8C2CC711E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F6F98-3F8F-4B9A-BD4E-9526B71FC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8C4D3-3538-4BA4-9C6C-568803F58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260A6-21F7-4141-BF40-49FD9DD0E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7D2BD-5E4A-434B-8E04-C6AEA9F27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21FF0-94D4-4E04-9E5C-C5605A8BD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58C0-AC6A-4E85-A254-58D9F2311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74CFD-0AF8-4630-AB0F-DAF77A3E3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81266-74BA-422D-8869-E9D3A4154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BE8E0-7340-46AF-8C0D-836A34A03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2402B-2908-490E-98B5-2FB9A7DC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71D33-2DDE-4F69-9CE1-D5FC6133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026D6-095D-45EA-A9E9-902084A7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4486C-ACD8-4CD5-BCEA-A4E9DFE5D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051C1-EDC8-4318-81CA-6A31F4543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4DD6C-5FDE-4624-A607-66FBBBAF1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9DB48-2EB4-43FA-A9C3-B0AA55C6B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B35C-B853-42E9-BF98-157EE4F08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B037F-92FA-4F92-B4F2-8EEA36EB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07476-7647-434F-ABBE-87B27F9ED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0A970-A6EC-448F-A15E-FF081046B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9BDE4-FAF6-403F-B2AE-E3AA4B82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ABD37-827F-4F4C-9FEF-73D121928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07455-1134-48BE-9FEE-2E5E3FA5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40383-069A-4C7A-BB92-6B86D8AD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3C906-E016-4C76-9E30-AB51B664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C4499-F233-4C1D-9F89-24422B8F7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38066-660C-4F3D-BDE3-FB389530B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C478-A763-430F-9B64-3BF685F62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AD8DF-5383-4FB4-99E5-820061A53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B64A6-684B-4B6F-B6E3-865A8C240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7E6F1-E166-4D50-AF56-3586A4A03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E7C72B-AB75-4EC9-ABBC-7E329E2C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D41A1-525D-41DF-8CD4-749769BB5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58D7C-6AC2-4E57-ACE4-83C9E60AD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7AD31-4171-4B4B-823C-B3A013A4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91E76-3B83-400E-A616-F95CD6D2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E31EE9-38BD-437B-90C2-B8AFE11B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08CA1F-4D01-46A7-B224-674E1692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E885-01F5-486C-A692-52A47075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1AFC0-1147-4059-8C21-784FDDA4E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249D2-3332-495F-8384-025F31B43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A2D86-24F3-4DFD-A7BA-B66D41875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73B3B0-9896-473D-8D95-546AFFF5C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ABE6B1-93B7-467A-8763-5678E505B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2CF485-772B-44A6-8C92-D31D1B0B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58A7B0-4341-48BE-8094-4E16E3DAB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F73BA-E57A-482C-8E29-FEBEB4D10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0A3DB-A208-4508-827A-6D7001C91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DC2F19-D3CA-444F-B283-1A7FB291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92BF-EB1D-4DC4-8A10-C1C4B80C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4296A-E27B-41BE-95AB-06F0A8DD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DE412B-0852-4AB7-90E5-0004A39FD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9367F3-7D51-4BC4-A7C1-C340665A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A6F78F-D751-46B6-920C-FC3111F9B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D137C-CA30-4C1C-871C-A641131E1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E49E6F-507F-4504-B5CD-40F2F804C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9C5761-C1E5-451E-8E67-AFCEC428E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C6BD05-D047-487A-844E-85185D606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05AED1-61E9-4212-838A-B67E25A7B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6F6C8-01CF-4BFB-AD89-7E250C047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F042-13D7-413B-82BE-235EFA92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151EEE-9F8F-4051-8DC7-0F57C68FD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899022-F04A-440E-A3E8-BD50E390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254705-AF22-4E3F-BFC5-943059D4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FF5155-9ECA-4F1B-81BA-ADAD4354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CAB68F-E39C-4DA1-BBDA-0D2ABBC18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4B375A-EE16-4545-9D0F-2D23511C4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3D6E45-2931-42B3-AC3D-B6BC08EAB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4E3151-7CC8-4C8B-9A29-684AE9597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F134B1-110E-40CC-9524-FE82A5D7F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EDB54C-ABB4-42E4-9385-AD1531F59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B82DD-FA35-4772-86F1-1BA1B6DDF2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CCACF-DE33-4605-A65A-71273F4D147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D122C-5378-4FA1-BE9D-B538054942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77A45-DF19-4C38-AF03-DD9234B69A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0D3FF-1ACA-47EA-A919-A92C409D60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6457F-5179-44D9-AE8D-2E41FA47F0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F39DA-3EAD-40BD-8A90-0E38812719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432F4-ED2A-4881-843C-977394AFD5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D2EC9-203C-4CDD-9CE2-FFD26B85D3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EBD19-ABA5-4B76-927E-94E33D4DAC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0E8F5-F630-461F-83FF-7B6DDD4A4F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96F94-ABC9-406C-8554-0063769C52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B4897-6329-439A-A3E2-66A2F41F22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46F17-BEA8-4A7B-A670-628766B9E5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39FAE-6539-42EE-B6FE-EB0C898D83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A72C5-2DA4-4994-8344-C8AAC39B3C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BE0E9-B16C-42EB-8136-08757E64CF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3AD8D-A2BA-4841-A216-25E08A7DB9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548C9-CCEC-4182-88DF-D9D5167F57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8EE3A-8548-4B71-9D99-8A5B904C358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17CA6-D684-4976-A8A9-BD907FC834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28591-0050-40BB-A860-DCF0B53150A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8BFD4-8EBC-4E06-B2F8-F260CA1DD6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D8DF1-0A7C-4082-AD29-0CAC4F5C7C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617DB-E5C7-4B2B-8358-D491D822DD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81BE1-A41E-466F-A428-5982CDE6FC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C4F47-2EC2-4EE8-81C0-668C2080DB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5FAF2-706A-465B-81B2-0F42288728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CB558-7575-491C-B48A-C9A745212E0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01FAB-9D1B-4409-AE25-84625CEDF1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a5002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WordArt 4"/>
          <p:cNvSpPr txBox="1"/>
          <p:nvPr/>
        </p:nvSpPr>
        <p:spPr>
          <a:xfrm>
            <a:off x="457200" y="380880"/>
            <a:ext cx="4419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Warm Up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05" name="Text Box 5"/>
          <p:cNvSpPr/>
          <p:nvPr/>
        </p:nvSpPr>
        <p:spPr>
          <a:xfrm>
            <a:off x="228600" y="2057400"/>
            <a:ext cx="823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5-6 minutes – beginning of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6"/>
          <p:cNvSpPr/>
          <p:nvPr/>
        </p:nvSpPr>
        <p:spPr>
          <a:xfrm>
            <a:off x="209520" y="15238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Grammar Skills &amp; Vocabulary 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9"/>
          <p:cNvSpPr/>
          <p:nvPr/>
        </p:nvSpPr>
        <p:spPr>
          <a:xfrm>
            <a:off x="0" y="25146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Collected every Fri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9"/>
          <p:cNvSpPr/>
          <p:nvPr/>
        </p:nvSpPr>
        <p:spPr>
          <a:xfrm>
            <a:off x="0" y="29718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Unexcused Tardy – no make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9"/>
          <p:cNvSpPr/>
          <p:nvPr/>
        </p:nvSpPr>
        <p:spPr>
          <a:xfrm>
            <a:off x="22860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Absent/Excused Tar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9"/>
          <p:cNvSpPr/>
          <p:nvPr/>
        </p:nvSpPr>
        <p:spPr>
          <a:xfrm>
            <a:off x="3505320" y="35053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-- write that day</a:t>
            </a:r>
            <a:r>
              <a:rPr b="1" lang="ja-JP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’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s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9"/>
          <p:cNvSpPr/>
          <p:nvPr/>
        </p:nvSpPr>
        <p:spPr>
          <a:xfrm>
            <a:off x="3581280" y="39625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-- A (absent) or ET (excused tard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9"/>
          <p:cNvSpPr/>
          <p:nvPr/>
        </p:nvSpPr>
        <p:spPr>
          <a:xfrm>
            <a:off x="0" y="464832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opy another student</a:t>
            </a:r>
            <a:r>
              <a:rPr b="1" lang="ja-JP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’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s warm ups = no cr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a5002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Text Box 5"/>
          <p:cNvSpPr/>
          <p:nvPr/>
        </p:nvSpPr>
        <p:spPr>
          <a:xfrm>
            <a:off x="0" y="838080"/>
            <a:ext cx="823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Litera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9"/>
          <p:cNvSpPr/>
          <p:nvPr/>
        </p:nvSpPr>
        <p:spPr>
          <a:xfrm>
            <a:off x="-228600" y="144792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male domin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9"/>
          <p:cNvSpPr/>
          <p:nvPr/>
        </p:nvSpPr>
        <p:spPr>
          <a:xfrm>
            <a:off x="-228600" y="19810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reflect their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9"/>
          <p:cNvSpPr/>
          <p:nvPr/>
        </p:nvSpPr>
        <p:spPr>
          <a:xfrm>
            <a:off x="-304920" y="31240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oral not wri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9"/>
          <p:cNvSpPr/>
          <p:nvPr/>
        </p:nvSpPr>
        <p:spPr>
          <a:xfrm>
            <a:off x="3276720" y="3124080"/>
            <a:ext cx="9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-- scops/bards (storytell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9"/>
          <p:cNvSpPr/>
          <p:nvPr/>
        </p:nvSpPr>
        <p:spPr>
          <a:xfrm>
            <a:off x="3733920" y="36576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 = to warri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9"/>
          <p:cNvSpPr/>
          <p:nvPr/>
        </p:nvSpPr>
        <p:spPr>
          <a:xfrm>
            <a:off x="3733920" y="4191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offer immortality &amp; teach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9"/>
          <p:cNvSpPr/>
          <p:nvPr/>
        </p:nvSpPr>
        <p:spPr>
          <a:xfrm>
            <a:off x="0" y="2590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   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extol (praise) warrior virt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a5002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Text Box 6"/>
          <p:cNvSpPr/>
          <p:nvPr/>
        </p:nvSpPr>
        <p:spPr>
          <a:xfrm>
            <a:off x="209520" y="3808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KING ALFRED OF WESSEX – ALFRED THE GR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9"/>
          <p:cNvSpPr/>
          <p:nvPr/>
        </p:nvSpPr>
        <p:spPr>
          <a:xfrm>
            <a:off x="0" y="9144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1.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united Eng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9"/>
          <p:cNvSpPr/>
          <p:nvPr/>
        </p:nvSpPr>
        <p:spPr>
          <a:xfrm>
            <a:off x="0" y="13716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Christia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9"/>
          <p:cNvSpPr/>
          <p:nvPr/>
        </p:nvSpPr>
        <p:spPr>
          <a:xfrm>
            <a:off x="0" y="18288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stop D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9"/>
          <p:cNvSpPr/>
          <p:nvPr/>
        </p:nvSpPr>
        <p:spPr>
          <a:xfrm>
            <a:off x="0" y="24382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2.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i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Anglo-Saxon Chron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9"/>
          <p:cNvSpPr/>
          <p:nvPr/>
        </p:nvSpPr>
        <p:spPr>
          <a:xfrm>
            <a:off x="0" y="28954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history of England – early days to 11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9"/>
          <p:cNvSpPr/>
          <p:nvPr/>
        </p:nvSpPr>
        <p:spPr>
          <a:xfrm>
            <a:off x="0" y="33526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still referenced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9"/>
          <p:cNvSpPr/>
          <p:nvPr/>
        </p:nvSpPr>
        <p:spPr>
          <a:xfrm>
            <a:off x="0" y="38862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3.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English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9"/>
          <p:cNvSpPr/>
          <p:nvPr/>
        </p:nvSpPr>
        <p:spPr>
          <a:xfrm>
            <a:off x="0" y="43434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predominantly spo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9"/>
          <p:cNvSpPr/>
          <p:nvPr/>
        </p:nvSpPr>
        <p:spPr>
          <a:xfrm>
            <a:off x="0" y="48006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now written –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Anglo-Saxon Chron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9"/>
          <p:cNvSpPr/>
          <p:nvPr/>
        </p:nvSpPr>
        <p:spPr>
          <a:xfrm>
            <a:off x="1295280" y="51768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-- language not respected until it</a:t>
            </a:r>
            <a:r>
              <a:rPr b="1" lang="ja-JP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’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s wri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a5002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6"/>
          <p:cNvSpPr/>
          <p:nvPr/>
        </p:nvSpPr>
        <p:spPr>
          <a:xfrm>
            <a:off x="209520" y="3808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ANGLO-SAXON 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9"/>
          <p:cNvSpPr/>
          <p:nvPr/>
        </p:nvSpPr>
        <p:spPr>
          <a:xfrm>
            <a:off x="0" y="9144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1.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not expected 2B subserv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9"/>
          <p:cNvSpPr/>
          <p:nvPr/>
        </p:nvSpPr>
        <p:spPr>
          <a:xfrm>
            <a:off x="0" y="17524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2.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had r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9"/>
          <p:cNvSpPr/>
          <p:nvPr/>
        </p:nvSpPr>
        <p:spPr>
          <a:xfrm>
            <a:off x="0" y="22096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could inherit &amp; hold pro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9"/>
          <p:cNvSpPr/>
          <p:nvPr/>
        </p:nvSpPr>
        <p:spPr>
          <a:xfrm>
            <a:off x="0" y="2666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dowry (morgengifu) – substantial gift of $ and/or land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groom gives to b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 Box 2"/>
          <p:cNvSpPr/>
          <p:nvPr/>
        </p:nvSpPr>
        <p:spPr>
          <a:xfrm>
            <a:off x="0" y="0"/>
            <a:ext cx="9144000" cy="8942760"/>
          </a:xfrm>
          <a:prstGeom prst="rect">
            <a:avLst/>
          </a:prstGeom>
          <a:gradFill rotWithShape="0">
            <a:gsLst>
              <a:gs pos="0">
                <a:srgbClr val="000076"/>
              </a:gs>
              <a:gs pos="50000">
                <a:srgbClr val="0000ff"/>
              </a:gs>
              <a:gs pos="100000">
                <a:srgbClr val="0000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rm Up #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ocabulary List 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ntence Comple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/28/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y great British poets are quoted so often that their words now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em ___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poets use the ideas and styles of previous writers, their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ntion is not to ________ but to build on and reinterpret the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st.  Occasionally, however, a poet has been accused of stea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a5002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WordArt 4"/>
          <p:cNvSpPr txBox="1"/>
          <p:nvPr/>
        </p:nvSpPr>
        <p:spPr>
          <a:xfrm>
            <a:off x="914400" y="1143000"/>
            <a:ext cx="708660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Anglo-Sax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449-106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a5002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WordArt 4"/>
          <p:cNvSpPr txBox="1"/>
          <p:nvPr/>
        </p:nvSpPr>
        <p:spPr>
          <a:xfrm>
            <a:off x="457200" y="380880"/>
            <a:ext cx="65530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4 influential  Invader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16" name="Text Box 5"/>
          <p:cNvSpPr/>
          <p:nvPr/>
        </p:nvSpPr>
        <p:spPr>
          <a:xfrm>
            <a:off x="228600" y="2286000"/>
            <a:ext cx="823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*name island Great Bri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6"/>
          <p:cNvSpPr/>
          <p:nvPr/>
        </p:nvSpPr>
        <p:spPr>
          <a:xfrm>
            <a:off x="209520" y="19051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1.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CE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9"/>
          <p:cNvSpPr/>
          <p:nvPr/>
        </p:nvSpPr>
        <p:spPr>
          <a:xfrm>
            <a:off x="0" y="27432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religion – Animism (Latin for spir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9"/>
          <p:cNvSpPr/>
          <p:nvPr/>
        </p:nvSpPr>
        <p:spPr>
          <a:xfrm>
            <a:off x="0" y="32004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spirits everywhere; control 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9"/>
          <p:cNvSpPr/>
          <p:nvPr/>
        </p:nvSpPr>
        <p:spPr>
          <a:xfrm>
            <a:off x="0" y="36576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Stonehenge – Druids (pries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9"/>
          <p:cNvSpPr/>
          <p:nvPr/>
        </p:nvSpPr>
        <p:spPr>
          <a:xfrm>
            <a:off x="0" y="40384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myth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9"/>
          <p:cNvSpPr/>
          <p:nvPr/>
        </p:nvSpPr>
        <p:spPr>
          <a:xfrm>
            <a:off x="0" y="44956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fierce women; enchanting &amp; b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9"/>
          <p:cNvSpPr/>
          <p:nvPr/>
        </p:nvSpPr>
        <p:spPr>
          <a:xfrm>
            <a:off x="0" y="4876920"/>
            <a:ext cx="824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influence later Irish &amp; English wri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(Sir Thomas Malory &amp; William Butler Yea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9"/>
          <p:cNvSpPr/>
          <p:nvPr/>
        </p:nvSpPr>
        <p:spPr>
          <a:xfrm>
            <a:off x="0" y="579132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language -- Gae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a5002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Text Box 5"/>
          <p:cNvSpPr/>
          <p:nvPr/>
        </p:nvSpPr>
        <p:spPr>
          <a:xfrm>
            <a:off x="228600" y="1295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6"/>
          <p:cNvSpPr/>
          <p:nvPr/>
        </p:nvSpPr>
        <p:spPr>
          <a:xfrm>
            <a:off x="209520" y="7621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ROM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9"/>
          <p:cNvSpPr/>
          <p:nvPr/>
        </p:nvSpPr>
        <p:spPr>
          <a:xfrm>
            <a:off x="2666880" y="12952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-- stop invaders for several hundred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9"/>
          <p:cNvSpPr/>
          <p:nvPr/>
        </p:nvSpPr>
        <p:spPr>
          <a:xfrm>
            <a:off x="2743200" y="17524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-- departure = chaos &amp; Anglo- Saxons conq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5"/>
          <p:cNvSpPr/>
          <p:nvPr/>
        </p:nvSpPr>
        <p:spPr>
          <a:xfrm>
            <a:off x="0" y="2438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9"/>
          <p:cNvSpPr/>
          <p:nvPr/>
        </p:nvSpPr>
        <p:spPr>
          <a:xfrm>
            <a:off x="2438280" y="24382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-- defensive wall (Hadrian</a:t>
            </a:r>
            <a:r>
              <a:rPr b="1" lang="ja-JP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’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s wa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9"/>
          <p:cNvSpPr/>
          <p:nvPr/>
        </p:nvSpPr>
        <p:spPr>
          <a:xfrm>
            <a:off x="2514600" y="28954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-- built network of ro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5"/>
          <p:cNvSpPr/>
          <p:nvPr/>
        </p:nvSpPr>
        <p:spPr>
          <a:xfrm>
            <a:off x="0" y="35053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9"/>
          <p:cNvSpPr/>
          <p:nvPr/>
        </p:nvSpPr>
        <p:spPr>
          <a:xfrm>
            <a:off x="2438280" y="350532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-- organized centralized gov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5"/>
          <p:cNvSpPr/>
          <p:nvPr/>
        </p:nvSpPr>
        <p:spPr>
          <a:xfrm>
            <a:off x="0" y="41148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Reli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9"/>
          <p:cNvSpPr/>
          <p:nvPr/>
        </p:nvSpPr>
        <p:spPr>
          <a:xfrm>
            <a:off x="2438280" y="41148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-- introduce Christia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5"/>
          <p:cNvSpPr/>
          <p:nvPr/>
        </p:nvSpPr>
        <p:spPr>
          <a:xfrm>
            <a:off x="0" y="4724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9"/>
          <p:cNvSpPr/>
          <p:nvPr/>
        </p:nvSpPr>
        <p:spPr>
          <a:xfrm>
            <a:off x="2438280" y="47242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-- La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a5002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Text Box 6"/>
          <p:cNvSpPr/>
          <p:nvPr/>
        </p:nvSpPr>
        <p:spPr>
          <a:xfrm>
            <a:off x="209520" y="6858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3.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ANGLO-SAX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9"/>
          <p:cNvSpPr/>
          <p:nvPr/>
        </p:nvSpPr>
        <p:spPr>
          <a:xfrm>
            <a:off x="0" y="121932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Germanic orig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9"/>
          <p:cNvSpPr/>
          <p:nvPr/>
        </p:nvSpPr>
        <p:spPr>
          <a:xfrm>
            <a:off x="0" y="167652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</a:t>
            </a:r>
            <a:r>
              <a:rPr b="1" i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Beowulf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sounds more German than Eng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9"/>
          <p:cNvSpPr/>
          <p:nvPr/>
        </p:nvSpPr>
        <p:spPr>
          <a:xfrm>
            <a:off x="0" y="213372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language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9"/>
          <p:cNvSpPr/>
          <p:nvPr/>
        </p:nvSpPr>
        <p:spPr>
          <a:xfrm>
            <a:off x="0" y="259092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German + Gaelic + Latin = Old Eng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9"/>
          <p:cNvSpPr/>
          <p:nvPr/>
        </p:nvSpPr>
        <p:spPr>
          <a:xfrm>
            <a:off x="0" y="31240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religion – Warrior Reli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6"/>
          <p:cNvSpPr/>
          <p:nvPr/>
        </p:nvSpPr>
        <p:spPr>
          <a:xfrm>
            <a:off x="304920" y="37339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VIKINGS &amp; NORM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9"/>
          <p:cNvSpPr/>
          <p:nvPr/>
        </p:nvSpPr>
        <p:spPr>
          <a:xfrm>
            <a:off x="0" y="419112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ended Anglo-Saxon do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9"/>
          <p:cNvSpPr/>
          <p:nvPr/>
        </p:nvSpPr>
        <p:spPr>
          <a:xfrm>
            <a:off x="0" y="47242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1066 Battle of Hastings – William the Conque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9"/>
          <p:cNvSpPr/>
          <p:nvPr/>
        </p:nvSpPr>
        <p:spPr>
          <a:xfrm>
            <a:off x="0" y="5181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Duke of Normandy (Fren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9"/>
          <p:cNvSpPr/>
          <p:nvPr/>
        </p:nvSpPr>
        <p:spPr>
          <a:xfrm>
            <a:off x="0" y="5562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Viking desc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Text Box 2"/>
          <p:cNvSpPr/>
          <p:nvPr/>
        </p:nvSpPr>
        <p:spPr>
          <a:xfrm>
            <a:off x="0" y="0"/>
            <a:ext cx="9144000" cy="7875720"/>
          </a:xfrm>
          <a:prstGeom prst="rect">
            <a:avLst/>
          </a:prstGeom>
          <a:gradFill rotWithShape="0">
            <a:gsLst>
              <a:gs pos="0">
                <a:srgbClr val="000076"/>
              </a:gs>
              <a:gs pos="50000">
                <a:srgbClr val="0000ff"/>
              </a:gs>
              <a:gs pos="100000">
                <a:srgbClr val="0000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rm Up #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ocabulary List 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ntence Comple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/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oems are so joyful that they are almost ecstatic; other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e so sad that they could be considered __________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one would accuse Sir Francis Bacon of being _______.  He wa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smooth talker, but his statements and his writing had subst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a5002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WordArt 4"/>
          <p:cNvSpPr txBox="1"/>
          <p:nvPr/>
        </p:nvSpPr>
        <p:spPr>
          <a:xfrm>
            <a:off x="457200" y="380880"/>
            <a:ext cx="65530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Anglo-Saxon Engla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51" name="Text Box 5"/>
          <p:cNvSpPr/>
          <p:nvPr/>
        </p:nvSpPr>
        <p:spPr>
          <a:xfrm>
            <a:off x="228600" y="2362320"/>
            <a:ext cx="823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1.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Tribal Government (initial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6"/>
          <p:cNvSpPr/>
          <p:nvPr/>
        </p:nvSpPr>
        <p:spPr>
          <a:xfrm>
            <a:off x="209520" y="16765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*influenced  by harsh climate; centered on survi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9"/>
          <p:cNvSpPr/>
          <p:nvPr/>
        </p:nvSpPr>
        <p:spPr>
          <a:xfrm>
            <a:off x="0" y="281952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strong leader w/council of wise e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9"/>
          <p:cNvSpPr/>
          <p:nvPr/>
        </p:nvSpPr>
        <p:spPr>
          <a:xfrm>
            <a:off x="0" y="327672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rule by consen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9"/>
          <p:cNvSpPr/>
          <p:nvPr/>
        </p:nvSpPr>
        <p:spPr>
          <a:xfrm>
            <a:off x="0" y="41148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2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Occupations – Social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9"/>
          <p:cNvSpPr/>
          <p:nvPr/>
        </p:nvSpPr>
        <p:spPr>
          <a:xfrm>
            <a:off x="0" y="45720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Warriors – highest social standing; tribe</a:t>
            </a:r>
            <a:r>
              <a:rPr b="1" lang="ja-JP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’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s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9"/>
          <p:cNvSpPr/>
          <p:nvPr/>
        </p:nvSpPr>
        <p:spPr>
          <a:xfrm>
            <a:off x="0" y="49528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Craftsman – weaponry &amp; jewel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9"/>
          <p:cNvSpPr/>
          <p:nvPr/>
        </p:nvSpPr>
        <p:spPr>
          <a:xfrm>
            <a:off x="0" y="54100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Farmers – unskilled labor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8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a5002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Text Box 5"/>
          <p:cNvSpPr/>
          <p:nvPr/>
        </p:nvSpPr>
        <p:spPr>
          <a:xfrm>
            <a:off x="0" y="838080"/>
            <a:ext cx="823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3.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Religion – Christianity &amp; paganism co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9"/>
          <p:cNvSpPr/>
          <p:nvPr/>
        </p:nvSpPr>
        <p:spPr>
          <a:xfrm>
            <a:off x="-228600" y="12952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Christianity -- monast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9"/>
          <p:cNvSpPr/>
          <p:nvPr/>
        </p:nvSpPr>
        <p:spPr>
          <a:xfrm>
            <a:off x="-228600" y="17524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shelter &amp;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9"/>
          <p:cNvSpPr/>
          <p:nvPr/>
        </p:nvSpPr>
        <p:spPr>
          <a:xfrm>
            <a:off x="-228600" y="29718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paganism – dark &amp; hope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9"/>
          <p:cNvSpPr/>
          <p:nvPr/>
        </p:nvSpPr>
        <p:spPr>
          <a:xfrm>
            <a:off x="-228600" y="3429000"/>
            <a:ext cx="9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no control own destiny (predestin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9"/>
          <p:cNvSpPr/>
          <p:nvPr/>
        </p:nvSpPr>
        <p:spPr>
          <a:xfrm>
            <a:off x="0" y="38862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no after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9"/>
          <p:cNvSpPr/>
          <p:nvPr/>
        </p:nvSpPr>
        <p:spPr>
          <a:xfrm>
            <a:off x="0" y="4343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morality code – 4 Warrior Virt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9"/>
          <p:cNvSpPr/>
          <p:nvPr/>
        </p:nvSpPr>
        <p:spPr>
          <a:xfrm>
            <a:off x="0" y="2133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learning – preserve Greek &amp; Latin litera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9"/>
          <p:cNvSpPr/>
          <p:nvPr/>
        </p:nvSpPr>
        <p:spPr>
          <a:xfrm>
            <a:off x="0" y="4876920"/>
            <a:ext cx="937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braver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genero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oyalt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friend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9:26:14Z</dcterms:created>
  <dc:creator>Jennifer Finkenhagen</dc:creator>
  <dc:description/>
  <dc:language>en-US</dc:language>
  <cp:lastModifiedBy>Finkenhagen, Jennifer</cp:lastModifiedBy>
  <dcterms:modified xsi:type="dcterms:W3CDTF">2012-08-28T15:33:05Z</dcterms:modified>
  <cp:revision>24</cp:revision>
  <dc:subject/>
  <dc:title>Slide 1</dc:title>
</cp:coreProperties>
</file>