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6DF2-0628-4559-8F89-40B65AA0A9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2519-FC01-4B25-A69B-B735559F3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9685-EE49-4B86-A0F7-FF12F0458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2B3D-7AFE-4E69-9240-E2ECFA563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8A20-75C1-495F-A4FC-15FD4DD6E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CC5D-FF10-49E4-92B0-FC0223E72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F67F-75B3-4E82-9527-F4EEA6F63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6A54-2B54-4F05-A2AF-E93AEC6A6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1878-4F18-4740-92F4-265202D7B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A3A1-B20D-4022-950B-999C3D24C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0A5A-BDD1-4F0C-BBA8-EE249841F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0007-E243-4A6D-A1B1-FE1C2A4C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0BF0-4965-4964-96A8-968AB7C2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132E4-FD1B-48B7-95D9-54C3993C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E29C8-5B91-4B92-A775-128457A2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EBEE5-3CF1-4148-B39B-14BD51A8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8DE33-B49A-4D17-966A-83449DDB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5DB47-3FBA-49CD-91CC-635DE6A7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E63FE-2151-449E-84BE-163FBBB0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D4331-0BB5-4847-A2F4-02688B66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26A10-AB6B-40C6-B351-C06519F4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53784-FAC6-45C7-924B-4FA27BCA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69DFF0-99C1-4CC7-B4A3-6AEBC524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A0F4-9108-46E1-8E72-E4B1B9A12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FF3E7-6926-41FD-884F-C0DE5CAC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CC574-D768-46DA-84D9-BFBDDA25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434B1-386D-4985-8FC5-52D8BA08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86033-C851-480F-B326-35CBD825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0B4462-19A0-4C07-97D0-35A7E36F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08606-4CCE-4013-8A36-87A0B26E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B2249-C419-4B30-BB83-01B31DDB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A7459-5F05-47FE-BE3F-E84D5773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F350B-A6AD-4545-BD5A-17DADA8F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C9F37-16FF-4724-A6C0-D469ADB1E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CD37-5B35-4FD7-97E5-B8E441406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93AAB-B171-4CB5-9366-08D95F06D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6853E-C7AF-419E-A261-4227D417A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88547-8684-495F-991D-A04980A1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81764-75F3-46D4-9BE6-243BDFE9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A39D1-A982-4DC4-806A-9BE17572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B0998-C820-4490-AFD3-DD29CD9D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0C80F-0CFD-434C-A300-C7B4C77C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E543E-424E-42EE-A256-B2288D04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8B681-A6D5-41D4-889D-0082285C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85E88-5C6C-4AF5-80EB-DA6C6B15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3C91-1CCF-42B2-8238-3E09B6756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2BDC1-C370-4733-BA9E-79586DEB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E4BC5-98C7-4AEA-9703-9135CCBDB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762E7-FBB4-41E2-B4A0-B809ACC9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4D8BAD-B554-4800-B28E-7C0E48393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9129B-7F1B-489B-BFC8-8EB2E8A4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78AE2-EBA5-4425-A50D-ED7D539F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4350D-CD5F-410B-969A-0D88C487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821D5-757F-4F62-A850-1532AA4A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6197D-E4C9-4846-A0F1-24C85FC1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76A54-AEB8-463E-A60F-8A59F4D2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62F7-64BB-4516-90F1-BEE1227E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BF214A-C064-43DA-A53D-1E76EAAE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9DA7EA-E95F-4531-B1AD-3D1629FD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B6F22-7313-4D07-8214-CE1A1511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AEFE1B-2598-4E62-A94E-F9D720526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F69BB-C8D4-4431-8CBC-C87EE53AA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6BEA3C-8D49-4B34-892F-7C4BEA9F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8DF746-B3EB-4278-833B-6859FCA4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C36910-1959-4543-834A-C4CE6BEC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589A7F-6CF5-40EC-8105-D09DFCBE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5D1AC3-9468-4B4C-9FC9-C0F7B6F0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3A06-1A77-4289-BA49-9FEEEFAF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0FBFC0-3BCD-4C20-9C08-61229589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8BB59E-7BA2-4778-8592-F77390B4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0E7AAA-0F34-4544-A96B-27D2ABC5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06CC2F-F1D4-45DF-B2C7-ADB4A488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C003E9-405C-48CD-ABFE-E886D963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498298-F60F-475E-806D-ADAA68393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ED5E89-824A-4937-BCDD-E335A880C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C5A6A7-865C-4D90-962E-C69BB7BB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32FA3B-FA7A-42AD-8C17-74EA4665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C8FF68-1621-46BE-B117-5AF8ED82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75AB-6B10-4896-BDFE-D6BF41A2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C7A04A-79DC-448B-96F8-048A47B2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DF2175-BFDA-4B17-92CF-4BB14973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E0F33A-A36D-442E-AE39-EBF43E78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276CF2-5AAD-48A8-BB91-3988AE5C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22C146-A75E-4EFD-A3EF-0DC1BEB2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11FB38-AC46-440D-B32F-047CA043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A77405-B52A-4D2D-BB08-F6ED3498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7995D5-F7E6-4FC5-BA82-A89F6605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03A969-217C-480D-B13B-679D77920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C735B1-4DD0-4455-83A5-3CAD5A2A0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1472-6C2C-482A-85A0-C8271F01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A668E3-40DD-460F-84F5-98437676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FAB9A9-7044-40D7-B40A-DA6C14FA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BCFBF5-5449-4BEC-A41E-3B2B44AF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259ECE-3EEC-4213-8E4B-3045AAD5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B916F0-5C1E-4DF6-BEE8-D74AD691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4125D8-EAF5-4629-8576-361BD975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36BE6B-BD3A-4B80-A82B-A05DDD2A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7AA993-FF73-4566-8234-117B8D3D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5106B9-FE46-49DC-B237-4921FA2F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5BD414-DE7B-4321-97AA-266F8A8E3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4A81-B4A2-435C-A184-66CDDE76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302C23-16FD-4B5C-8E9A-552F1375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DD8C9F-655E-4CD9-8467-C1CFFB314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4EF4A0-5466-49BA-9446-2A41CE6F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D2C05B-BF2E-4431-AAB1-B0EF4672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C0CB48-683E-4C0E-A44C-4092F327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37B9CD-92F5-41D7-BA9F-3EF49CC4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E615B4-3065-4064-B564-9A8BBA89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DFBF98-8501-46F3-9422-F60B4C07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EBE61F-9A60-40A2-8A3A-F95B71EA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EAE333-A533-4C1F-AA99-7A8224F3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9B0F-BF0C-4354-B26D-B047236B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8656DC-8F27-45DE-9E40-645642A5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E0DF33-3000-4321-83E3-013E18D9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CB0FD2-CA1F-4669-B8DE-02A7425DD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36759B-D1A4-45F4-A3DA-99B5C2A7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B99F49-955B-45B4-B323-75C4BA05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349B87-670A-4960-A3E2-6D2AFD5F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BB18D1-9F75-4222-B33B-F694BC2A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A3727A-1A0B-4607-9C3A-9C875D23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B813FA-9F32-4F86-A23A-AE8C84A6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7DC7C8-DD22-4951-9C56-BC2AA148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56B0-5767-48BD-9958-631FC4C2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564A-0B2B-4949-9509-68A11E47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9E37AB-F88F-462D-96F3-29054E65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25157A-10D9-4665-8958-887ADC9A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D6CC44-9863-4EFF-8C86-6B842025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2E65D9-283D-43AD-95F0-C1437EFE8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572937-8C2E-4509-9921-0E401EFC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3554-920E-4C2D-889D-56F1AD92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26C0-0A30-48F4-90DD-4C267D87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0024-4BB4-41DE-BC98-6BBD4605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2404-0F80-4089-B4F0-1CE4B3B16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97B8A-A841-40A4-9E0C-53EB724FA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50215-DEBF-47C6-BB9B-A68A171B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3B044-2E71-42C2-A0D4-36803C78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A861D-72F1-4BCF-AEBB-E32F10BC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51749-AB55-41D4-92BB-9182D556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C16B-8858-4590-AC20-592E392B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EDF55-8704-41AD-B6FB-0DD9A116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54A36-EA95-40EF-A40B-C0A1925F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1303E-11F6-4AB3-BF7A-AA8A57AC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248DE-8714-4132-9A25-48D4A0C9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C9BFF-5698-4545-87DF-4CAEFB2E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59CAC-E138-45E9-B350-589F31476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28CFA-189D-4C67-ABF2-EBB7550D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4AD4B-D7ED-4FEA-927A-95DB02A2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FFD73-223A-473C-B576-37FA3C4F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91D66-1D1F-450C-963E-489E9723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1F8E-BA5E-4ED0-932B-F734C15D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E0238-A3B4-4D19-AA35-B2F115E8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97F34-B220-4A3E-880D-E6F3E5C7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05176-5B1B-41E7-B806-F79B2B6E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18C6A-4BF7-4ECE-93AA-706EA804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8E82A-8C4F-413A-823E-4C2D8D4B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1AB82-CF79-47C8-99C0-24EDE137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DFE81-F6EF-4298-B274-7B064C92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91F94-1F40-428D-90A3-0EF546E36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EDF7F-01A2-46EB-86E3-E26D57390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01E51-CE32-40FB-BB81-050E0B838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9359-B2AD-45D2-BB69-C51655ED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94FF7-17BE-43CB-9B85-30FAF276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6C44F-B51B-45C9-B645-1CDA347F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F37D4-C232-49E6-8C70-D7BA7DD2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B7742-270B-4934-A7E7-AE61CFC7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4027D-3D21-4D73-BF63-2F5AE4C1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78B73-4575-4524-B55E-48A41278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0A585-BA78-462C-ABD2-798D1DC9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F50E2-D260-4B92-89AF-F99EB9C0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DC606-179B-49AA-BCB0-A035EDE5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C4DCF-7598-42C5-9003-4E61EDD4A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773D-9475-4021-97E6-ECA3A193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E4872-DB73-415F-9E28-969C733B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695C3-72CB-4C1E-9B7D-D51AAC12B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69D01-47C2-476F-BA55-8F433D30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5DEE7-8642-497B-B497-CFF4F733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9A097-80DD-47DB-8716-E9DDEB33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092DA-FCEB-4C3B-827E-EC6CEA4A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11484-E381-4D0D-8C0F-DC39BBB9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DEBA2-2270-478E-AA59-A14E9AD2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68099-4B15-492C-AF9C-E5FE2726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C0680-6EB6-4BD0-90F2-303EB79E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437D-84EB-4605-B893-EEFEFB30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635A6-951F-422B-92DB-DF0BAE4B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DF33A-6F2B-4D0D-954D-6055D9C63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E56F2-EAEB-4B78-9401-D65E65AA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08FD7-FE23-4C49-86E2-166F17F6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85FB7-05A1-4C5A-9523-8CD6647B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4D8A5-EF92-4823-B466-09709B7C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C2AF0-CA1B-4E5C-9FB9-E654BFB5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8F2E2-DA47-4672-BF0F-EA33496E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CFCA2-9B2F-47C9-8560-3FA8193D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B5A0C-941C-4BF2-9D8E-8026CF26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D7AB-A008-4A83-8071-007DC4EE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1C4F3-79F5-4999-93E4-7E5D915E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15063-BF4C-4A5D-B219-FD4AB1FE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0D6EC-5906-49F4-B302-DFC91782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39362-A305-451F-A69D-72D272652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44607-6E9A-44D1-82C6-C6F73837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FC31C-9938-4C2B-9190-D0B64620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043DE-8809-4FDA-B0F0-FE908349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91F8E-5534-4895-90ED-E6C2EBA2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7B051-9BBD-45C4-B62B-B42A3308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49410-61C7-4F4E-9E53-FD3F5E0D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1197-B448-4E34-BC31-C6255EA8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3405B-9E75-4973-AB08-AA730F34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391D5-591F-4647-AB98-2EE4022E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FEB12-2A1F-424C-B198-066D734F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68127-A8A1-4E36-A229-EA93B76A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08B98-2D2D-43B1-A2BD-7C5C4634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0B513-9CB0-464D-A99F-2F11FC685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9CAB2-D84A-46A5-85EB-33077ED1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02E2B-E9E3-4D14-9BA5-4743471FC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778C2-9D07-4542-9EA3-92AD6300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CD097-6653-46A7-865A-622B9240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BC96-19C7-4479-940F-2666914A8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272D-E1DD-4B4D-AD69-052518CBED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DD53-5554-4C43-91E0-9586ABA5A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57ED-0890-44ED-AA17-B0BDC5F27D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9816-3B58-4A00-87C2-68B090809E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8338-4706-48EF-B321-2FE68A20C0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C5DC-0E36-423F-AE9E-E4AA43A2D8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1091-F7E1-46BE-895E-E0A1C8AF73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69E1-9A7F-43A2-AF43-141D4FD18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D298-37EC-44DA-A55E-15D86A9F89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5A43-25C1-4607-B310-9D46F3B73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EFD4-9924-46C6-B817-3D43146F87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3828-99BD-4459-838D-16C461DCD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5ABE-6993-4B7C-BC16-24067D124A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5008-5671-4678-B2E5-A4DCBB81D3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B5F4-A6D4-4B4A-B2C4-E29B6E6B3D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60E3-41A4-40BF-8C20-A89E37703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711B-D675-4CEA-B786-E9FF39A59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1E18-D89B-4EC4-9ED6-8FF1A469A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49CD-BAFB-4E78-8467-0512EAEDF5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6006-3C39-44FF-877E-98C6A654E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1311-BF2A-42DF-A296-2DDBB62112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9E06-F173-499C-A4F9-3C4D92142B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7CC8-884D-45FF-B36B-EF3261308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0BC6-9E0C-411E-A3AF-C2C03B9892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EE57-3B10-4C21-B929-1182B68DFD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E30C-AC1F-412C-AA4D-06EB41B1A7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2CB7-F25F-46E0-9FA0-A83E0B97F4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A2B3-F186-4E60-9306-CD9A362F1A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E65A-FE6E-4189-95FD-756601FD4A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WordArt 4"/>
          <p:cNvSpPr txBox="1"/>
          <p:nvPr/>
        </p:nvSpPr>
        <p:spPr>
          <a:xfrm>
            <a:off x="457200" y="380880"/>
            <a:ext cx="4419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Warm Up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228600" y="2057400"/>
            <a:ext cx="82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5-6 minutes – beginning of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6"/>
          <p:cNvSpPr/>
          <p:nvPr/>
        </p:nvSpPr>
        <p:spPr>
          <a:xfrm>
            <a:off x="209520" y="1523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Grammar Skills &amp; Vocabulary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9"/>
          <p:cNvSpPr/>
          <p:nvPr/>
        </p:nvSpPr>
        <p:spPr>
          <a:xfrm>
            <a:off x="0" y="25146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Collected every 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9"/>
          <p:cNvSpPr/>
          <p:nvPr/>
        </p:nvSpPr>
        <p:spPr>
          <a:xfrm>
            <a:off x="0" y="2971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Unexcused Tardy – no mak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9"/>
          <p:cNvSpPr/>
          <p:nvPr/>
        </p:nvSpPr>
        <p:spPr>
          <a:xfrm>
            <a:off x="22860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bsent/Excused Tar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9"/>
          <p:cNvSpPr/>
          <p:nvPr/>
        </p:nvSpPr>
        <p:spPr>
          <a:xfrm>
            <a:off x="3505320" y="35053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-- write that day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’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9"/>
          <p:cNvSpPr/>
          <p:nvPr/>
        </p:nvSpPr>
        <p:spPr>
          <a:xfrm>
            <a:off x="3581280" y="39625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-- A (absent) or ET (excused tar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9"/>
          <p:cNvSpPr/>
          <p:nvPr/>
        </p:nvSpPr>
        <p:spPr>
          <a:xfrm>
            <a:off x="0" y="46483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opy another student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’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 warm ups = no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Text Box 5"/>
          <p:cNvSpPr/>
          <p:nvPr/>
        </p:nvSpPr>
        <p:spPr>
          <a:xfrm>
            <a:off x="0" y="838080"/>
            <a:ext cx="82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Litera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9"/>
          <p:cNvSpPr/>
          <p:nvPr/>
        </p:nvSpPr>
        <p:spPr>
          <a:xfrm>
            <a:off x="-228600" y="14479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male domin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9"/>
          <p:cNvSpPr/>
          <p:nvPr/>
        </p:nvSpPr>
        <p:spPr>
          <a:xfrm>
            <a:off x="-228600" y="19810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reflect their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9"/>
          <p:cNvSpPr/>
          <p:nvPr/>
        </p:nvSpPr>
        <p:spPr>
          <a:xfrm>
            <a:off x="-304920" y="3124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oral not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9"/>
          <p:cNvSpPr/>
          <p:nvPr/>
        </p:nvSpPr>
        <p:spPr>
          <a:xfrm>
            <a:off x="3276720" y="312408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-- scops/bards (storytell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9"/>
          <p:cNvSpPr/>
          <p:nvPr/>
        </p:nvSpPr>
        <p:spPr>
          <a:xfrm>
            <a:off x="3733920" y="36576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 = to warri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9"/>
          <p:cNvSpPr/>
          <p:nvPr/>
        </p:nvSpPr>
        <p:spPr>
          <a:xfrm>
            <a:off x="3733920" y="4191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offer immortality &amp; teach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9"/>
          <p:cNvSpPr/>
          <p:nvPr/>
        </p:nvSpPr>
        <p:spPr>
          <a:xfrm>
            <a:off x="0" y="2590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extol (praise) warrior virt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 Box 6"/>
          <p:cNvSpPr/>
          <p:nvPr/>
        </p:nvSpPr>
        <p:spPr>
          <a:xfrm>
            <a:off x="20952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KING ALFRED OF WESSEX – ALFRED THE 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9"/>
          <p:cNvSpPr/>
          <p:nvPr/>
        </p:nvSpPr>
        <p:spPr>
          <a:xfrm>
            <a:off x="0" y="9144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1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united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9"/>
          <p:cNvSpPr/>
          <p:nvPr/>
        </p:nvSpPr>
        <p:spPr>
          <a:xfrm>
            <a:off x="0" y="13716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Christia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9"/>
          <p:cNvSpPr/>
          <p:nvPr/>
        </p:nvSpPr>
        <p:spPr>
          <a:xfrm>
            <a:off x="0" y="1828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stop D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9"/>
          <p:cNvSpPr/>
          <p:nvPr/>
        </p:nvSpPr>
        <p:spPr>
          <a:xfrm>
            <a:off x="0" y="24382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2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i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Anglo-Saxon Chron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9"/>
          <p:cNvSpPr/>
          <p:nvPr/>
        </p:nvSpPr>
        <p:spPr>
          <a:xfrm>
            <a:off x="0" y="28954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history of England – early days to 11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9"/>
          <p:cNvSpPr/>
          <p:nvPr/>
        </p:nvSpPr>
        <p:spPr>
          <a:xfrm>
            <a:off x="0" y="33526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still referenced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9"/>
          <p:cNvSpPr/>
          <p:nvPr/>
        </p:nvSpPr>
        <p:spPr>
          <a:xfrm>
            <a:off x="0" y="38862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3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English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9"/>
          <p:cNvSpPr/>
          <p:nvPr/>
        </p:nvSpPr>
        <p:spPr>
          <a:xfrm>
            <a:off x="0" y="43434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predominantly sp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9"/>
          <p:cNvSpPr/>
          <p:nvPr/>
        </p:nvSpPr>
        <p:spPr>
          <a:xfrm>
            <a:off x="0" y="48006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now written –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nglo-Saxon Chron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9"/>
          <p:cNvSpPr/>
          <p:nvPr/>
        </p:nvSpPr>
        <p:spPr>
          <a:xfrm>
            <a:off x="1295280" y="5176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language not respected until it</a:t>
            </a:r>
            <a:r>
              <a:rPr b="1" lang="ja-JP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’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s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6"/>
          <p:cNvSpPr/>
          <p:nvPr/>
        </p:nvSpPr>
        <p:spPr>
          <a:xfrm>
            <a:off x="20952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ANGLO-SAXON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9"/>
          <p:cNvSpPr/>
          <p:nvPr/>
        </p:nvSpPr>
        <p:spPr>
          <a:xfrm>
            <a:off x="0" y="9144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1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not expected 2B subserv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9"/>
          <p:cNvSpPr/>
          <p:nvPr/>
        </p:nvSpPr>
        <p:spPr>
          <a:xfrm>
            <a:off x="0" y="17524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2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had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9"/>
          <p:cNvSpPr/>
          <p:nvPr/>
        </p:nvSpPr>
        <p:spPr>
          <a:xfrm>
            <a:off x="0" y="22096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could inherit &amp; hold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9"/>
          <p:cNvSpPr/>
          <p:nvPr/>
        </p:nvSpPr>
        <p:spPr>
          <a:xfrm>
            <a:off x="0" y="2666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dowry (morgengifu) – substantial gift of $ and/or land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groom gives to b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2"/>
          <p:cNvSpPr/>
          <p:nvPr/>
        </p:nvSpPr>
        <p:spPr>
          <a:xfrm>
            <a:off x="0" y="0"/>
            <a:ext cx="9144000" cy="8942760"/>
          </a:xfrm>
          <a:prstGeom prst="rect">
            <a:avLst/>
          </a:prstGeom>
          <a:gradFill rotWithShape="0">
            <a:gsLst>
              <a:gs pos="0">
                <a:srgbClr val="000076"/>
              </a:gs>
              <a:gs pos="50000">
                <a:srgbClr val="0000ff"/>
              </a:gs>
              <a:gs pos="100000">
                <a:srgbClr val="0000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rm Up #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cabulary Lis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tence Com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/28/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great British poets are quoted so often that their words now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m 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poets use the ideas and styles of previous writers, their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ntion is not to ________ but to build on and reinterpret th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st.  Occasionally, however, a poet has been accused of stea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WordArt 4"/>
          <p:cNvSpPr txBox="1"/>
          <p:nvPr/>
        </p:nvSpPr>
        <p:spPr>
          <a:xfrm>
            <a:off x="914400" y="1143000"/>
            <a:ext cx="708660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nglo-Sax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449-106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WordArt 4"/>
          <p:cNvSpPr txBox="1"/>
          <p:nvPr/>
        </p:nvSpPr>
        <p:spPr>
          <a:xfrm>
            <a:off x="457200" y="380880"/>
            <a:ext cx="6553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4 influential  Invad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16" name="Text Box 5"/>
          <p:cNvSpPr/>
          <p:nvPr/>
        </p:nvSpPr>
        <p:spPr>
          <a:xfrm>
            <a:off x="228600" y="2286000"/>
            <a:ext cx="82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*name island Great Bri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6"/>
          <p:cNvSpPr/>
          <p:nvPr/>
        </p:nvSpPr>
        <p:spPr>
          <a:xfrm>
            <a:off x="209520" y="19051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CE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9"/>
          <p:cNvSpPr/>
          <p:nvPr/>
        </p:nvSpPr>
        <p:spPr>
          <a:xfrm>
            <a:off x="0" y="27432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religion – Animism (Latin for spir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9"/>
          <p:cNvSpPr/>
          <p:nvPr/>
        </p:nvSpPr>
        <p:spPr>
          <a:xfrm>
            <a:off x="0" y="32004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spirits everywhere; control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9"/>
          <p:cNvSpPr/>
          <p:nvPr/>
        </p:nvSpPr>
        <p:spPr>
          <a:xfrm>
            <a:off x="0" y="36576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Stonehenge – Druids (pries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9"/>
          <p:cNvSpPr/>
          <p:nvPr/>
        </p:nvSpPr>
        <p:spPr>
          <a:xfrm>
            <a:off x="0" y="40384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myth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9"/>
          <p:cNvSpPr/>
          <p:nvPr/>
        </p:nvSpPr>
        <p:spPr>
          <a:xfrm>
            <a:off x="0" y="44956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fierce women; enchanting &amp; b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9"/>
          <p:cNvSpPr/>
          <p:nvPr/>
        </p:nvSpPr>
        <p:spPr>
          <a:xfrm>
            <a:off x="0" y="4876920"/>
            <a:ext cx="824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influence later Irish &amp; English wri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(Sir Thomas Malory &amp; William Butler Yea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0" y="57913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language -- Gae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5"/>
          <p:cNvSpPr/>
          <p:nvPr/>
        </p:nvSpPr>
        <p:spPr>
          <a:xfrm>
            <a:off x="228600" y="1295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6"/>
          <p:cNvSpPr/>
          <p:nvPr/>
        </p:nvSpPr>
        <p:spPr>
          <a:xfrm>
            <a:off x="209520" y="7621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RO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9"/>
          <p:cNvSpPr/>
          <p:nvPr/>
        </p:nvSpPr>
        <p:spPr>
          <a:xfrm>
            <a:off x="2666880" y="12952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stop invaders for several hundred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9"/>
          <p:cNvSpPr/>
          <p:nvPr/>
        </p:nvSpPr>
        <p:spPr>
          <a:xfrm>
            <a:off x="2743200" y="17524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departure = chaos &amp; Anglo- Saxons con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5"/>
          <p:cNvSpPr/>
          <p:nvPr/>
        </p:nvSpPr>
        <p:spPr>
          <a:xfrm>
            <a:off x="0" y="2438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9"/>
          <p:cNvSpPr/>
          <p:nvPr/>
        </p:nvSpPr>
        <p:spPr>
          <a:xfrm>
            <a:off x="2438280" y="24382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defensive wall (Hadrian</a:t>
            </a:r>
            <a:r>
              <a:rPr b="1" lang="ja-JP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’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s w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9"/>
          <p:cNvSpPr/>
          <p:nvPr/>
        </p:nvSpPr>
        <p:spPr>
          <a:xfrm>
            <a:off x="2514600" y="28954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built network of 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5"/>
          <p:cNvSpPr/>
          <p:nvPr/>
        </p:nvSpPr>
        <p:spPr>
          <a:xfrm>
            <a:off x="0" y="3505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9"/>
          <p:cNvSpPr/>
          <p:nvPr/>
        </p:nvSpPr>
        <p:spPr>
          <a:xfrm>
            <a:off x="2438280" y="35053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organized centralized gov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5"/>
          <p:cNvSpPr/>
          <p:nvPr/>
        </p:nvSpPr>
        <p:spPr>
          <a:xfrm>
            <a:off x="0" y="4114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9"/>
          <p:cNvSpPr/>
          <p:nvPr/>
        </p:nvSpPr>
        <p:spPr>
          <a:xfrm>
            <a:off x="2438280" y="4114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introduce Christia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5"/>
          <p:cNvSpPr/>
          <p:nvPr/>
        </p:nvSpPr>
        <p:spPr>
          <a:xfrm>
            <a:off x="0" y="4724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9"/>
          <p:cNvSpPr/>
          <p:nvPr/>
        </p:nvSpPr>
        <p:spPr>
          <a:xfrm>
            <a:off x="2438280" y="47242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La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6"/>
          <p:cNvSpPr/>
          <p:nvPr/>
        </p:nvSpPr>
        <p:spPr>
          <a:xfrm>
            <a:off x="209520" y="685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ANGLO-SAX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9"/>
          <p:cNvSpPr/>
          <p:nvPr/>
        </p:nvSpPr>
        <p:spPr>
          <a:xfrm>
            <a:off x="0" y="12193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Germanic ori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9"/>
          <p:cNvSpPr/>
          <p:nvPr/>
        </p:nvSpPr>
        <p:spPr>
          <a:xfrm>
            <a:off x="0" y="16765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</a:t>
            </a:r>
            <a:r>
              <a:rPr b="1" i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Beowulf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sounds more German than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9"/>
          <p:cNvSpPr/>
          <p:nvPr/>
        </p:nvSpPr>
        <p:spPr>
          <a:xfrm>
            <a:off x="0" y="21337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language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9"/>
          <p:cNvSpPr/>
          <p:nvPr/>
        </p:nvSpPr>
        <p:spPr>
          <a:xfrm>
            <a:off x="0" y="25909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German + Gaelic + Latin = Old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9"/>
          <p:cNvSpPr/>
          <p:nvPr/>
        </p:nvSpPr>
        <p:spPr>
          <a:xfrm>
            <a:off x="0" y="31240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religion – Warrior 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6"/>
          <p:cNvSpPr/>
          <p:nvPr/>
        </p:nvSpPr>
        <p:spPr>
          <a:xfrm>
            <a:off x="304920" y="3733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VIKINGS &amp; NOR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9"/>
          <p:cNvSpPr/>
          <p:nvPr/>
        </p:nvSpPr>
        <p:spPr>
          <a:xfrm>
            <a:off x="0" y="41911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ended Anglo-Saxon do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9"/>
          <p:cNvSpPr/>
          <p:nvPr/>
        </p:nvSpPr>
        <p:spPr>
          <a:xfrm>
            <a:off x="0" y="47242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1066 Battle of Hastings – William the Conque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9"/>
          <p:cNvSpPr/>
          <p:nvPr/>
        </p:nvSpPr>
        <p:spPr>
          <a:xfrm>
            <a:off x="0" y="5181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Duke of Normandy (Fren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9"/>
          <p:cNvSpPr/>
          <p:nvPr/>
        </p:nvSpPr>
        <p:spPr>
          <a:xfrm>
            <a:off x="0" y="5562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Viking des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 Box 2"/>
          <p:cNvSpPr/>
          <p:nvPr/>
        </p:nvSpPr>
        <p:spPr>
          <a:xfrm>
            <a:off x="0" y="0"/>
            <a:ext cx="9144000" cy="7875720"/>
          </a:xfrm>
          <a:prstGeom prst="rect">
            <a:avLst/>
          </a:prstGeom>
          <a:gradFill rotWithShape="0">
            <a:gsLst>
              <a:gs pos="0">
                <a:srgbClr val="000076"/>
              </a:gs>
              <a:gs pos="50000">
                <a:srgbClr val="0000ff"/>
              </a:gs>
              <a:gs pos="100000">
                <a:srgbClr val="0000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rm Up 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cabulary Lis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tence Com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/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oems are so joyful that they are almost ecstatic; other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so sad that they could be considered 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one would accuse Sir Francis Bacon of being _______.  He wa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smooth talker, but his statements and his writing had sub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WordArt 4"/>
          <p:cNvSpPr txBox="1"/>
          <p:nvPr/>
        </p:nvSpPr>
        <p:spPr>
          <a:xfrm>
            <a:off x="457200" y="380880"/>
            <a:ext cx="6553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nglo-Saxon Engl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51" name="Text Box 5"/>
          <p:cNvSpPr/>
          <p:nvPr/>
        </p:nvSpPr>
        <p:spPr>
          <a:xfrm>
            <a:off x="228600" y="2362320"/>
            <a:ext cx="82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Tribal Government (initi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6"/>
          <p:cNvSpPr/>
          <p:nvPr/>
        </p:nvSpPr>
        <p:spPr>
          <a:xfrm>
            <a:off x="209520" y="16765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*influenced  by harsh climate; centered on surv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9"/>
          <p:cNvSpPr/>
          <p:nvPr/>
        </p:nvSpPr>
        <p:spPr>
          <a:xfrm>
            <a:off x="0" y="28195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strong leader w/council of wise e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9"/>
          <p:cNvSpPr/>
          <p:nvPr/>
        </p:nvSpPr>
        <p:spPr>
          <a:xfrm>
            <a:off x="0" y="32767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rule by cons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9"/>
          <p:cNvSpPr/>
          <p:nvPr/>
        </p:nvSpPr>
        <p:spPr>
          <a:xfrm>
            <a:off x="0" y="4114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2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Occupations – Social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9"/>
          <p:cNvSpPr/>
          <p:nvPr/>
        </p:nvSpPr>
        <p:spPr>
          <a:xfrm>
            <a:off x="0" y="45720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Warriors – highest social standing; tribe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’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9"/>
          <p:cNvSpPr/>
          <p:nvPr/>
        </p:nvSpPr>
        <p:spPr>
          <a:xfrm>
            <a:off x="0" y="49528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Craftsman – weaponry &amp; jewel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9"/>
          <p:cNvSpPr/>
          <p:nvPr/>
        </p:nvSpPr>
        <p:spPr>
          <a:xfrm>
            <a:off x="0" y="54100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Farmers – unskilled labo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 Box 5"/>
          <p:cNvSpPr/>
          <p:nvPr/>
        </p:nvSpPr>
        <p:spPr>
          <a:xfrm>
            <a:off x="0" y="838080"/>
            <a:ext cx="82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Religion – Christianity &amp; paganism co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9"/>
          <p:cNvSpPr/>
          <p:nvPr/>
        </p:nvSpPr>
        <p:spPr>
          <a:xfrm>
            <a:off x="-228600" y="12952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Christianity -- monas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9"/>
          <p:cNvSpPr/>
          <p:nvPr/>
        </p:nvSpPr>
        <p:spPr>
          <a:xfrm>
            <a:off x="-228600" y="17524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shelter &amp;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9"/>
          <p:cNvSpPr/>
          <p:nvPr/>
        </p:nvSpPr>
        <p:spPr>
          <a:xfrm>
            <a:off x="-228600" y="2971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paganism – dark &amp; hop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9"/>
          <p:cNvSpPr/>
          <p:nvPr/>
        </p:nvSpPr>
        <p:spPr>
          <a:xfrm>
            <a:off x="-228600" y="342900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no control own destiny (predestin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9"/>
          <p:cNvSpPr/>
          <p:nvPr/>
        </p:nvSpPr>
        <p:spPr>
          <a:xfrm>
            <a:off x="0" y="38862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no after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9"/>
          <p:cNvSpPr/>
          <p:nvPr/>
        </p:nvSpPr>
        <p:spPr>
          <a:xfrm>
            <a:off x="0" y="4343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morality code – 4 Warrior Virt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9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learning – preserve Greek &amp; Latin litera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9"/>
          <p:cNvSpPr/>
          <p:nvPr/>
        </p:nvSpPr>
        <p:spPr>
          <a:xfrm>
            <a:off x="0" y="4876920"/>
            <a:ext cx="93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braver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gen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oyalt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friend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9:26:14Z</dcterms:created>
  <dc:creator>Jennifer Finkenhagen</dc:creator>
  <dc:description/>
  <dc:language>en-US</dc:language>
  <cp:lastModifiedBy>Finkenhagen, Jennifer</cp:lastModifiedBy>
  <dcterms:modified xsi:type="dcterms:W3CDTF">2012-08-28T15:33:05Z</dcterms:modified>
  <cp:revision>24</cp:revision>
  <dc:subject/>
  <dc:title>Slide 1</dc:title>
</cp:coreProperties>
</file>