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F222-0570-4BD0-B2D6-B6F44C446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AD0-3445-4B5F-B29F-0E836C484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BC50-36EB-4189-AE87-A5238D29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7F9-B720-44D7-8A8C-B1B385C6A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AAA-63E4-44C4-9213-0783E15B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5B35-C8DB-4AF2-8A4C-CD1E94D25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C6C9-167B-4B01-8B6A-F04644A63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6A0E-7C42-4C86-A29E-4AE661FA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2A0-8171-4B91-A522-A1AAB3BF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8BE7-A37D-46A6-9C28-CA09C9351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3BC9-48AE-41AE-AA3C-04B48C71B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EB8-F962-4DB6-BA0E-255D3690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DC3-973B-4F09-B667-1FD9E41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C2A64-523D-491D-B85F-261BC7E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AB3F4-3939-4C07-B568-BA4FE6D2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7871B-B541-4345-A2A2-78CA304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7E82D-908F-4AE8-8623-EE63653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64A31-2566-4C04-BC5F-6D0947A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BB5BB-7A5F-4441-BF07-65CB033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39D0E-E814-4494-BD74-50DE53D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45C8E-28B0-4411-8079-CA80EDC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9D483-9A28-485C-801E-36D9AB74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625F9-7F7D-4D7B-8814-75F75986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981-996E-45A6-B04A-FFEA24C7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0EC3B-1E07-4C8F-99E4-5ED8850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F9489-EAF9-4696-B88B-75DE4F2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BE1B3-B85A-4199-9AA3-0BE4BA4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F108F-5435-4361-B1BC-5656B63F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FB1A8-E4FE-43A9-BCC3-365A7F9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4EFEF-F9DE-4EE0-976D-F7E6F44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3D358-134A-4D34-AF31-5BFF8F6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3408B-50BA-46E5-9901-04D4292D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78B4-F73F-43A5-8FF1-AE59B8EB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97138-6DA3-44AC-A2E0-ECEBAD8F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2B2-87CF-43F8-AD71-2CAA7ADE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9857-4651-4D46-A017-987A2A2A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7B3D0-C6D8-4DE9-9F7B-28FB5E5E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C6779-2720-483C-B318-2DA15A4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CDB6B-09EA-48B0-92A1-1750384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D3D0E-0B24-48B6-8B35-DE970DC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98F3B-5EB1-45F3-93D4-1EB67210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CC5E2-8FA5-43B0-98D1-328B9CE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42522-348C-41B5-AC19-ACFC7694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4145-C3B9-4996-9D97-163CB40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C9E8E-F702-4BA6-9736-BC153CA3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5CD-EC94-4BF8-B242-49B8ACAC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4CDB3-E127-4119-8F4C-AA1F935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2C7F-D2D1-4DAD-9837-6494B9A3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13B1-C83A-4978-A61B-FCA57B73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52F9D-9DC3-4DFB-BEFB-691A180E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468DA-B70D-4C6F-B04D-DCE0AD28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0CD99-928A-4E09-B9A2-FCD122CD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9AD0A-1F0B-4F63-A0EF-9F87B989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3AA8-EBF5-4A40-88CE-F07848DB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A15D8-298C-4FE9-82CC-0525A469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94406-E4B6-4D3A-B752-FD55664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6EA5-AC8D-4525-A101-E096C977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1A2CD-DDBA-4438-9560-8F2D462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F862A-5DD4-4479-A67F-17F41FE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D767F-D2CE-4597-ACD5-8170B62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04734-E0AB-482A-BCE6-C8D9B5F9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1FDFF-F50F-4625-BF19-3AC39F2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64BEB-CC6F-49CD-A87A-4780A5E9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C5722-07D3-457E-942A-D182F8D2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92EEF-E3C0-459F-8842-DA88F2C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652B2-722C-4B6C-80B6-E2B298E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98866-B307-4397-8A33-50F7CF4B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5CA-2B90-4459-B88F-7344C77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CA0F7-E37C-4EA5-BE25-E6273F6F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A393A-674D-4725-BB89-FB7D1F5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3A15B-3103-4C94-93C6-BA29C123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7DEBE-2C68-4B63-9696-A6F1968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701F4-4A5D-42A9-AD4A-29641B2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2C7AC-DCE3-42F1-842F-E0C6C705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47552-3B4D-4852-9F40-D18E8384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87507-21EB-441E-866C-4B8865A6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C65F1-1014-4207-B088-FC08CCB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8D413-9FD5-495D-B521-55641A0A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6A7-BE31-43A2-B593-7B92240A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08DC4-1AEC-4C36-A32E-BA1086BE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57EE5-C214-41FD-958B-F307C1C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DD7C7-30CF-43D6-A8CF-9B522A73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8AD69-0697-4AA8-BB8A-F49CEE7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1957A-D5B5-4453-9F5C-1F9E560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2C1F9-4666-4E7F-A0EC-8FF2A447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2B53F-3FBA-4B9A-A701-29605EB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EC09F-A8DE-48CA-A6D0-125BA074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340C8-1F33-45E0-BA03-6E455937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FDBEE-8B5A-43B2-80DB-9974D7DB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6CCE-10E5-4B7A-B02C-A984F6B9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D155E-6DFB-494E-AEB6-5E1C0A8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BD973-4E32-4517-BAAF-60E1ADBC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B7F28-E3EF-48EE-90CC-1FE71B92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F6981-5999-4967-842E-9AFA24D4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834F1-FB52-4213-A9A3-856CF606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0EC37-6C1F-4349-8FBD-F0D0EBE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D81CB-B583-4BB8-A7F3-9FC9F79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F031F-1AFC-48A2-9CA0-FC5C92D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06050-65D1-4F0E-837B-6EDBA61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D52FD-2981-4B56-9EB4-C956BB89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7DEA-69B9-489E-B2BB-88FBB5E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BB9C1-F34A-4068-B5EE-0E91E6E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D402E-C990-4316-BE47-F37C9E02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D72B8-DF66-4056-A825-BAA385A1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268429-F38D-48E5-854A-5DCDB7F8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4C197-78DD-4A84-AEAC-475B2922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80757-2B3E-4C8C-B9A6-C22234F8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7D48C-ABDF-474A-9F57-62932F6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B6DC7-D897-4615-A088-8427E6FB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74BA0-5C11-401B-B083-5E820F0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D4A86-ECC2-497F-B9A3-A92712F1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CC29-3AE8-45DA-941C-B9A9D32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33633-8DCC-431D-82A2-C6796963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1B784-5F2B-47AC-AC8B-F13D0C58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033B7-5491-4BCE-AB0E-2085F8DC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EC418-F4D0-4F70-9885-840FABDF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DE93A-1B97-45C7-8CD2-13B9D07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5191E-BC3A-4F3C-9210-6AC7CEB9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0B6E6-C9C6-4937-A3D4-71ED4DB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E09BD-CC08-4B58-AF8E-D4ABFAC5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BA690-CCC1-4DD4-AD82-99AA14A1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6FE1D-21AC-4231-B976-B6640B3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EE-0268-4C27-A39E-D86A755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4B2-D76D-49BF-A203-F9D89930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F7AD1-3ED2-450E-BA09-9E608E3A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8108E-6146-42FF-9809-BCBEFC9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E21C3-8D76-4F0D-B27D-C6B0F5C9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60110-336A-465D-97C6-1B9A06C9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B065D-8F06-4540-8B3E-B23A1B0C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24B-489D-4DEF-97C3-2C621221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0610-8170-4FE6-8880-AF348FFD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E87-6C0E-408D-85D7-BFF52D7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2A1-33DC-4B3C-8D72-F81E13FD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320E-1978-4A32-AAA8-49D1CEEC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F9B0-2294-4AC5-B2F2-1ED7F54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4578-496E-4924-B36F-1ED312DF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6DE6-EC9F-4788-ADBF-87E98CBA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C06A-A22F-48BB-814C-3C96145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3C2-5D6B-40BA-9967-562C0C9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A48F-3CFA-4D2F-B1DD-0D82B1D9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5890-5368-4948-812D-7D6485D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CAC0-32DB-414E-8B58-EF66F34C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CFEC-C1C7-4B59-A821-68B1C16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D4E6-C266-4884-AB67-D8611B1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9383-9580-4CCA-989B-4E5959E4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384F-B6E9-4E26-9591-48674406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A0E8C-5B0D-4DFA-81E8-7FC190A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FB29-CF67-44E4-8A3E-42808BDE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EA9F-905D-4752-80D4-70A82A5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0D1-8FF2-4399-94C4-3F11333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002A-FADC-4781-9F54-A9908402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5611-407C-440C-B1FD-CF142B0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9361-FCF2-4E30-AD8F-0FB1D8E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AD14-4F95-482A-8CAE-7589530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8152-190D-4CD1-9FE4-FD47AF1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0705-D752-4156-99DC-8892D97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596C-C4E2-4730-AF10-BD2E722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EC8C-2852-4EF3-BAF6-C5A85093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3469-E22F-43FB-B0D2-A00E75B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5F67-8519-4062-9469-5DFB0ACA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EDC-4777-47E3-AB84-721419C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458F-BEA5-4FBC-AA8C-4869E180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43BC-C476-4630-AD59-293CD9A7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AFD60-D412-4E33-9716-AFB557B4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C495-58E9-47B1-9F5A-986D2C3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26949-6334-4DC0-B662-D5EF81B3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52BE-6B26-4621-9B95-E1A080E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CC2DB-0F91-4696-8526-4B32ECE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6EC68-4FDA-4B88-B8A8-FA041F6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4D5F-011D-4E87-A3E4-DE7FA604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41D4D-260B-48D7-8349-D2EB5BC9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C3C-435B-40FE-9D0A-05D11731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634C-A506-48A4-A20D-65C029A1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B8A9A-939D-40BE-B66A-DC82226D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2B3C-8DFA-407F-9951-7974A90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A34C-1EDA-42C5-BCC7-A925B26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44BA-955F-45DB-9971-8268A53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75DCE-6419-4D9C-9D12-F0F849A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102CF-2777-43E2-87A5-CB14D8E8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DEB9-B603-44B0-ABAB-760E9EE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4A02-734E-4B1A-9FC8-0BD31F4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618C-31E0-4218-872B-308AFD1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78E-BF31-4A38-8AB1-47506FAD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C142F-622A-4553-A838-A7E420FC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119D-DE13-4C1D-B996-59A14C20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87C95-3A95-49EE-B116-81F9C1C9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04E28-C8F3-498D-99EC-0D584482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A705-B356-434C-A003-59C36E70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F7E7-6A26-498C-B930-9A73134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2597-2A9D-4FD3-BDFD-C46F7FA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0F758-B168-4F80-9544-ED9132E4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D2F0-0A82-4A09-B380-B000BF2C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70A2-EB01-4857-9E47-1994AFC6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B9A-7BC2-4B17-A87B-A5F590C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00BBA-7773-46DB-B6CD-BBDAAA2D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8CB10-50C7-4589-9948-6D665BF6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1714-818C-4F8E-B173-E42837C3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95FF-DC6A-431B-9703-EA135C1E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9F172-EE63-4921-829D-F4068232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6C1F-902E-41D9-AEE5-A647DA90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3B53A-7EEA-4809-9CA2-95E01CD7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3BA8A-9C59-4168-B976-8E50ABF9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CD27-0D2B-4E1D-B876-CE04426F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13F3-A180-4B77-8E81-A5CEFDDB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0A5-A739-4A0A-B4FD-E716A25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A32EF-532C-422C-9E3A-14C4E0EF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68063-DBCB-404D-96E1-8FA04C3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C931-3700-410A-9501-3C12474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9A38-8D21-49E3-8F37-D77E8891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AC561-6186-4D35-B898-E3E3435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62FA3-7142-456B-B66E-37C1241C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2A3BB-F330-410A-866E-85BD29BF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F63C7-78D1-4023-80D6-481572AB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082C8-6F6B-4B89-A798-8BDA0D2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B1B44-B4D6-4D58-810F-37D041F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BB04-3C63-4842-A99D-21DB7813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E86C-36E0-440A-BFB0-FFE342DDA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CF97-7E7B-460B-8CE3-95846EB33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73C1-7DB8-473E-BF1F-BDFCC5627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DB85-A098-4857-AD72-F6BFA6A06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821-B151-4A12-BB19-40A58BBAF6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BBFF-7C32-45EE-9A18-F6CE77079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0F5-200F-43FE-AD0B-87057CD29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C56-8055-49F5-923E-79C35236F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0AAB-364D-45D2-8DB1-E4B9D777BF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A885-F7D2-45EF-9178-C519E4165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46BC-5CA0-4257-B8BC-CBDE34ED2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F87B-476E-46E3-9B8A-86E9830A5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1AC8-5AFB-4584-ABCE-09CD6A57B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3E6F-8A87-470F-AA9E-07DA13972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4CE8-9572-49B9-B9DA-B6453F7C0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3641-ED09-4B66-AA85-805BCAE64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FF0-9264-44E0-AA57-A8714F743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B747-4671-4463-BFCD-D7C795D6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75C-E987-48BB-9FEC-6ED8B36BB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A506-61E6-46D6-AE95-521FC068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B1C8-2DCE-4F1C-B543-C9E2CD113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FBE-783E-4E39-A073-6B7A5F492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B8F-77D6-41CD-A694-44F8DD99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4BD-219C-4633-8D01-193E84B77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970F-8091-4346-A810-AC90780B5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B5A9-7295-49E4-AD8C-0CD87723A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CBE9-CF28-469E-9354-476FB83DE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1A7-83AB-4541-B9B1-B4ED6E02C2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2A7-4EFE-4415-A8A6-16A7A8FEF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4"/>
          <p:cNvSpPr txBox="1"/>
          <p:nvPr/>
        </p:nvSpPr>
        <p:spPr>
          <a:xfrm>
            <a:off x="457200" y="380880"/>
            <a:ext cx="4419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rm Up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228600" y="20574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-6 minutes – beginning of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0952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Grammar Skills &amp; Vocabular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llected every 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excused Tardy – no m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22860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bsent/Excused T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3505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e that da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3581280" y="3962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A (absent) or ET (excused tar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0" y="4648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py another student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warm ups = no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-228600" y="1447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male domin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-22860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flect thei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-30492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ral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3276720" y="31240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scops/bards (storytell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9"/>
          <p:cNvSpPr/>
          <p:nvPr/>
        </p:nvSpPr>
        <p:spPr>
          <a:xfrm>
            <a:off x="373392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 = to warr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373392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offer immortality &amp; teach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xtol (praise)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KING ALFRED OF WESSEX – ALFRED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united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0" y="1371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9"/>
          <p:cNvSpPr/>
          <p:nvPr/>
        </p:nvSpPr>
        <p:spPr>
          <a:xfrm>
            <a:off x="0" y="1828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p D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history of England – early days to 1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0" y="3352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ill referenced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nglish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0" y="4343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edominantly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0" y="4800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w written –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lo-Saxon Chron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/>
          <p:cNvSpPr/>
          <p:nvPr/>
        </p:nvSpPr>
        <p:spPr>
          <a:xfrm>
            <a:off x="1295280" y="5176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nguage not respected until it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6"/>
          <p:cNvSpPr/>
          <p:nvPr/>
        </p:nvSpPr>
        <p:spPr>
          <a:xfrm>
            <a:off x="209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0" y="914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not expected 2B subserv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ha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0" y="2209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ould inherit &amp; hold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owry (morgengifu) – substantial gift of $ and/or l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oom gives to b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9144000" cy="89427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8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great British poets are quoted so often that their words now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oets use the ideas and styles of previous writers, thei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ion is not to ________ but to build on and reinterpret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t.  Occasionally, however, a poet has been accused of stea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4"/>
          <p:cNvSpPr txBox="1"/>
          <p:nvPr/>
        </p:nvSpPr>
        <p:spPr>
          <a:xfrm>
            <a:off x="914400" y="1143000"/>
            <a:ext cx="70866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49-106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4 influential  Invade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228600" y="22860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name island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2095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C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0" y="2743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eligion – Animism (Latin for spir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0" y="3200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pirits everywhere; control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0" y="3657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Stonehenge – Druids (prie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0" y="4038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yt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0" y="44956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ierce women; enchanting &amp;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0" y="48769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influence later Irish &amp; English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Sir Thomas Malory &amp; William Butler Y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0" y="5791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-- Gae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22860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09520" y="762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266688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top invaders for several hundre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27432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parture = chaos &amp; Anglo- Saxons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0" y="2438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2438280" y="2438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defensive wall (Hadrian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2514600" y="2895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built network of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2438280" y="3505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organized centralized gov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introduce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243828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L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"/>
          <p:cNvSpPr/>
          <p:nvPr/>
        </p:nvSpPr>
        <p:spPr>
          <a:xfrm>
            <a:off x="20952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NGLO-SAX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ermanic ori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</a:t>
            </a:r>
            <a:r>
              <a:rPr b="1" i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Beowulf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sounds more German tha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9"/>
          <p:cNvSpPr/>
          <p:nvPr/>
        </p:nvSpPr>
        <p:spPr>
          <a:xfrm>
            <a:off x="0" y="2133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0" y="25909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German + Gaelic + Latin =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9"/>
          <p:cNvSpPr/>
          <p:nvPr/>
        </p:nvSpPr>
        <p:spPr>
          <a:xfrm>
            <a:off x="0" y="3124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religion – Warrior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6"/>
          <p:cNvSpPr/>
          <p:nvPr/>
        </p:nvSpPr>
        <p:spPr>
          <a:xfrm>
            <a:off x="30492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VIKINGS &amp; 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0" y="4191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ended Anglo-Saxon do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0" y="4724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1066 Battle of Hastings – William the Conqu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Duke of Normandy (Fre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Viking des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9144000" cy="787572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m Up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oems are so joyful that they are almost ecstatic; other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so sad that they could be considered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would accuse Sir Francis Bacon of being _______.  He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ooth talker, but his statements and his writing had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Eng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228600" y="23623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ibal Government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209520" y="1676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influenced  by harsh climate; centered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trong leader w/council of wise e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rule by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Occupations – Soc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Warriors – highest social standing; tribe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raftsman – weaponry &amp; jewe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Farmers – unskilled lab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5"/>
          <p:cNvSpPr/>
          <p:nvPr/>
        </p:nvSpPr>
        <p:spPr>
          <a:xfrm>
            <a:off x="0" y="83808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Religion – Christianity &amp; paganism co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-228600" y="12952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Christianity -- monas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-228600" y="1752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shelter &amp;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9"/>
          <p:cNvSpPr/>
          <p:nvPr/>
        </p:nvSpPr>
        <p:spPr>
          <a:xfrm>
            <a:off x="-228600" y="2971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aganism – dark &amp; hop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-228600" y="34290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control own destiny (predesti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9"/>
          <p:cNvSpPr/>
          <p:nvPr/>
        </p:nvSpPr>
        <p:spPr>
          <a:xfrm>
            <a:off x="0" y="3886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no after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0" y="4343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morality code – 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learning – preserve Greek &amp; Latin lit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8769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8T15:33:05Z</dcterms:modified>
  <cp:revision>24</cp:revision>
  <dc:subject/>
  <dc:title>Slide 1</dc:title>
</cp:coreProperties>
</file>