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4A0-C5ED-48CE-BE78-167775A47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F0F-0C4D-4FA2-B042-2DAC176A6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C5C-AEA3-44BA-B28D-318C1CA51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A7E-D816-4EEB-B35B-EF6CD8C13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4F7A-36BD-496D-A537-36BDAE75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1863-1A0E-4770-B5B5-9980634F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374-6CF9-48D6-A1DE-E71A26AD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233-473F-4561-9C18-FD5768BA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97D-6D35-4E5F-8113-15E8CBCB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FD0-632F-4A1C-AFD0-DEAF306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67FF9-8DB4-4660-82AA-FD3E268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3D097-1C0C-473D-A2C1-991B73B4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62D1F-2ABA-4536-BE98-9CD4B605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B61A6-E3ED-4E5B-8FB9-AEB857A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7A240-40D3-4177-A30F-6959E1D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6835F-26BC-4873-975F-C976A678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E928F-8655-4E51-BCA2-1A5E847C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09A18-100B-408A-8100-064B2873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028F-F839-42D4-9695-5E7A78E7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10CCF-8A98-420E-94F8-C8B45F76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A46-5A1C-407D-B720-7BDFDD27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75F2B-1179-4D48-95C0-687F61EC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78A1B-4E5D-4A2F-A930-0DD5D10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84476-ED3E-4748-9436-CE27A2C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AE62A-7F90-42B8-85F5-2B3FFC1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ED99C-2F68-4F3E-95D7-09B94566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C36B9-291C-46EA-939D-0C9B903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F2514-E0F6-452D-8946-8B13C1B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C3B02-6ECC-44EF-8280-C092811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E0A6F-4F07-4DA7-9B90-B9492945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F61C2-C3B7-4BE0-B158-7F98D130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41B-7FCB-4041-9C04-3F468F94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757E3-BD82-4641-A50E-3B4745B4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E24B-F806-4534-AB34-A198D7D4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DB4E-39A3-42DF-B1A4-19BCFF23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E0D65-C7F0-4486-AA51-3CA6C563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1E717-7976-4BEE-B4D4-0F02C947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61E06-7D81-42A0-BED9-84C2795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BA195-80E0-41F7-8094-FBC3A8B6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05AE5-A2D2-4A1D-AA6A-8C3B2C9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F70ED-D16E-451C-9DB1-283CD0A2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959E1-E9E3-40D8-B399-75C47A79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ABA7-7C6A-4C1C-A077-DD4D3278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23DE-2542-483F-81FF-07515554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8B87F-6D6B-485C-B956-35EBB4C0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3A562-E335-4644-9EF7-CFD5BBFE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A3283-CC33-484B-AC56-77364B17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ACB60-9F66-4B12-8913-CE18534E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A5A86-960D-4273-ABFB-013ACE35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F603D-B3BB-4E74-A727-3F8503E8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6F9FF-D059-4689-8F8C-BE44B80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A219D-45FD-42B9-8298-3B439D28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0683A-61D0-4081-BCFF-8059FAB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547-8CF4-4376-97EB-8A14E2E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CF62C-DC7C-4052-B82B-10F909F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2BAA0-D5EF-4E7B-8BFF-D02B4CB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3192A-7DF5-480B-890F-7C3300F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8941A-CCE6-4A7B-8246-BF9A1528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1F155-AFB4-4109-811D-842BD628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BD8C5-D34A-4332-901B-37F9C9F8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330B9-74C2-472A-83C2-D83D87F6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D1FFF-1111-4D4B-B90B-AD247FE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46510-E6C6-4BCE-9F0D-0E7BE10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40BB6-774B-49EA-BD62-2D9DC790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3A4A-7118-4243-9936-DAD592E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A8AF8-F698-4E19-A397-F7053DD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76D6A-4E5E-4E40-8DF9-491CE41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7F78A-32D3-463E-B42C-1CC8783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D03B3-3DAA-48AA-B55D-0B87747C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BCAF4-6A16-4488-A63C-A45271F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5494B-F8F7-4E82-BB66-E1CF0F1F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C79FF-6B75-46FE-AF77-5E9B834C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9A18-91FA-4098-8ECE-70122D73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7BB-012D-4E5B-83A5-C8A39BFC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DBB3-EF66-4D3E-98DA-5F5456C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3F1-E9F1-4027-9DD2-26F1924D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60B-BBA7-45C7-A5F9-22AD0E22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9CC2-6603-4833-B3A0-988C014B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E73F-9428-4274-853E-38BAC2B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C3B3-3A66-4B7B-9187-D4D4A363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2BF4-BF90-4B55-9857-32CEF20E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9437-A8A4-4652-A19D-9E4C2C2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550F-49DC-486B-8C38-2812AB2B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A22D-6221-488D-A709-1CAC0615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5B61-B77A-4608-B1FA-73B80DE0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3C26-5D12-4442-82EB-78294F0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A7A2-F69D-4386-8123-226EA59E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905-2610-4B35-A5C1-DEE37B18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F088-8E5C-475F-A4EC-869752C6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FB5C-3F4F-4B39-8E4D-95FF8B2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C9D6-6002-4496-917E-DB0D1F58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2E0F-D5C3-4AFD-A249-A63E41C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436D-4BCC-4EE0-BBBC-146AABBD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7613-701C-48E0-AA1D-7471CCEA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E44A-8E53-4DD1-8EFB-8588CD43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0116-9EDB-410C-836A-F1B76AEA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B447-F442-4527-8BD0-E070EEAE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CCC7-E054-493E-9FFD-DD03041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A5C-C5A1-4638-B937-76EE169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E1A5-D1A3-49C0-89FD-EFA90869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94CC-CC17-47D0-BA3F-0C0922F6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0D4F8-D612-4006-BC84-147E5F0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FBF1-FD57-4899-80AF-0C4CEF5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DF85-A2CD-4AD9-8A46-C122AD5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9618-B81A-45CF-9B94-C183B9D7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4D17-3AE6-4DD7-96DD-B63C224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805F-C711-47EA-B831-72E6F521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EC42-B1F0-4B5D-A04F-60E71C91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6060-2B9E-4B5F-8B86-43A1278E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2B9-2B67-4ED6-AC91-09EBA3D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3AA6-9114-4D90-B39A-F691321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662CC-CC3B-4021-9E41-0CBD63D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1BF4-FD86-4654-A2E6-E5E47FCA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7ED69-9293-46AF-80DB-EAC58370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DD9E-6504-442A-BB27-15D5F5E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9E1EC-E780-4028-AE00-F8E2882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A4B5-F05E-4A56-A5D8-17EA8E7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2A00-667C-47DF-BC61-0B1C297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2E03-6A07-4BAB-9098-A18B414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0D7EA-2A97-430F-A62C-D82B75CB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ACA-2F28-4528-866D-F96381F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D205E-6A75-46FF-8C03-BEFCC47B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DACA2-EA6C-4322-940F-2FE3A71B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68F8-2D6E-4FB4-9F92-700E322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D350A-5D1A-40B1-AB0A-A80C0380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40AC-D1A7-445F-AA64-682797B3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4E78C-9739-4149-96DE-6A88C136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EA547-13FC-4C67-BB99-30ECD10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01F7-2D19-4DA1-8DDB-9695F7FE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242E-F139-4098-B7FC-3BE74A8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E0BE-DE45-42D8-BD1D-C998A39C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022-2C92-4142-9E46-7F47468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3CF1-500C-462F-B1D5-54FAF794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BA089-64EA-43C8-AB47-BEB487BC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DF3F-0174-4718-B550-40B8BAAD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C7C3-E713-4917-A8EC-2BC6C635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001F-20A9-4D61-B6CC-6A06B42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6EB2-7DC3-474C-9F89-B0276C7B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A738-E64C-43CA-83F0-5100826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51672-962F-4DE0-B698-32BCAFF2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3D97F-496E-450D-AD31-1D3E8AAA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F8E9-2ED7-498A-8A47-F4BC73F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8DF-9532-45E3-BD00-C13E2393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0BC85-BA1E-4DA9-998C-58B670B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9CA6-20D0-4782-81ED-F5A00A8A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1BBC6-8049-49E8-A288-6B4F85D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DE01-51EE-4079-8C24-55B3D6CB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DD15-AA01-4433-97C9-16CEFCAB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E0AF4-8CD1-4F21-914D-7F64C3BE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D97B4-4FFC-4AB8-B7F2-BF9A299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6F1D-DA3B-441E-999E-2ED31ED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4AE7-3EC9-41F0-BF27-66EFFB4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5A4DA-A4E6-4EBA-9016-C0B0B5C1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708-8666-4A25-9972-C47F628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D529-041C-46B7-8717-4B2F2255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8C2E-103E-49CF-96D8-259977BC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5F5C-B483-4FE2-A33E-6F0A573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BEE8E-4A77-4A3F-AC40-9C505D83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BB71-334E-400F-BB2A-7254422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0A788-3B06-436F-B3FF-6B269D90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C961D-201C-4FBD-8B49-E5F0E24B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3F17E-D2E8-4E8E-A09E-C157AB12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F329-65DC-499D-97D5-C22591BA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CE07-2B50-4EE0-9384-9616AB8C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6EF-AA7D-44DD-A6C9-3FE27CB90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9B07-9FD3-4641-A59E-FA048809F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F5B9-CD6F-4C11-B82D-F93180E76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F9A2-AEA8-4D66-A0B6-C4C22A7366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C9B7-1E0B-4FB8-9A1E-0A029FBBA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558-2AB2-4A93-AFBE-30C3C042E8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11EC-9B75-4BE9-96CD-15407E9FD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E9E4-D739-4F00-BF0D-7FA2E86F7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959B-59A7-41AC-8260-4891EA254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699-560E-485F-BCF5-FB4EBD1EE3A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8D79-F04D-41DB-AA03-B87FA21E6DB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4CA-2AE3-4325-A39F-58DAB5C3A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9788-29D0-4304-A8AD-393BF3FA9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A75B-D45C-4277-9882-EFE2D40D4C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4CE-254F-4F32-A386-7381BE759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D626-9FA3-4F4B-9131-81E40F58E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E7C-3792-4D13-82B9-E4E14DF7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008A-2E2B-465A-B1E6-AF3DDBF0B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17CD-313F-4FE8-AE47-E26F67426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7D0-8B6D-4FA7-B348-604C44961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0564-FF5E-4A29-8917-A19033DB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AE54-8460-4C7F-B875-DA27FF81A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ADB5-B52F-4055-9BE2-19C12C5ED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DA2-F525-4A97-A817-AEAC4857D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24F-5E1A-4DE7-9B64-E8E9089DD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0"/>
            <a:ext cx="9144000" cy="818064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rm Up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xander Pope who, although small and physically weak,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ten aggressive and _________ in his writing, using words alm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weap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people regard time as their ___________, unceasing in i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rsuit and always victori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4"/>
          <p:cNvSpPr txBox="1"/>
          <p:nvPr/>
        </p:nvSpPr>
        <p:spPr>
          <a:xfrm>
            <a:off x="914400" y="6094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624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’s Impor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581280" y="16002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setting = 6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century (5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09520" y="16002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reflects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581280" y="2057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ten = 700-750 -- m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0" y="2666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storical basis – Beowulf = real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0" y="3352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mbodies characteristics of traditional Anglo-Saxon po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ork – English National Literature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glish e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5181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–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blending of pagan &amp; Christia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use of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pic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209520" y="1905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76520" y="1905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honorable, ethical, intelligent, b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60020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noble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60020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historic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67652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quest/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962520" y="3352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dangerous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96252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reflects his societ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0" y="4267080"/>
            <a:ext cx="93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      battle of good v.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      villains – evil &amp; hid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      elements of the super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.      poetic language: 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505320" y="914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good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243828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ause/break in a line of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213372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repetition of initial identical consonant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51460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bloody battle-weary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hrase used to describe a person/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etry Te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243828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follows what it desc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438280" y="5029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      Beowulf, defender o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5"/>
          <p:cNvSpPr/>
          <p:nvPr/>
        </p:nvSpPr>
        <p:spPr>
          <a:xfrm>
            <a:off x="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Ke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43828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condensed 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243828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ometimes used as an 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8088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wn Arrow 12"/>
          <p:cNvSpPr/>
          <p:nvPr/>
        </p:nvSpPr>
        <p:spPr>
          <a:xfrm>
            <a:off x="685800" y="2133720"/>
            <a:ext cx="838080" cy="725400"/>
          </a:xfrm>
          <a:prstGeom prst="downArrow">
            <a:avLst>
              <a:gd name="adj1" fmla="val 73583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wn Arrow 18"/>
          <p:cNvSpPr/>
          <p:nvPr/>
        </p:nvSpPr>
        <p:spPr>
          <a:xfrm>
            <a:off x="838080" y="1676520"/>
            <a:ext cx="484200" cy="693720"/>
          </a:xfrm>
          <a:prstGeom prst="downArrow">
            <a:avLst>
              <a:gd name="adj1" fmla="val 97167"/>
              <a:gd name="adj2" fmla="val 500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808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58128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urr-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4100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380880" y="3581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repo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3581280" y="3581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iv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410080" y="3657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SIDEWALK  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80880" y="4495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oss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3581280" y="4495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louds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o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2578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MOUNTAIN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28600" y="19051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R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0" y="2362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otector of tr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uardian of warrior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EAT HALL  (MEAD H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rotection;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w &amp; order – counci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elebration – bards/scops ent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9T19:56:25Z</dcterms:modified>
  <cp:revision>23</cp:revision>
  <dc:subject/>
  <dc:title>Slide 1</dc:title>
</cp:coreProperties>
</file>