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AF5D-D532-4DA8-9B82-6CF9AFA8B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4FBD-19FE-4DB6-8799-21A5FC662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E430-30B2-4180-B67F-E851F9A4F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ADFE-7109-4369-A4F3-9F5513016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FF8F-DB63-4CBE-B91C-F0F2E228E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1A55-8137-4A7B-A175-8295D2C79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E631-B769-4C63-8866-C65A57F22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3ECD-3216-430C-91D8-9699648F1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F0C-63C5-4966-81BF-698FEAC1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4EE-AF56-4D16-A9FD-7D8D7D70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DD4AE-5A47-44D2-A580-21D917C8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17BFC-5AF2-4BCF-B07F-B7C0FECD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96C02-6C37-49C8-8ECD-40331AF7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B0201-61CD-4223-839B-FF746C5A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7D47E-F86C-4581-83C5-8F7B4FE9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89AC2-2E20-46E2-B744-CCCC9323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26576-93A3-44A8-ADED-3F38ABD1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B8842-200B-42A0-990F-D976BBD8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95220-7504-4F5A-95D3-B7E94ABC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6AB2D-22B1-44B7-B844-10C9BF28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CFB-48E3-440F-A794-3A7FCC54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CFD88-5648-4072-A305-3BA337C9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46D98-498D-4ABC-BEEC-53B658C6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8BD2B-CF54-47A1-8FED-678187C1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1D9AC-5836-4C13-A10A-F162F366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BFDDF-AE70-43A2-A6C1-A1A31609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2889E-28F1-4A5D-817D-26CAF31C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F94C6-2A19-4F4C-BD5C-02BA466B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957C8-D672-4E9E-9DC8-759F25C9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78A20-141B-4B61-B53A-1E55B14D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AA5D9-B1D7-43B7-BDDE-44AF38AC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4C1-8138-4DB5-A0C5-0CAB0053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012F9-C54C-44B6-B792-408F2A02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745D1-291F-4E85-800B-207241D0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16F07-E1E9-49B5-86C1-98EF8A7A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F26A2-F663-4EAA-A1E5-4748D128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633FB-6559-4FDE-8C3B-7526C9DE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88881-22F4-4330-AA9B-C7C91CAB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55A98-2089-4F32-8CA1-7C575F37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A25F8-42B5-447C-8E57-EA0FE79A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A7EC8-F38C-4B62-9C6C-0CCD9228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4B9A1-B7BE-4517-A0C9-5F38C08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9954-8741-47CD-B55A-2E17B818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4AF22-444B-4646-BB87-F9A65194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A607B-A7C7-4232-8798-5AEB22AF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AD511-349F-40F3-BC30-C31F338A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BF554-57DB-4B55-8C8C-C62575E4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B415C-1BDA-4EA9-A284-A1A052BA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30296-ECB8-49B5-8874-D56C3161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00B77-0AB5-492F-872B-BFAFE645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9D994-FF28-405B-93A8-DC860CCC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37CC4-5A57-4950-80B6-874DA71E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0CACE-5192-4B85-BD48-E9818813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7DEB-0A6E-46B0-9CF8-92288BAE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4CF80-C8F3-45F4-B5A5-9E12586F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4F229-8319-4AA8-B9ED-629A5193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144C8-915C-484A-8565-6ACDE5CA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8AD5E-B273-4543-90A6-BEF31E0E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249E7-87B2-430E-8FAC-28849B86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8D1EA-5A26-4536-99EC-5DDC7C5C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3E388-3D57-400F-8FB2-81377BF7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8E41E-E233-4CF3-887D-7A1332C2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E7340-172F-404F-991C-30DC0E6B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DD9C2-606C-4B9B-A9F9-EF29CB7D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512A-FEC5-474F-935D-B8B2BBC5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FD735-1D23-4925-964E-0B9C1167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DC992-473C-4D9C-B95B-3CFB605F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01C62-E998-409B-8AD4-795AF5B6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8B377-E997-46E2-8692-2331EDAF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EFCAEC-5861-4A3A-A75C-00319912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B3B15-226B-44A2-A326-53084EC5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602C6-2B83-45C0-B04A-A21B40CD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0305-C467-414D-8DB2-F8CF4771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C9A5-0B45-42D1-ADAD-F18FC1DA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587C-09D4-4BDB-8102-AF61113A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4587-C598-41E2-B33B-5C4460E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4FF-2770-4289-B21E-8100D839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4D18-3001-4096-9505-2680B9CC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F877-7C38-4B76-A993-55631688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6EF2-A112-4EF0-9A44-ADDEC568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0DCA-BEAB-474D-AEAC-296025CC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7F30-56F0-40F2-8BA4-C4697BAF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80C9-33FD-4002-A29C-BABB7674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365D-443F-4C72-B5E3-F173FCED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FC88-DEC9-43FB-A675-7D586A5E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1138E-2E18-44E1-89C7-F9E412EA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8AF1-B1E3-48BD-A9AC-C0ED8170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257-0529-4211-8B26-5838F262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A9F10-3BB2-4F5F-A648-CDB2A7FF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DF012-CA1C-4D3C-95E2-91695BDB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91D6D-E9CA-449F-9198-440CC218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E5C07-26FA-4ECF-AD04-2A530FBB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4BF5D-EBFD-4BB9-BF13-46E7E6B2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7DAE-6F06-4290-9762-5AAEBDB9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A6E5-35F1-4CDF-841A-0AE02C01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194CD-E49A-46AF-A533-9F7101DF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A648A-7CB9-4B3E-A1D9-7D170259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E60C3-C9CC-4138-A35B-D1F754EA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CBA-D71A-49E6-957E-26312FC8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F2B8C-53CB-4AF9-97F3-9B349DB2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7E8EC-2F12-4481-9915-4ABD35C9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7204A-9951-4A05-88CC-F8B87B5B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E7B0B-1676-4728-8317-9EDD33B4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421A0-F15F-4635-BD52-0953A7E4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9E534-F3FC-472C-BC0F-A4A02004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FA374-6D3F-4137-AB15-01A66644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75EA3-5315-4503-95FE-D819257E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66B30-4A7D-4376-B9D8-1FB60F17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A4890-6BE6-4790-A44A-A9A06E09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B1A-165A-4A95-A37C-3F4FB59C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DE97F-6DE6-479B-B0D0-2BFE8284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2CF64-22B3-41B5-8FFB-CB421940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F3E33-88D6-4A64-B872-21C84BF5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E18F9-1324-4ABB-B13C-76451B8F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5C03D-BEDD-4A93-A0D1-4C70D21C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CA50C-C953-4488-8086-3C8C7A6E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1AF43-ADF4-44C8-B06D-3BE65851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2A0B5-2A48-4377-851D-A7B6DF28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FCA51-3D96-49CC-9456-48CB1AA2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13307-7A2E-4861-9663-A34B2912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FEC-21A6-4641-BD97-448DE2F6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626C6-F90C-4324-A413-A5B321E7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288FE-63E7-473A-A565-B92A7F6F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8A9A1-BC5A-44D6-8EBC-D15E6B5C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28EE6-2031-4EA6-9A03-60F3CF96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B6631-B230-4CBA-B0C8-5738D00B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2E0B3-D52F-4A59-B414-F76E37B5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929D4-B878-415A-B78C-0A4519D6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72D49-EB94-44B0-9F4C-16C904E6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57E04-4403-4DC7-AB7B-C5BBB1C2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BAD41-DDBD-475E-B347-F33D5CDA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BA5-1EA1-4D7C-BE12-4A6B8796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588EC-7E13-4697-B7E0-F9F4AD36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818D2-6410-4F81-A498-AC57D4FF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67272-1133-46FB-9EE1-0A65726C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EC957-0EA0-411A-A6B4-13436EDD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1CC79-53A4-49F4-8902-8A043A66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F3237-5D75-4735-9212-C5483477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0862E-9245-4B7A-A20C-55C71D64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7061D-2F04-42A9-9247-E346A090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BB676-8C98-4EEB-8EB8-927DAC2B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5B189-412B-4489-BD3A-42060037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F46-3396-47BB-969F-0FAC25CE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7B0A1-F348-4078-9934-9085C5F8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13524-7E7E-471E-BF8C-18CD491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8360A-91AE-4AD6-899B-566CF119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167CD-1CDE-49A4-AC3B-5D51FC41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DF405-BA7C-4ABA-BB88-F427FDEE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48F20-E67C-4EFC-BAAB-1AE62884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13436-2EA0-4745-8837-E3EE8D36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848AD-D717-4B9C-947E-3A1B7189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203A5-389A-429A-AEF7-F2BE8DEF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A1E80-746C-475D-942C-B59FB675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DDD-064F-49AE-A5DE-052AF4FB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83024-7191-46F9-8304-78D5CA16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96497-E3D8-4DDB-88DB-B8D11330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7ADB3-2A7E-4CDB-A226-F882C805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07FA9-3450-47C9-B29B-D929157D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F187D-9F39-434C-8675-45D2E271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5C0D4-8A55-4BE8-B3E4-30868734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FE831-F8CB-485F-BD68-C4436406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60C21-94CA-4B7F-BA2E-48EDDE4B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CB300-42A3-401C-9E05-6D502DC6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BA66D-7417-4594-A3C1-1FA2EC62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F44F-1C69-4735-82A3-2FB17D89B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8632-7AE2-4158-A1EF-5C44E72CAA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7F01-536D-48A8-B269-55168007F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3355-7FB2-4907-B6E0-DBE032E2B8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2CCB-4EB6-4C0E-9DB7-B09ECF81D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5AF5-63D5-4F9C-8CD0-1A0F9043D1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1B10-4C6D-4F50-90C3-9492AE107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D95E-7866-4B6C-A752-D3D99590E8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F8C8-A0D5-48E2-8424-DF3DFC0AD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AD5A-FF32-46E7-8BAA-EAED9CCD7C48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5ECC-46E7-421E-AA4B-CD7DA118CBB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00F3-49C1-4B3A-8F42-12563A55E7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FD3E-AE2F-4A65-8C17-CAD23DC1F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0C2B-C95C-44E9-A69E-9EA23A7E7C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037B-FB83-497C-9406-81092FBC6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40C7-8BDF-4979-A67E-7CA9268005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1F5B-BDD0-4508-91CE-F52CFEAD4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7BA3-E24C-4C8B-8CF1-79BB7F6066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4BA5-7CD5-4607-8C34-32E3ABDED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1EE4-12DF-445B-8742-0BD9E25394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4145-51DC-4B40-92F4-C58D59DE0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CBE8-F285-4F8B-BB59-9C5A913D8A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9136-2131-4D7A-BAA1-D956BCEFF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CD8F-8B9B-449B-A091-A99AE901A1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F7CE-CE35-4EEC-AE1E-D0251A5BC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0" y="0"/>
            <a:ext cx="9144000" cy="818064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rm Up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cabulary Lis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/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exander Pope who, although small and physically weak, wa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ten aggressive and _________ in his writing, using words alm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s weap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me people regard time as their ___________, unceasing in it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rsuit and always victori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WordArt 4"/>
          <p:cNvSpPr txBox="1"/>
          <p:nvPr/>
        </p:nvSpPr>
        <p:spPr>
          <a:xfrm>
            <a:off x="914400" y="60948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eowulf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5624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eowulf’s Import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581280" y="16002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-- setting = 6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century (5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209520" y="160020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      reflects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3581280" y="2057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written = 700-750 -- mo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0" y="26668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historical basis – Beowulf = real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0" y="3352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mbodies characteristics of traditional Anglo-Saxon poe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0" y="4800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4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ork – English National Literature (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nglish ep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0" y="5181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nguage – Old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0" y="3809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blending of pagan &amp; Christian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0" y="419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use of alliteration, kennings, epithets, cae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pic Characteris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209520" y="19051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      h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1676520" y="19051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honorable, ethical, intelligent, b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160020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noble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1600200" y="28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historic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1676520" y="33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quest/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962520" y="33526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dangerous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3962520" y="3809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reflects his society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0" y="4267080"/>
            <a:ext cx="937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4 Warrior Virt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rave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en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yal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rien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6"/>
          <p:cNvSpPr/>
          <p:nvPr/>
        </p:nvSpPr>
        <p:spPr>
          <a:xfrm>
            <a:off x="0" y="914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2.      battle of good v.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0" y="1523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3.      villains – evil &amp; hid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4.      elements of the super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0" y="2743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5.      poetic language:  alliteration, kennings, epithets, cae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3505320" y="914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-- good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5"/>
          <p:cNvSpPr/>
          <p:nvPr/>
        </p:nvSpPr>
        <p:spPr>
          <a:xfrm>
            <a:off x="304920" y="1981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ae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2438280" y="1981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pause/break in a line of po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0" y="2819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All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2133720" y="2819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repetition of initial identical consonant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2514600" y="3276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EX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bloody battle-weary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Epit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243828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phrase used to describe a person/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oetry Ter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2438280" y="45720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follows what it desc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2438280" y="5029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EX.      Beowulf, defender of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5"/>
          <p:cNvSpPr/>
          <p:nvPr/>
        </p:nvSpPr>
        <p:spPr>
          <a:xfrm>
            <a:off x="0" y="1219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Ke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2438280" y="1219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condensed metap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2438280" y="1676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sometimes used as an epit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80880" y="2514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Down Arrow 12"/>
          <p:cNvSpPr/>
          <p:nvPr/>
        </p:nvSpPr>
        <p:spPr>
          <a:xfrm>
            <a:off x="685800" y="2133720"/>
            <a:ext cx="838080" cy="725400"/>
          </a:xfrm>
          <a:prstGeom prst="downArrow">
            <a:avLst>
              <a:gd name="adj1" fmla="val 73583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Down Arrow 18"/>
          <p:cNvSpPr/>
          <p:nvPr/>
        </p:nvSpPr>
        <p:spPr>
          <a:xfrm>
            <a:off x="838080" y="1676520"/>
            <a:ext cx="484200" cy="693720"/>
          </a:xfrm>
          <a:prstGeom prst="downArrow">
            <a:avLst>
              <a:gd name="adj1" fmla="val 97167"/>
              <a:gd name="adj2" fmla="val 5003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380880" y="30481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ompound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358128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purr-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54100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= 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380880" y="35812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preposi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3581280" y="3581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river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5410080" y="36576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= SIDEWALK  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HIG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380880" y="4495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posses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3581280" y="4495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louds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ro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5257800" y="4495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= MOUNTAIN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glo-Saxon Symbo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228600" y="190512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RA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0" y="2362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protector of tr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9"/>
          <p:cNvSpPr/>
          <p:nvPr/>
        </p:nvSpPr>
        <p:spPr>
          <a:xfrm>
            <a:off x="0" y="2819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guardian of warrior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 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GREAT HALL  (MEAD H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0" y="45720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protection;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0" y="49528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w &amp; order – council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0" y="5410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celebration – bards/scops ent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0" y="3276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9:26:14Z</dcterms:created>
  <dc:creator>Jennifer Finkenhagen</dc:creator>
  <dc:description/>
  <dc:language>en-US</dc:language>
  <cp:lastModifiedBy>Finkenhagen, Jennifer</cp:lastModifiedBy>
  <dcterms:modified xsi:type="dcterms:W3CDTF">2012-08-29T19:56:25Z</dcterms:modified>
  <cp:revision>23</cp:revision>
  <dc:subject/>
  <dc:title>Slide 1</dc:title>
</cp:coreProperties>
</file>