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8F9-3BD5-46AE-9808-2D855DFC6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34A-A6F5-4196-849E-36A8BAB9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C62-96FF-4D82-A5F3-25601B6E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6BE8-EB5A-446F-9954-40689E970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B2C-1ACF-42BC-8B4B-AF168977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FE2-1EC9-4039-BFEB-B9A734CFE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5B42-27CA-44B4-AD64-B91FE241D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DC2-3307-4453-83A7-97ADF0B7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36C-9871-4F72-8E0E-58BF00AD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81B-31A5-4A13-816D-F5E91FE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85D46-3BFA-4C1E-9015-9C8D2D5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41E58-35C9-4BDC-9340-B180FD22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D838C-B059-4860-B77D-8E2D9AB5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7A1F-580A-4267-B326-46D4816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B32FA-BA14-4208-839B-5645E31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5DA55-3D34-4134-B36F-ED835DF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56FA8-6CDF-4B8C-8732-A0A0B6D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349B6-E4E3-4B7C-BE71-26394F76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5FAF-73BC-4912-8F1E-8C57E41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04F99-87B8-49B8-A935-D0E477C2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AD1-11F7-4117-B79E-E9CCBFFF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D08C-2E7C-4921-8DDA-07DC1C7A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4FE8B-BBAD-4CEB-8CA7-8E72CE2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D1A24-E9F7-4C52-AA70-9AC435A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74A4E-602B-4DD0-A77D-591303A7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38CF3-1EF6-4416-9398-3BF2E33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ACAFA-8893-4383-91B4-D823ED3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402D-78A8-48AC-8B98-1CE946E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1120C-01E3-48B2-AA64-9BC42F9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12C36-77D7-462A-8B16-496E8566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A7CE9-16CD-438A-94E1-880CF724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713-A9C5-4939-A92A-C208F81A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53635-C47A-4934-8F97-BDA1EE58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1B57-2CB7-49C8-9FAB-E38FD440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0BF9-4C31-422E-8CE7-3CAF1BC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E8B92-9767-4BF6-94E5-5585E24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7B38-639C-4E04-AD7A-45BEC48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225BE-6B3F-430D-BEE7-E6FC683B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E2351-FA0F-466C-A54F-B9489E1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707B0-B5C5-4A5B-B3C9-9CB303F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C8E3-010B-46D5-9E38-271981E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B62FB-E4C7-4C65-915C-CCFB1BD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10FD-DBBF-4A5E-AF78-B0ED4B7C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DA6A-7E19-4296-822E-DA9E5AB1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1993-60AA-46E4-A047-4E6863B9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39BE-4061-410B-9B16-BA413425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B91A0-6593-4DEB-8ECC-717A2DA5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46269-3335-4EEC-A30D-739BD196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46600-0C8D-4AA9-A25D-DE291AAF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542AB-CDEC-424A-B1F2-0C8006B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843A-A200-4F30-B1FA-DC8289D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2CF12-6988-4F02-92A6-8F5AD340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6B592-D2CF-47ED-AF0E-568156B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F768-9EF8-4195-82B1-87E0E54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53662-75DD-4404-9FE3-C86B5D8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82EE0-4889-4780-A0D1-D7C9BBA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C6B9A-14C1-4891-8297-72B7A2A6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B942C-4DD2-4744-8C71-EDD424E3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89564-1F00-4ECB-89EE-5946DC34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4F7F8-F0BF-4508-915E-0ED672AD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B402D-ED9D-44C6-B7B8-CECBAF9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F6A56-8885-4749-B505-7D18CB9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4ABD3-6668-4889-80E6-D80E3AD7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1615F-5AB2-4CF4-AE83-5FE943B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73D-DD2F-471C-A019-F514B970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33025-E082-4631-A891-9421F3B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78644-9490-4121-A648-C2B44CD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465A3-BA91-414E-ABEB-4694EA3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5CE4B-B2BA-441A-9C3C-D8395BF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B919A-F4F4-4FFE-BC81-934C7489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3A043-3747-47C9-BF9A-A46EA431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58968-CFD4-4584-9E2A-8C66A657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FCE-DD00-4456-9066-96ABD655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D39-D593-47C7-88C1-AB9BC3D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CD72-7D80-4141-BFAF-05137CE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FE07-DE15-47EF-97BE-5501181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CF1-75ED-4F93-AE79-57CCEA2D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BF0-E640-47D3-8BD3-4ECB018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96FA-3473-4F27-90B2-857C8BA6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34BC-0C92-402A-959B-3ED9A8DA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5C6-5894-4141-9403-1F8814CC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2E66-0BC0-43AC-99BF-A59FCE5E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59C0-1599-4B15-949B-3BF713D9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2BC1-64F8-4C58-A1B0-0B8B8CE8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EA8A-B4BF-4B76-AF1D-B91BB7BB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A9EDC-460D-4764-B162-AA2DD868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C7AB-5DEC-4C00-A25D-0236342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D25-5BBD-40F7-BA81-234F6D6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F012-22E9-42A8-8B6B-6E0CEEF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7D88-CB9F-4499-B560-B517C34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D3E2-9249-4B19-9CCB-F273E4E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4EB9-F7CD-4E0A-98CC-5FD6619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83F7-0A0B-4453-9E78-FC6F2F76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DDFB-B237-40DA-8E7E-C4E9B222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0E21-0236-4EF1-ADE9-B0312DCE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AB0B-F034-4E22-883E-2F2BE655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E3FB-4DA4-4D51-BBEE-D192028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372B-636D-4BCE-82A9-27F6CA7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261-7AD3-46A0-9009-E5F71696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21C8-6CD6-4764-82EE-00F45C5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90AE-EBFB-4647-9E92-DDC0C1F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8D26-9E34-4A5C-AF98-D0F0FE7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4D25-AB53-497F-A5FA-14E6DAD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BD70-AEAB-4531-9024-8C5605C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E286-A6B8-445A-BA93-37A68B6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2254-99C0-4CBB-9D7B-D4D2C12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F3E6-9FEE-4924-BE3D-4DCCCB4C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7588-F2BE-4C6A-AF89-A78C7675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1D76-392E-4C00-8EAD-D609FE63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C15-8576-4626-A642-8556E5A8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E82F-3159-4F35-B7FC-921BBAA0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B19D-67F2-4267-95C7-1DF294AF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960C7-E795-4EAE-AC12-F5AB631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4CB9-1628-459D-895F-8993FA52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8943-DF67-4FF0-BD59-F088D58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5650-CFBF-49A5-8604-2E75C5EB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6FC0-A994-4F69-9B71-E46230A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6B2D-7BDD-46B9-9416-8F24686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5130-FC63-4247-B332-FE07C06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4276-D8A2-4A47-B9E7-321A5BF4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ABA-F97B-462B-BF0B-DC71D60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4390-4AF5-46F4-8FD6-BBBF470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BE874-71E2-40A9-BF2A-09F67087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86A7-8130-4378-B027-F6A0BD0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ECED-20A7-4010-8287-C0E22EA5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BA24-BEBD-4BFB-9E15-5F900A8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31A7-B752-4595-A962-FF77962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A9AA-79BA-49E4-B66B-43739F2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ECC4-2FE2-4FAC-A138-797EDFC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019D-0457-42C7-BFA4-BB03D5A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CB10-A76E-4490-A731-F2482BE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495-C556-44FB-B777-8B85397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A1F1-F6CE-4E1C-80CD-E2D7958F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FD96-32CC-4472-A6CF-A9A530CE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6E22-E94A-4763-BA63-FFB3A2E8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06354-C9F2-4E17-884C-07489E1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96EA-D2F2-476E-8DAA-FF6A31A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6F26-7984-4645-8FC2-74CC27B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0714-7C2C-4C1D-81A2-F0827D1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EDC6A-C5D5-485E-A3B9-5B94C05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7933-1188-4FF6-BC43-CE90B6B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D800-18AB-4F08-A71B-34A4D44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627-D48C-48EB-86AC-6FA8936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C8B5-BF04-4A10-8D9C-5729E45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AE01-06DD-4090-935E-043811C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FF1E-B322-40A3-85B3-5010C79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10602-FF62-49A9-A3B2-58668198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F317-96A6-47FA-99DD-07600C3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2BA07-0EAC-4F85-B259-D9B06C6C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B53E-8ABE-422D-BAFC-915CBEC3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EA82E-5827-436F-B19C-231A848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74A4-7FB9-45FA-8B08-715625B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A043-DF87-4A7E-8B5D-59D0ED2A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DCA-A11F-48F8-9E40-F7AFBB4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ECC0-2BEA-405C-8D6D-4197AAD7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5249-71B0-4D9A-ADE4-B7F106D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72C63-7BB4-49FB-BF85-C0DE147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27D3-C30D-4071-ADF2-EA45176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7A3E7-1F9F-40C5-97AA-3C8ABA2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CA75-E1D2-4E26-89B6-304EC98C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9D8A2-A7C8-4547-BA2E-803AB6EE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AB1B-F739-463E-9AE7-DDD77BAB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51137-5FE4-480A-B42C-43A99085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EC006-9093-4A7B-946C-F68416B8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504-0A47-4F50-BA0F-F2B2159D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F94C-7344-4C90-BDF3-989A193C9D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6029-7F28-4E6E-A28B-4622D8AFD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A8D-9BB4-4A22-8FB0-3B169C063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0AC-6B1E-417C-B575-582BE9C1F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B6AE-D777-4D84-8690-C2A70046E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8E1-06DC-4045-9427-FF12DEE07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BBE-E0F2-40CA-94A9-0873CF75F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E6A-5576-4736-8386-430C2A728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4CE7-B9F0-436E-9C0F-29B3B281F64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F5AE-213D-4001-BDE4-6E9E0A5AB3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37CC-F5F3-4058-8079-D97781C12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4E7-30D9-4985-9091-42DD14E83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77D-FDAC-42EF-A416-13ADAF712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8B43-7AA7-4AAF-9AA3-DC611CB20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6DE-B774-45C4-AB37-1645D82DB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746A-AA6B-45F8-B899-F9118DDF2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C20-CCD6-4CC4-AE57-3CA0D15DD1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D47-A047-442F-A245-F4311469F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D60-F80E-4E3D-B703-F6AE91B12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AC3-DE32-4388-BB03-8A4935415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595A-3E96-4AAB-9F96-F61C421F6A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08C-7ADD-4195-B753-537CD6B23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24D-ECC0-4CB8-9715-078D570036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C62-DC31-4B9D-AA65-1AA9DBE71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9144000" cy="818064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rm Up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xander Pope who, although small and physically weak,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ten aggressive and _________ in his writing, using words alm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eople regard time as their ___________, unceasing in i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rsuit and always victor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914400" y="6094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624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’s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581280" y="16002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setting = 6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entury (5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09520" y="1600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reflects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581280" y="2057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ten = 700-750 -- m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2666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storical basis – Beowulf = rea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0" y="3352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mbodies characteristics of traditional Anglo-Saxon po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ork – English National Literature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glish e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5181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–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blending of pagan &amp; Christia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use of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pic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09520" y="1905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76520" y="1905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honorable, ethical, intelligent, b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6002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noble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60020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historic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67652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quest/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962520" y="3352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dangerous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96252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reflects his societ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4267080"/>
            <a:ext cx="93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      battle of good v.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      villains – evil &amp; hid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      elements of the super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.      poetic language: 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505320" y="914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good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243828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ause/break in a line of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213372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repetition of initial identical consonant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51460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bloody battle-weary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hrase used to describe a person/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etry 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243828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follows what it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438280" y="5029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      Beowulf, defender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5"/>
          <p:cNvSpPr/>
          <p:nvPr/>
        </p:nvSpPr>
        <p:spPr>
          <a:xfrm>
            <a:off x="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43828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condensed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43828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ometimes used as an 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8088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2"/>
          <p:cNvSpPr/>
          <p:nvPr/>
        </p:nvSpPr>
        <p:spPr>
          <a:xfrm>
            <a:off x="685800" y="2133720"/>
            <a:ext cx="838080" cy="725400"/>
          </a:xfrm>
          <a:prstGeom prst="downArrow">
            <a:avLst>
              <a:gd name="adj1" fmla="val 73583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8"/>
          <p:cNvSpPr/>
          <p:nvPr/>
        </p:nvSpPr>
        <p:spPr>
          <a:xfrm>
            <a:off x="838080" y="1676520"/>
            <a:ext cx="484200" cy="693720"/>
          </a:xfrm>
          <a:prstGeom prst="downArrow">
            <a:avLst>
              <a:gd name="adj1" fmla="val 97167"/>
              <a:gd name="adj2" fmla="val 500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808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58128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urr-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4100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380880" y="3581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repo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581280" y="3581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iv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410080" y="3657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SIDEWALK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80880" y="4495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oss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35812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louds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2578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MOUNTAI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8600" y="19051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0" y="2362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otector of tr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uardian of warrior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EAT HALL  (MEAD H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rotection;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w &amp; order – counci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elebration – bards/scops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9T19:56:25Z</dcterms:modified>
  <cp:revision>23</cp:revision>
  <dc:subject/>
  <dc:title>Slide 1</dc:title>
</cp:coreProperties>
</file>