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ECFA-D9EC-45C5-A36E-528022848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E8DF-EBF5-48EB-A9C9-5CD1E00A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27BC-260E-4D89-A2B2-8295995E3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6ED-4B2A-4D4B-8B68-25EC1F80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52C9-54EA-4B94-8F8C-C65B34F88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0089-5ED4-4C42-B87C-A3C527919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6D91-3CDB-4831-8CCC-A839B49DC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8CA8-A58B-4FA6-93BF-30FB80837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858-5ABE-4C99-959E-45772000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328-3712-46A9-946B-FC65C799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A4E3F-9345-4F8E-A2E2-F88A6DB7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5C9CB-6650-48B2-A9DD-B1637D06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61DEF-F703-44CE-AC9B-9718EDFB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66C70-99CA-49CB-A3A9-FBDE999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5663C-01CB-4BCC-B8DF-7793238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1AC87-DE09-4C79-85BC-473F9FC0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5248D-B6E5-42FF-8339-5F31E1CD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80AD4-A581-4D3F-A1C5-B11958B5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A53E4-6917-40CE-AE0D-F57CA946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CA9CD-6F43-4ABA-AE84-21169194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B1A-2A51-422A-A72B-B1E93FD9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2DF2B-3A2A-4080-A3FA-F5C5D14C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4CBB9-04A3-467E-B340-05CC9020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C6958-03FB-458F-B9D1-F2FABC9C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55EE1-B4A5-429B-ACB2-1F7A7D1D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4F23F-22DE-46F3-89FF-5A324D8A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112B7-DFA5-446A-A8B2-CE1FEF00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19B2A-9561-43EF-92E3-9B61F28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2D4E0-F17B-4EDF-965E-AF8BEC4B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FC084-D4FC-4E15-9EBA-1115ACB6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1077A-2FA7-4389-B8EA-29DD74D2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9A6-CB34-4465-95F3-63A91DF9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DEB89-E854-4C0B-8848-D300B05E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E1529-9A50-45D9-BA5B-4DE5F1D9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88905-1BAD-40E6-A612-A02AB1CC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556AF-5806-4041-8A26-26613F8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C57FE-A9CD-4B48-9637-B210B887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9D6E2-70D4-4BAB-AB66-5D0316EF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D5C5B-075D-4730-90F8-C89A6057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42AB-7139-49DD-9CBD-6CDB11DF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3476C-5AF3-433B-9E98-6015741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67E17-462C-49DF-AA6B-28FF812A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D9BB-A9C0-4E29-8811-CEB417BA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185E9-BBDB-482E-9D46-452D6C97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AC8CC-F5A7-4266-BD4F-825F6B1A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63369-907D-4954-B7DD-F8A338C7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83BA2-73B7-4D10-AD0F-96404AEA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6212C-49B6-4083-8DD4-9591954C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AE2F2-0A4A-4100-B64F-3156F751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5F74D-0491-4983-A093-0856326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D5015-2AF7-40D7-8A48-382F0DFA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CADC8-5DCB-4FB3-A6AB-AD6CB98A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35AE1-7B49-44E6-AA96-81931008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22F3-E5E8-49E3-B08B-978C6B86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976FC-C30C-4269-8C1C-CCB3153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A4828-69F1-4312-A014-DE96DC36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52A4E-75B8-4E0F-8D0D-9E75ABE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68CB0-1BC7-4CC2-B4D9-3E5B8214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44156-B9DB-4F07-ACF6-4A5947D5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852B4-8E1F-4C6E-9093-B4D4B2BB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7BABF-D6BA-45FF-962B-7874DCE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DAFEF-178B-4BBC-BC81-96498E35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C13AE-59E2-4A2E-B35A-123AA657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B8DB3-1C4C-40D7-AAE4-9F65A747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F603-7BE9-441F-82CB-A67A6895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6F729-71A5-405A-8B94-A99BA2C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9C227-B34F-4763-A674-2C62397C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E4C45-97DA-45CA-9E42-FAE66DFB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5562B-FA76-40B6-9D3E-7A532B52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1D6E3-A704-413A-99E7-5C161FE9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3D98B-542D-4375-BD4A-63AA83D0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C605D-B78F-49F5-B475-DEFE7886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83EC-48C2-4EE7-B752-A84D44D5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057D-D8FC-44B9-8A5E-DE678C4B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A9AC-F7A0-43DA-8C3C-9AC8FDD1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AC44-A69B-4228-A649-F49A354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B61-AB0E-433C-8C2C-23A73BD9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A8F2-59E7-4CB0-899A-46FF9378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F41C-B07F-4EE4-A811-434460E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330E-D5DC-4FE6-9D41-018C72E8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59F9-E5A0-41A6-AF68-1CF65D33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DBE1-A621-456A-86D4-DFCD8A49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3A71-B5D3-419A-9BED-4D7F03E5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D96E-0CC5-4127-9144-D15C7470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E060-1F25-4D47-A43A-22EDA4B5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733A-7D53-42B8-BE39-1368162D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CB78-CF01-4D39-A005-349A87D5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658-0186-4522-A823-A24D7C14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F048A-A4E8-48C2-9611-D6A8A0D2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85E0-0470-44E7-BC43-604B084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9DC4D-8033-4BAD-96D9-0587E94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57B3-88EF-4F7F-ABA6-9A82638B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8527-4A2F-4178-BBC0-384DAD14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0296-D0C2-4B21-855A-7AE16C84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A527-361D-40C3-8437-9650935D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3622-2D40-468D-A5A3-0FD93579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1814-CBED-4E91-BA09-A6BE1FD1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7913-9F74-4DBA-B607-412DD3B4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19A-F9B8-4D10-873E-10F2AAC2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A005-6A5E-4D58-AEBB-C1B813E0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004E7-3F43-4F0F-9CC4-71DAA927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DADE8-1212-4BC5-93AF-8CC8F26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9BED-C493-43A7-A364-3B21AD22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4DDA-8609-4204-95B2-6E35E13D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FF13-12C9-409E-BEA1-2F22907D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82F1-FB8F-40D1-9AF9-2B1F9808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31F7-5C03-45B6-9ED4-B107D683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DEF1-A6D9-4217-A229-CB5E1465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0F46-0B75-4A70-88B3-CBBDF32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EBE-00C4-4F90-A3E9-04AEAD55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84A66-1E56-4730-82D5-C4D54B3B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2C03-D2A2-48B9-BB9D-03BAAC77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A9EB-28AD-4E3B-B631-75CD44A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E64ED-596E-42F7-8404-12EBDFB2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84FD5-9CA5-49AE-B79E-3ECDDF6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143A4-0947-4550-A654-6DA0A6E6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AFB3E-5336-47BE-9F55-68AA1FC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92EE-F2EF-489A-8707-9A0CDFF8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8E7BD-4018-483D-B067-2A062662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589B4-B5B2-48C7-97BF-CE29D6EC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A24-A870-46DF-BE67-42D011D7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CB7E0-5567-4EFB-9F91-A5EA9BEC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5F801-026A-4DA4-937B-872CD854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0C5C0-99A1-4F13-B447-E5A16328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3A55-B36A-463B-92E3-7B5864A2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3FCCC-6022-4410-AEC5-11F75629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F0D62-B15D-430E-89A7-70C79398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E167D-CCB4-47F5-A139-D2756C8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85E27-70B9-4DC3-BF08-80C9CE21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09AC0-5EE5-470D-A869-7F54F6A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AF6A-4B52-4EA0-9097-DD5A5405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0AB-3BD3-414E-9CD4-6E64D661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10A64-DAA4-4783-B20C-C0D764CD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8E07E-BDE9-407C-B554-67D00DB5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54788-8B50-4073-9C12-DDDD440D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B49B9-9512-4082-840B-C98C34FB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228B9-B8F8-47B0-B6D1-C19E0146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30B4-2FD2-41EE-B9A7-7FFB7A21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1FAD3-71A0-4B62-8F2C-1BDED5A1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F1769-FF9E-409B-8D9B-AD9E36C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81536-C862-458D-A7A7-EA33788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306FB-0347-4E2C-AD6C-C2C8704C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210-4688-4630-81F8-2414102D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EB7CE-0FF5-4A68-A301-D8E3162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E0A9-9E46-41C4-AA1E-DBC1DFE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A774B-6718-46EF-81B7-04D91A20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A727-DA88-41B6-864C-1C34AF90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22624-9513-4047-BAC1-BDF1CE0F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B88EB-4C33-4A5E-8B2F-1B343A83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A4DAC-3CC9-4ACE-9D53-1501F487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3726-5150-43CC-898E-7231DFA3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08068-DF33-4FBF-8C4B-3B1AA2CB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CAAC2-B8CA-4E3C-B8AB-F16F510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CEF-5A86-4701-8129-0BE9DFD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BF534-6360-4905-8823-790FBB4B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9782-E560-464E-8E18-26A387DE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0ED3E-A60D-4AD3-976F-66DFACD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973CA-A9D6-457B-BB61-0C6FEC4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13165-B73A-4142-827A-095FA9A2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0E3FC-2D6A-414C-8FA2-8D37463E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6CE47-F9B0-486D-B1C2-762DE5AF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B639F-CE38-4832-B8A4-1AFB7655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BAF5D-5613-494F-ADE8-B320515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DCCF9-B64E-42C1-9F73-012FF501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EAB1-8820-4E08-9926-BBC98109A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B64E-EF39-4034-88E9-47D1A3BBE6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651F-2BB9-43A5-ADD8-771D0F200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A8AA-29F6-4BFA-8B7C-E7178EB65B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F56D-0843-4283-A5F0-9DB4C58D1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FAE1-0257-4B0A-99A9-B85AE39996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5833-311E-4A0E-AE0B-2186A5E8C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CCA0-3386-491E-A7B6-8DE7E7C601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B335-1B9A-4C8E-BB73-C2596A634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942B-D2D3-4512-B3FF-10E0A5B68A3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C9FD-8424-4A28-9155-5C81BD9ABD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2F51-0899-4B92-9A46-FDDC5412A2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AD80-21C5-4437-AD17-6F084CA39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43A5-60DE-40F5-B2B6-34B13CC776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9463-B51C-4F79-873C-BD52BC9BF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61FA-447F-47F8-8373-552FAFE309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589-BDCD-4643-8D41-A0010ABDC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55FB-6EF0-4328-ADF1-41D483B1C2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B9A2-9E58-4943-94BB-A0146D755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A6EE-2DA2-4E00-9173-E5526230F4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DA5E-48EB-4386-9683-9088AA7FA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37EF-3E38-47DD-8F28-4B4D8B9D0F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ED6A-A28D-499A-83A6-34F1AD550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F00D-C038-4478-9B16-91154BD8FD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72F2-ADA3-449F-A41F-164282393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0"/>
            <a:ext cx="9144000" cy="818064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rm Up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cabulary Lis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ntence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exander Pope who, although small and physically weak, w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ten aggressive and _________ in his writing, using words alm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 weap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people regard time as their ___________, unceasing in i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rsuit and always victori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4"/>
          <p:cNvSpPr txBox="1"/>
          <p:nvPr/>
        </p:nvSpPr>
        <p:spPr>
          <a:xfrm>
            <a:off x="914400" y="60948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owulf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5624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eowulf’s Impor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581280" y="160020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-- setting = 6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century (5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09520" y="16002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      reflects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581280" y="20574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written = 700-750 -- mo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0" y="2666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historical basis – Beowulf = real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0" y="3352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mbodies characteristics of traditional Anglo-Saxon po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0" y="480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ork – English National Literature (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glish ep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51814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nguage – Old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blending of pagan &amp; Christia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use of alliteration, kennings, epithets, 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pic Characteris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209520" y="1905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     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676520" y="19051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honorable, ethical, intelligent, b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60020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noble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600200" y="28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historic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167652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quest/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962520" y="33526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dangerous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962520" y="3809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- reflects his society</a:t>
            </a:r>
            <a:r>
              <a:rPr b="1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0" y="4267080"/>
            <a:ext cx="93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 Warrior Virt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rav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yal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6"/>
          <p:cNvSpPr/>
          <p:nvPr/>
        </p:nvSpPr>
        <p:spPr>
          <a:xfrm>
            <a:off x="0" y="914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2.      battle of good v.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0" y="1523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3.      villains – evil &amp; hid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4.      elements of the super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5.      poetic language:  alliteration, kennings, epithets, 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505320" y="914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-- good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5"/>
          <p:cNvSpPr/>
          <p:nvPr/>
        </p:nvSpPr>
        <p:spPr>
          <a:xfrm>
            <a:off x="304920" y="1981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ae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2438280" y="1981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pause/break in a line of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213372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repetition of initial identical consonant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51460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EX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bloody battle-weary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Epit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243828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phrase used to describe a person/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oetry Te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243828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follows what it desc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438280" y="50292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EX.      Beowulf, defender of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5"/>
          <p:cNvSpPr/>
          <p:nvPr/>
        </p:nvSpPr>
        <p:spPr>
          <a:xfrm>
            <a:off x="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Ke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2438280" y="1219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condensed metap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2438280" y="1676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-- sometimes used as an epit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80880" y="25146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Down Arrow 12"/>
          <p:cNvSpPr/>
          <p:nvPr/>
        </p:nvSpPr>
        <p:spPr>
          <a:xfrm>
            <a:off x="685800" y="2133720"/>
            <a:ext cx="838080" cy="725400"/>
          </a:xfrm>
          <a:prstGeom prst="downArrow">
            <a:avLst>
              <a:gd name="adj1" fmla="val 73583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Down Arrow 18"/>
          <p:cNvSpPr/>
          <p:nvPr/>
        </p:nvSpPr>
        <p:spPr>
          <a:xfrm>
            <a:off x="838080" y="1676520"/>
            <a:ext cx="484200" cy="693720"/>
          </a:xfrm>
          <a:prstGeom prst="downArrow">
            <a:avLst>
              <a:gd name="adj1" fmla="val 97167"/>
              <a:gd name="adj2" fmla="val 5003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380880" y="3048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mpou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58128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urr-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54100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380880" y="3581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repos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3581280" y="3581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ive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5410080" y="3657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SIDEWALK  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HIG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380880" y="4495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3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posses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3581280" y="4495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clouds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ro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257800" y="4495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= MOUNTAIN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4"/>
          <p:cNvSpPr txBox="1"/>
          <p:nvPr/>
        </p:nvSpPr>
        <p:spPr>
          <a:xfrm>
            <a:off x="457200" y="3808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nglo-Saxon Symbo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228600" y="1905120"/>
            <a:ext cx="82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DR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0" y="23623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protector of tr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0" y="28195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guardian of warrior</a:t>
            </a:r>
            <a:r>
              <a:rPr b="1" lang="ja-JP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’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0" y="41148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EAT HALL  (MEAD H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0" y="457200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protection;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0" y="49528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law &amp; order – counci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0" y="541008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*celebration – bards/scops ent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0" y="3276720"/>
            <a:ext cx="82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  <a:ea typeface="ＭＳ Ｐゴシック"/>
              </a:rPr>
              <a:t>*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9:26:14Z</dcterms:created>
  <dc:creator>Jennifer Finkenhagen</dc:creator>
  <dc:description/>
  <dc:language>en-US</dc:language>
  <cp:lastModifiedBy>Finkenhagen, Jennifer</cp:lastModifiedBy>
  <dcterms:modified xsi:type="dcterms:W3CDTF">2012-08-29T19:56:25Z</dcterms:modified>
  <cp:revision>23</cp:revision>
  <dc:subject/>
  <dc:title>Slide 1</dc:title>
</cp:coreProperties>
</file>