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CBA-429E-4CDE-B079-88FA7310D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4D5-622C-4681-ACF4-4712DB9D07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AF05-D80D-4025-9BD3-A6CC7B85B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38FD-DD8A-40F5-AE3B-56D0DF176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0BCF-A3EC-4CAD-80A5-041F436EA5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6A31-659A-4D4C-B237-467EFA5CFA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1B79-7572-4829-B87A-22BD7633D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145-4B84-48FD-88A8-9C3643B67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519-C1F5-4A6F-8E31-E827024F5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F7A2-D9D6-4DBA-9DB2-23099AFBBF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130-2642-4286-AF73-2EAF55F032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B7F-C1BE-4932-B7A2-88A2951661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B27C-E9C3-4F5C-8D97-DDAD38ABB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40C1-1973-42EA-B036-C37732E954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8958-5F9A-4C09-82BC-D569E5390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BD7-0723-41DD-B2BC-0D6D4D38A4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8D4-781D-4FB5-A035-9EA9204BE7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4059-899B-44CD-B090-075E559EB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556D-E265-489F-A7A9-8ED1DF20D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167-5A99-4B7F-BA7D-9D82A2AC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60F-E4B7-4927-826E-65D77449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F6E-822A-47AB-BA0E-24ABC525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048-80F3-46EC-9531-99A15B5B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C138-9DDE-4749-8CE7-B286381E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C41A-18E6-4BB4-8589-E5F9AF0E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C36-F877-4267-8B9A-CFCEB09A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98DA-ACD2-4634-9015-5A171260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3DBE-FBD8-4325-A012-DBE78141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2FAB-9250-4826-A898-9A4FFCE1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687A-0E83-43C8-93AF-E063DE30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801-C38B-4A51-9512-2F6E0242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2CD6-8D40-4FA4-8749-1712249C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D6A-FAD7-4B25-850D-5C6C8A0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967E-86A6-493A-BFDA-D80FBA8A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DDD0-DD7D-4845-B6CB-B2325445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5237-DBB0-443B-9691-2529B910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977-7865-4BFB-83D4-379EE24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52C-ED4A-43DF-A152-B48F2F9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714-3DBE-4187-B951-79CF03FF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7A4-BD41-48F9-97CF-0081A32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421-DA7F-4029-8BB4-CB03388B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592-3F76-4318-9A2D-2B1F90C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657-5ACB-4522-966C-5429C34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50C-2C7B-483E-AD59-C3677F5184B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5EC-962A-4BA8-B36B-3BE19FD762B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ward/essay2.html" TargetMode="External"/><Relationship Id="rId2" Type="http://schemas.openxmlformats.org/officeDocument/2006/relationships/hyperlink" Target="http://www.wwnorton.com/nael/romatic/topic_2/welcom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thic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Dunn-Re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-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400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, usually Christianity or at least spirituality, is confro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thic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in which a character who seems to be good is linked with another who is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GOTHIC CHAPBOOKS ILL4"/>
          <p:cNvPicPr/>
          <p:nvPr/>
        </p:nvPicPr>
        <p:blipFill>
          <a:blip r:embed="rId1"/>
          <a:stretch/>
        </p:blipFill>
        <p:spPr>
          <a:xfrm>
            <a:off x="4876920" y="1600200"/>
            <a:ext cx="3090600" cy="4419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47242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www.pagedepot.com/.../ GOTHIC%20CHAPBOOKSX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, pain,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e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tic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 with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psychological state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 ar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anny, macabre, or melodramatically violent bordering between reality and 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2997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4495680" y="54864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antip.com/cafe/chalermthai/newmovie/hauntedcastle/h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ok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n the reader because of situations bordering reality/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10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used to teach a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ck a Medieval setting but will develop an atmosphere of gloom and 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84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tiating between the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wful apprehens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d distin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 grote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ppalling, un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physical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ckening realizati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ive of what will h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reader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 of uncertain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s an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angible atmosphere of spiritual psychic dread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rom the mid-18th Centu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tic Perio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myth of new-world innocence by voicing the cultural contradictions that undermine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to purity and equalit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eresa A. Go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s of historical horrors that make nation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american gothic"/>
          <p:cNvPicPr/>
          <p:nvPr/>
        </p:nvPicPr>
        <p:blipFill>
          <a:blip r:embed="rId1"/>
          <a:stretch/>
        </p:blipFill>
        <p:spPr>
          <a:xfrm>
            <a:off x="5138640" y="1143000"/>
            <a:ext cx="3776760" cy="4724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5257800" y="624852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hotos1.blogger.com/img/154/1420/1024/american%20gothic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er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67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ary setting because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the source of values not necessarily welcome in the res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 was the first Southern gothic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themes: race, alienation, sense of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n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Southern Plant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181480" cy="28162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7162920" y="2057400"/>
            <a:ext cx="198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madelinecarolgallery.com/images/Southern%20Plantation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628120" y="588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ber gothic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838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tions seem unrealistic during this time period but possible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ing natural; all man-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dies are often altered, making them less human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knowledge and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ly enhanced futu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ANGEL"/>
          <p:cNvPicPr/>
          <p:nvPr/>
        </p:nvPicPr>
        <p:blipFill>
          <a:blip r:embed="rId1"/>
          <a:stretch/>
        </p:blipFill>
        <p:spPr>
          <a:xfrm>
            <a:off x="5292720" y="609480"/>
            <a:ext cx="3774960" cy="5124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5181480" y="6172200"/>
            <a:ext cx="396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darklands.ivory-tower.net/index.php?module=ContentExpress&amp;func=display&amp;ceid=17&amp;meid=-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groups of 4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urns around the circle creating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ory - campfire style - 3-5 mins.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notes and write down key plo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gothic elements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share with the class next time w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210120" cy="4876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0292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illustrationweb.com/artist_pages/artist_images/artist_4/the_pit_and_the_pendulu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 of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76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http://www.acsu.buffalo.edu/~mdward/essay2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http://www.wwnorton.com/nael/romatic/topic_2/welcome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05120" y="1917720"/>
            <a:ext cx="20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d it become pop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18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Reviv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mid-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in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in architecture (gargoyles) of the Middle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40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- Horace Walpole - Strawberry Hill estate near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Castle of Otranto: a Gothic St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7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291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uzzlehistory.com/gothgrdn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to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kind of romantic, scary n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from Germany in the late 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- early 18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among female 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best sell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ungeons"/>
          <p:cNvPicPr/>
          <p:nvPr/>
        </p:nvPicPr>
        <p:blipFill>
          <a:blip r:embed="rId1"/>
          <a:stretch/>
        </p:blipFill>
        <p:spPr>
          <a:xfrm>
            <a:off x="60948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85800" y="57150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greatscotland.be/evenemente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Radcliffe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Mysteries of Udolp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usten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anger Abbe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arody of Gothic no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otte Bronte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ne E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Bro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-- Wuthering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rley Jackson, Daphne du Maurier, Barbara Michaels, Anne 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345409671"/>
          <p:cNvPicPr/>
          <p:nvPr/>
        </p:nvPicPr>
        <p:blipFill>
          <a:blip r:embed="rId1"/>
          <a:stretch/>
        </p:blipFill>
        <p:spPr>
          <a:xfrm>
            <a:off x="6019920" y="1676520"/>
            <a:ext cx="2590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lass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Shell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nkenstein (18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most important product of this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es relate to science, poetry, psychology, alienation, politics, education, family relationship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: 8-foot tall monster made of separate body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28" descr="Frankenstein"/>
          <p:cNvPicPr/>
          <p:nvPr/>
        </p:nvPicPr>
        <p:blipFill>
          <a:blip r:embed="rId1"/>
          <a:stretch/>
        </p:blipFill>
        <p:spPr>
          <a:xfrm>
            <a:off x="4952880" y="996840"/>
            <a:ext cx="3765600" cy="502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29"/>
          <p:cNvSpPr/>
          <p:nvPr/>
        </p:nvSpPr>
        <p:spPr>
          <a:xfrm>
            <a:off x="47242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librarycommission.lib.wv.us/ WVLC%20BOOK/Frank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ce felt else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ime of the Ancient Mariner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leton ship and the crew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ristabel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, setting, and fragmentary plot of seduction and witch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fred by Byron 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ven of St. Agnes by K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ancient_mariner4"/>
          <p:cNvPicPr/>
          <p:nvPr/>
        </p:nvPicPr>
        <p:blipFill>
          <a:blip r:embed="rId1"/>
          <a:stretch/>
        </p:blipFill>
        <p:spPr>
          <a:xfrm>
            <a:off x="5099040" y="271620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715000" y="2133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ilsonsalmanac.com/images2/ancient_mariner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 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en P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29" descr="Edgar-Allen-Poe's-Tales-of-"/>
          <p:cNvPicPr/>
          <p:nvPr/>
        </p:nvPicPr>
        <p:blipFill>
          <a:blip r:embed="rId1"/>
          <a:stretch/>
        </p:blipFill>
        <p:spPr>
          <a:xfrm>
            <a:off x="5084640" y="19810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30"/>
          <p:cNvSpPr/>
          <p:nvPr/>
        </p:nvSpPr>
        <p:spPr>
          <a:xfrm>
            <a:off x="4952880" y="6095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3boysproductions.com/MIFF-2002-Fri-Nite-Program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31" descr="Stephen_King_ca-t"/>
          <p:cNvPicPr/>
          <p:nvPr/>
        </p:nvPicPr>
        <p:blipFill>
          <a:blip r:embed="rId2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32"/>
          <p:cNvSpPr/>
          <p:nvPr/>
        </p:nvSpPr>
        <p:spPr>
          <a:xfrm>
            <a:off x="762120" y="612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1001-votes.com/vote/fond.php?mcat=24&amp;lg=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in Mediev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, mysterious, evil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astles, palaces, chambers, haunted ma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e together to emphasize the sense of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5337000" y="1981080"/>
            <a:ext cx="2546640" cy="381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5029200" y="617220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ncounterspri.com/Articl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ghosts, spirits, vampires, and other supernatural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terious disappearances and reappear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natural or paranormal occur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4648320" y="2219400"/>
            <a:ext cx="3924360" cy="33321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4495680" y="60958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enelopesweb.com/gargoyle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41:56Z</dcterms:created>
  <dc:creator>Lori Dunnreier</dc:creator>
  <dc:description/>
  <dc:language>en-US</dc:language>
  <cp:lastModifiedBy>Ernst, Michelle</cp:lastModifiedBy>
  <cp:lastPrinted>2011-11-10T19:12:43Z</cp:lastPrinted>
  <dcterms:modified xsi:type="dcterms:W3CDTF">2015-01-28T20:57:35Z</dcterms:modified>
  <cp:revision>45</cp:revision>
  <dc:subject/>
  <dc:title>Characteristics  of  Gothic Literature</dc:title>
</cp:coreProperties>
</file>