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AFF-2A52-4A74-A49E-439AD872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8B9-CF41-47BE-949A-DA95136F3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2D3-5B34-4240-A67F-F466AB033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08D-76FA-4E72-90C5-0ABF3F443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F8A-59E7-4D8F-9237-F9DE5FD8F0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034-14BE-4F59-849D-ADD317189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28EC-B107-40AF-9908-4639D791A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74D-C906-4351-837D-607F470DF6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DDD6-E462-47DF-B984-7C32BEC08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104-B132-4E8E-9A6F-3D1A1469E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36D1-22FF-4302-ABC4-6FFF0D04B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88DB-FD8D-4199-9A03-A150379A1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871-D094-4C3F-9757-78E42761F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728-1A0D-4069-9A5B-0893999DE1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38E-8C78-4631-9C98-CAC7570FC0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74C-4060-40F0-B650-D7C5E129B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277D-243D-424E-8340-004473CCA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A724-723B-4605-BD3D-9CB0DF6CC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009A-4590-4B5C-B437-D59117D5D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A56-3BD3-44C7-A0EC-D3036784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189-8031-4CB2-A6C7-163AF70B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296-C7F0-4EDC-BF53-CB7C0542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8B1-EF2F-4E20-91EB-8F338425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4DE3-8361-420A-8169-5EFA440E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BE2-1D8B-4043-BC6A-3522856C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7F68-A8D6-4B70-AC04-ECB7C55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6B3D-3576-4F87-BAFE-A2E37AAA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071-AB45-43C2-A349-78508B3E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4509-4008-49B7-8AC9-D714146B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12DE-CC73-4265-B857-2B402FD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AA4-1318-4951-909F-2797766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B8B1-B535-4293-9DD8-3D356AC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52D6-0718-4E57-A74E-F221910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0739-1063-4AB5-B311-CBC725D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782-B6CF-400D-A5E2-6F4F427C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12E-C05C-48CE-8447-5D831A52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7FE-E21A-4B18-9B33-68E585FD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C95-ED26-4085-BB60-9CA3E39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1D6-4D82-4B94-AE4C-150466C1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028-016F-4D97-A2C9-6D615B07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012-5266-4FD9-B161-778F73C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F28-0A6E-4447-92FB-2E7F876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79C-4BAD-4EB5-A440-A278143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0346-1825-4835-BAE0-EAC872B5902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45F-B265-48E5-8613-FDE32C8B192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ward/essay2.html" TargetMode="External"/><Relationship Id="rId2" Type="http://schemas.openxmlformats.org/officeDocument/2006/relationships/hyperlink" Target="http://www.wwnorton.com/nael/romatic/topic_2/welcom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thic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Dunn-Re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-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400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, usually Christianity or at least spirituality, is confro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thic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in which a character who seems to be good is linked with another who is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GOTHIC CHAPBOOKS ILL4"/>
          <p:cNvPicPr/>
          <p:nvPr/>
        </p:nvPicPr>
        <p:blipFill>
          <a:blip r:embed="rId1"/>
          <a:stretch/>
        </p:blipFill>
        <p:spPr>
          <a:xfrm>
            <a:off x="4876920" y="1600200"/>
            <a:ext cx="3090600" cy="4419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47242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www.pagedepot.com/.../ GOTHIC%20CHAPBOOKSX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, pain,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e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tic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 with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psychological state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 ar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anny, macabre, or melodramatically violent bordering between reality and 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2997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4495680" y="54864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antip.com/cafe/chalermthai/newmovie/hauntedcastle/h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ok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n the reader because of situations bordering reality/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10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used to teach a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ck a Medieval setting but will develop an atmosphere of gloom and 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84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tiating between the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wful apprehens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d distin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 grote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ppalling, un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physical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ckening realizati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ive of what will h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reader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 of uncertain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s an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angible atmosphere of spiritual psychic dread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rom the mid-18th Centu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tic Perio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myth of new-world innocence by voicing the cultural contradictions that undermine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to purity and equalit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eresa A. Go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s of historical horrors that make nation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american gothic"/>
          <p:cNvPicPr/>
          <p:nvPr/>
        </p:nvPicPr>
        <p:blipFill>
          <a:blip r:embed="rId1"/>
          <a:stretch/>
        </p:blipFill>
        <p:spPr>
          <a:xfrm>
            <a:off x="5138640" y="1143000"/>
            <a:ext cx="3776760" cy="4724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5257800" y="624852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hotos1.blogger.com/img/154/1420/1024/american%20gothic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er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67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ary setting because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the source of values not necessarily welcome in the res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 was the first Southern gothic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themes: race, alienation, sense of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n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Southern Plant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181480" cy="28162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7162920" y="2057400"/>
            <a:ext cx="198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madelinecarolgallery.com/images/Southern%20Plantation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628120" y="588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ber gothic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838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tions seem unrealistic during this time period but possible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ing natural; all man-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dies are often altered, making them less human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knowledge and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ly enhanced futu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ANGEL"/>
          <p:cNvPicPr/>
          <p:nvPr/>
        </p:nvPicPr>
        <p:blipFill>
          <a:blip r:embed="rId1"/>
          <a:stretch/>
        </p:blipFill>
        <p:spPr>
          <a:xfrm>
            <a:off x="5292720" y="609480"/>
            <a:ext cx="3774960" cy="5124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5181480" y="6172200"/>
            <a:ext cx="396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darklands.ivory-tower.net/index.php?module=ContentExpress&amp;func=display&amp;ceid=17&amp;meid=-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groups of 4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urns around the circle creating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ory - campfire style - 3-5 mins.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notes and write down key plo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gothic elements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share with the class next time w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210120" cy="4876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0292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illustrationweb.com/artist_pages/artist_images/artist_4/the_pit_and_the_pendulu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 of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76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http://www.acsu.buffalo.edu/~mdward/essay2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http://www.wwnorton.com/nael/romatic/topic_2/welcome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05120" y="1917720"/>
            <a:ext cx="20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d it become pop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18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Reviv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mid-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in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in architecture (gargoyles) of the Middle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40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- Horace Walpole - Strawberry Hill estate near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Castle of Otranto: a Gothic St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7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291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uzzlehistory.com/gothgrdn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to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kind of romantic, scary n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from Germany in the late 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- early 18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among female 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best sell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ungeons"/>
          <p:cNvPicPr/>
          <p:nvPr/>
        </p:nvPicPr>
        <p:blipFill>
          <a:blip r:embed="rId1"/>
          <a:stretch/>
        </p:blipFill>
        <p:spPr>
          <a:xfrm>
            <a:off x="60948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85800" y="57150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greatscotland.be/evenemente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Radcliffe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Mysteries of Udolp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usten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anger Abbe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arody of Gothic no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otte Bronte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ne E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Bro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-- Wuthering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rley Jackson, Daphne du Maurier, Barbara Michaels, Anne 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345409671"/>
          <p:cNvPicPr/>
          <p:nvPr/>
        </p:nvPicPr>
        <p:blipFill>
          <a:blip r:embed="rId1"/>
          <a:stretch/>
        </p:blipFill>
        <p:spPr>
          <a:xfrm>
            <a:off x="6019920" y="1676520"/>
            <a:ext cx="2590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lass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Shell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nkenstein (18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most important product of this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es relate to science, poetry, psychology, alienation, politics, education, family relationship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: 8-foot tall monster made of separate body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28" descr="Frankenstein"/>
          <p:cNvPicPr/>
          <p:nvPr/>
        </p:nvPicPr>
        <p:blipFill>
          <a:blip r:embed="rId1"/>
          <a:stretch/>
        </p:blipFill>
        <p:spPr>
          <a:xfrm>
            <a:off x="4952880" y="996840"/>
            <a:ext cx="3765600" cy="502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29"/>
          <p:cNvSpPr/>
          <p:nvPr/>
        </p:nvSpPr>
        <p:spPr>
          <a:xfrm>
            <a:off x="47242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librarycommission.lib.wv.us/ WVLC%20BOOK/Frank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ce felt else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ime of the Ancient Mariner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leton ship and the crew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ristabel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, setting, and fragmentary plot of seduction and witch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fred by Byron 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ven of St. Agnes by K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ancient_mariner4"/>
          <p:cNvPicPr/>
          <p:nvPr/>
        </p:nvPicPr>
        <p:blipFill>
          <a:blip r:embed="rId1"/>
          <a:stretch/>
        </p:blipFill>
        <p:spPr>
          <a:xfrm>
            <a:off x="5099040" y="271620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715000" y="2133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ilsonsalmanac.com/images2/ancient_mariner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 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en P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29" descr="Edgar-Allen-Poe's-Tales-of-"/>
          <p:cNvPicPr/>
          <p:nvPr/>
        </p:nvPicPr>
        <p:blipFill>
          <a:blip r:embed="rId1"/>
          <a:stretch/>
        </p:blipFill>
        <p:spPr>
          <a:xfrm>
            <a:off x="5084640" y="19810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30"/>
          <p:cNvSpPr/>
          <p:nvPr/>
        </p:nvSpPr>
        <p:spPr>
          <a:xfrm>
            <a:off x="4952880" y="6095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3boysproductions.com/MIFF-2002-Fri-Nite-Program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31" descr="Stephen_King_ca-t"/>
          <p:cNvPicPr/>
          <p:nvPr/>
        </p:nvPicPr>
        <p:blipFill>
          <a:blip r:embed="rId2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32"/>
          <p:cNvSpPr/>
          <p:nvPr/>
        </p:nvSpPr>
        <p:spPr>
          <a:xfrm>
            <a:off x="762120" y="612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1001-votes.com/vote/fond.php?mcat=24&amp;lg=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in Mediev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, mysterious, evil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astles, palaces, chambers, haunted ma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e together to emphasize the sense of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5337000" y="1981080"/>
            <a:ext cx="2546640" cy="381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5029200" y="617220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ncounterspri.com/Articl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ghosts, spirits, vampires, and other supernatural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terious disappearances and reappear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natural or paranormal occur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4648320" y="2219400"/>
            <a:ext cx="3924360" cy="33321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4495680" y="60958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enelopesweb.com/gargoyle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41:56Z</dcterms:created>
  <dc:creator>Lori Dunnreier</dc:creator>
  <dc:description/>
  <dc:language>en-US</dc:language>
  <cp:lastModifiedBy>Ernst, Michelle</cp:lastModifiedBy>
  <cp:lastPrinted>2011-11-10T19:12:43Z</cp:lastPrinted>
  <dcterms:modified xsi:type="dcterms:W3CDTF">2015-01-28T20:57:35Z</dcterms:modified>
  <cp:revision>45</cp:revision>
  <dc:subject/>
  <dc:title>Characteristics  of  Gothic Literature</dc:title>
</cp:coreProperties>
</file>