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C148-5A08-469A-AE23-18975110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CAAC-4E2E-410D-8D66-0CBEB1DE2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A5E2-E8AE-418F-B8B7-3C485CE35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AD87-9808-47FE-B193-D9927F42D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B47F-FD53-49E2-B2D1-94BC0E9B6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7B6-A86B-45B2-8C2C-84B6F23023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0689-A1D4-4228-B5FB-DBE1F11AD2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2E53-A3EE-44E3-A703-903EBF267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57A0-293F-4CFA-91ED-B5C45B66A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2FD1-C58F-4A1D-8DB0-4C5E1A54E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DCA3-32F9-4A7B-B03A-634206EE2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0C44-02C1-4CD0-97D5-DC7731117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4FBE-AA86-45E9-A1B9-996B53A680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87AA-7D2D-4716-9168-F368EEB4A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2070-254A-4EDA-AADD-E0C71116DD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28A0-C5C6-43C0-807E-E7A4F28E8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C1B5-7F3B-4CA0-BEED-980782914C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7BB9-9DBE-4213-AAEC-DD85750054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210-D487-4472-A73A-D135F9E6B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7B2-53E8-48E2-BEE3-17C27DC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3F3-72B6-4AA5-BFB6-9931184A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473-0AAB-4745-8267-E16D8E31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707-BC4E-40B4-B9D8-A83C6EE8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528B-881C-4CB8-8426-2320F4FF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3723-2223-4114-94A0-1EDD2FBB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E05F-7B07-42D4-A2B8-23BB35EC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852-56B8-49EA-A92C-347FB40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0D91-D19D-4CE8-A1ED-9A952639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30E5-4E46-4DF3-83C1-F2BB160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41C3-65A8-48D8-9AA5-742DD75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041-5582-4C63-90EE-D5854EE4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3607-BA2A-452C-9E89-DB69867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E08-1EB8-4C99-B4DF-896FC4A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19E-149B-4710-9DFB-2A1EA133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C224-EDA0-4D13-AF42-E4C52E6D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3B53-D039-480E-907D-F5F7D6DF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CD6-EC09-4297-A1FE-2E1860F1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4BF-B75C-42C8-AEB4-E9DC02DF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085-5FA4-4A5F-964C-39B3C2EB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340-54FC-417D-9D64-600D25B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F04-4F69-43E3-92C0-384BE15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168-EA77-4457-891A-9E24BE0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3F0-E624-4FEB-A480-93295A9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848-2762-4548-BB87-08D3C55E242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7587-7878-4195-AEF7-4216C922AEA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ward/essay2.html" TargetMode="External"/><Relationship Id="rId2" Type="http://schemas.openxmlformats.org/officeDocument/2006/relationships/hyperlink" Target="http://www.wwnorton.com/nael/romatic/topic_2/welcome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thic Liter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Dunn-Re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-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400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, usually Christianity or at least spirituality, is confro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thic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used in which a character who seems to be good is linked with another who is e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GOTHIC CHAPBOOKS ILL4"/>
          <p:cNvPicPr/>
          <p:nvPr/>
        </p:nvPicPr>
        <p:blipFill>
          <a:blip r:embed="rId1"/>
          <a:stretch/>
        </p:blipFill>
        <p:spPr>
          <a:xfrm>
            <a:off x="4876920" y="1600200"/>
            <a:ext cx="3090600" cy="44197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6"/>
          <p:cNvSpPr/>
          <p:nvPr/>
        </p:nvSpPr>
        <p:spPr>
          <a:xfrm>
            <a:off x="472428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www.pagedepot.com/.../ GOTHIC%20CHAPBOOKSX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, pain, d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e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tic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 with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psychological state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-32400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 ar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anny, macabre, or melodramatically violent bordering between reality and 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495680" cy="2997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4495680" y="54864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antip.com/cafe/chalermthai/newmovie/hauntedcastle/hc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vok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r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n the reader because of situations bordering reality/un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8840" indent="10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used to teach a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lack a Medieval setting but will develop an atmosphere of gloom and 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8432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tiating between the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wful apprehens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d distin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 grote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appalling, un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physical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ckening realizati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ive of what will hap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reader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e of uncertain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s an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angible atmosphere of spiritual psychic dread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rom the mid-18th Century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tic Perio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zes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myth of new-world innocence by voicing the cultural contradictions that undermine the nation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to purity and equality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eresa A. God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>
              <a:spcBef>
                <a:spcPts val="499"/>
              </a:spcBef>
              <a:buClr>
                <a:srgbClr val="ff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s of historical horrors that make national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american gothic"/>
          <p:cNvPicPr/>
          <p:nvPr/>
        </p:nvPicPr>
        <p:blipFill>
          <a:blip r:embed="rId1"/>
          <a:stretch/>
        </p:blipFill>
        <p:spPr>
          <a:xfrm>
            <a:off x="5138640" y="1143000"/>
            <a:ext cx="3776760" cy="4724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5257800" y="624852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photos1.blogger.com/img/154/1420/1024/american%20gothic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ern Goth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8267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ary setting because it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the source of values not necessarily welcome in the rest of the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e was the first Southern gothic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themes: race, alienation, sense of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nes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5" descr="Southern Plant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181480" cy="28162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7162920" y="2057400"/>
            <a:ext cx="198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madelinecarolgallery.com/images/Southern%20Plantation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8628120" y="588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ber gothic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838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tions seem unrealistic during this time period but possible in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hing natural; all man-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dies are often altered, making them less human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knowledge and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ly enhanced futur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ANGEL"/>
          <p:cNvPicPr/>
          <p:nvPr/>
        </p:nvPicPr>
        <p:blipFill>
          <a:blip r:embed="rId1"/>
          <a:stretch/>
        </p:blipFill>
        <p:spPr>
          <a:xfrm>
            <a:off x="5292720" y="609480"/>
            <a:ext cx="3774960" cy="5124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5181480" y="6172200"/>
            <a:ext cx="396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darklands.ivory-tower.net/index.php?module=ContentExpress&amp;func=display&amp;ceid=17&amp;meid=-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groups of 4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turns around the circle creating a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hic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ory - campfire style - 3-5 mins.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notes and write down key plo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down gothic elements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1240" indent="-29592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share with the class next time we m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210120" cy="48765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029200" y="60958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illustrationweb.com/artist_pages/artist_images/artist_4/the_pit_and_the_pendulu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 of 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7657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1"/>
              </a:rPr>
              <a:t>http://www.acsu.buffalo.edu/~mdward/essay2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0000"/>
                </a:solidFill>
                <a:uFillTx/>
                <a:latin typeface="Arial"/>
                <a:hlinkClick r:id="rId2"/>
              </a:rPr>
              <a:t>http://www.wwnorton.com/nael/romatic/topic_2/welcome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905120" y="1917720"/>
            <a:ext cx="20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d it become pop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45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18th Cen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a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hic Reviva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- mid-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ble in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3000" indent="-3330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n in architecture (gargoyles) of the Middle 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40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- Horace Walpole - Strawberry Hill estate near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30132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Castle of Otranto: a Gothic St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17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038480" cy="291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4876920" y="5334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puzzlehistory.com/gothgrdn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lication to lit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kind of romantic, scary n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from Germany in the late 17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- early 1800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among female wri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best selle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ungeons"/>
          <p:cNvPicPr/>
          <p:nvPr/>
        </p:nvPicPr>
        <p:blipFill>
          <a:blip r:embed="rId1"/>
          <a:stretch/>
        </p:blipFill>
        <p:spPr>
          <a:xfrm>
            <a:off x="609480" y="241452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85800" y="57150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greatscotland.be/evenemente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 Radcliffe 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Mysteries of Udolp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e Austen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rthanger Abbe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arody of Gothic no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otte Bronte --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ne E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ly Bro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-- Wuthering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rley Jackson, Daphne du Maurier, Barbara Michaels, Anne 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345409671"/>
          <p:cNvPicPr/>
          <p:nvPr/>
        </p:nvPicPr>
        <p:blipFill>
          <a:blip r:embed="rId1"/>
          <a:stretch/>
        </p:blipFill>
        <p:spPr>
          <a:xfrm>
            <a:off x="6019920" y="1676520"/>
            <a:ext cx="2590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lass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Shell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nkenstein (18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most important product of this tra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mes relate to science, poetry, psychology, alienation, politics, education, family relationship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50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: 8-foot tall monster made of separate body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028" descr="Frankenstein"/>
          <p:cNvPicPr/>
          <p:nvPr/>
        </p:nvPicPr>
        <p:blipFill>
          <a:blip r:embed="rId1"/>
          <a:stretch/>
        </p:blipFill>
        <p:spPr>
          <a:xfrm>
            <a:off x="4952880" y="996840"/>
            <a:ext cx="3765600" cy="502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29"/>
          <p:cNvSpPr/>
          <p:nvPr/>
        </p:nvSpPr>
        <p:spPr>
          <a:xfrm>
            <a:off x="47242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1dc5"/>
                </a:solidFill>
                <a:uFillTx/>
                <a:latin typeface="Arial"/>
              </a:rPr>
              <a:t>librarycommission.lib.wv.us/ WVLC%20BOOK/Frank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uence felt else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ime of the Ancient Mariner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leton ship and the crew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ristabel by Coleridge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, setting, and fragmentary plot of seduction and witch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nfred by Byron -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sc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ven of St. Agnes by Kea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ancient_mariner4"/>
          <p:cNvPicPr/>
          <p:nvPr/>
        </p:nvPicPr>
        <p:blipFill>
          <a:blip r:embed="rId1"/>
          <a:stretch/>
        </p:blipFill>
        <p:spPr>
          <a:xfrm>
            <a:off x="5099040" y="2716200"/>
            <a:ext cx="3816360" cy="3913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5715000" y="2133720"/>
            <a:ext cx="312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ilsonsalmanac.com/images2/ancient_mariner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ous Gothic Writers - cont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ar Allen P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ven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29" descr="Edgar-Allen-Poe's-Tales-of-"/>
          <p:cNvPicPr/>
          <p:nvPr/>
        </p:nvPicPr>
        <p:blipFill>
          <a:blip r:embed="rId1"/>
          <a:stretch/>
        </p:blipFill>
        <p:spPr>
          <a:xfrm>
            <a:off x="5084640" y="19810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030"/>
          <p:cNvSpPr/>
          <p:nvPr/>
        </p:nvSpPr>
        <p:spPr>
          <a:xfrm>
            <a:off x="4952880" y="60958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3boysproductions.com/MIFF-2002-Fri-Nite-Program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031" descr="Stephen_King_ca-t"/>
          <p:cNvPicPr/>
          <p:nvPr/>
        </p:nvPicPr>
        <p:blipFill>
          <a:blip r:embed="rId2"/>
          <a:stretch/>
        </p:blipFill>
        <p:spPr>
          <a:xfrm>
            <a:off x="533520" y="31240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32"/>
          <p:cNvSpPr/>
          <p:nvPr/>
        </p:nvSpPr>
        <p:spPr>
          <a:xfrm>
            <a:off x="762120" y="6127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1001-votes.com/vote/fond.php?mcat=24&amp;lg=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680" y="1980720"/>
            <a:ext cx="400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in Medieva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, mysterious, evil 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castles, palaces, chambers, haunted ma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e together to emphasize the sense of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5337000" y="1981080"/>
            <a:ext cx="2546640" cy="3810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5029200" y="617220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ncounterspri.com/Articl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ghosts, spirits, vampires, and other supernatural e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terious disappearances and reappear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natural or paranormal occur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4648320" y="2219400"/>
            <a:ext cx="3924360" cy="33321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4495680" y="60958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enelopesweb.com/gargoyles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41:56Z</dcterms:created>
  <dc:creator>Lori Dunnreier</dc:creator>
  <dc:description/>
  <dc:language>en-US</dc:language>
  <cp:lastModifiedBy>Ernst, Michelle</cp:lastModifiedBy>
  <cp:lastPrinted>2011-11-10T19:12:43Z</cp:lastPrinted>
  <dcterms:modified xsi:type="dcterms:W3CDTF">2015-01-28T20:57:35Z</dcterms:modified>
  <cp:revision>45</cp:revision>
  <dc:subject/>
  <dc:title>Characteristics  of  Gothic Literature</dc:title>
</cp:coreProperties>
</file>