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B90B-013A-4AE9-A503-B5225D8EC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EF69-A09D-4492-912F-332A94FE6D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5ED4-8568-46E0-AD34-CC0D52545B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A2ED-4CB6-43A4-826D-6375597290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E575-3B0E-42C0-B758-C85467FAF8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26BD-071B-48C7-8B11-72082F726F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4648-BF0B-4FC7-83E8-1A7989F280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E2C3-1E4B-4A5B-A768-2265280604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9188-3083-4A3B-B362-A09A050692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2BE0-ED66-44AE-896E-54DA6AF9FF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CDDC-7017-4BB8-A76D-96EB057634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5815-2855-4F86-9CF5-55B41F3FF9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9E90-A667-4E0C-87D2-F306B98C40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E765-B165-4487-9B35-F4FFA1FD78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BCF9-8B99-4BC5-9EA3-856D2E6C22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EA2D-36CB-4BF2-84D5-C548740219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9368-FAFB-4B60-92ED-6ABD02199B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50AC-2D0C-4C75-B755-F15716CC1B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5B9C-5613-416E-8AA1-6C7136D110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970A-D497-4DF6-A46B-2E66DFDB4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FA65-D77A-4144-90C4-3B8076FD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BB73-0CBC-40C1-B96C-42E93BC94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56BF-A2C7-4B3D-B8F1-F13A1EA7A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718B-D328-4BFB-8BD0-AF7D9A0BA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3B69-0F55-40B8-8250-B7776FE5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F76F-4F82-4085-97C5-4307C74B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1507-D50C-4C2C-91CA-D2496BD9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7D6D-5157-48EC-8DFB-631041F8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FEE6-2013-4C4C-BC23-499AFE33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4ABE-8121-42DD-8946-CE30AA2E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CCB8-4660-437D-A0FB-EDCCC5E1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1E5F-FAA6-45BA-87A5-B392B967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D842-C1B3-47B5-89BF-57F8FE18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0F68-9936-4259-98E6-AD00856C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987D-128B-472E-8971-44A093416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1C5EF-5F42-424E-8CAD-BD6020982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3AB6-28E2-4ABD-BFAD-E3261C5C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137A-CD19-4C91-B30F-A2D06607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9A1D-4EE5-41ED-A396-8D506C9B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549A-0E8F-4BAE-9808-F64386EB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A1C4-53C9-4EF7-8B71-D62F262F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593A-58A5-4F57-A6A1-7CC6F2CA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5A1D-06C1-4C9C-A06B-FD011A8B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Rectangle 3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65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B945-1BDB-4BE1-A52B-C8B199EA5279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Picture 71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Rectangle 3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7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8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9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0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1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12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5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6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7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9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20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22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23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24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25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26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33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34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35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36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37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38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39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40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41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ectangle 42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43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44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45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46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47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48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49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50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51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Rectangle 52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53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54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55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Rectangle 56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57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58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59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60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61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62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63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64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65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Freeform 70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5CD8-3B2D-4815-BB12-789C05D8B9B2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acsu.buffalo.edu/~mdward/essay2.html" TargetMode="External"/><Relationship Id="rId2" Type="http://schemas.openxmlformats.org/officeDocument/2006/relationships/hyperlink" Target="http://www.wwnorton.com/nael/romatic/topic_2/welcome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racteristic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of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thic Litera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glish I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s. Dunn-Re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racteristics -- cont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71680" y="1752120"/>
            <a:ext cx="400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gion, usually Christianity or at least spirituality, is confron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othic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uble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used in which a character who seems to be good is linked with another who is ev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5" descr="GOTHIC CHAPBOOKS ILL4"/>
          <p:cNvPicPr/>
          <p:nvPr/>
        </p:nvPicPr>
        <p:blipFill>
          <a:blip r:embed="rId1"/>
          <a:stretch/>
        </p:blipFill>
        <p:spPr>
          <a:xfrm>
            <a:off x="4876920" y="1600200"/>
            <a:ext cx="3090600" cy="441972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6"/>
          <p:cNvSpPr/>
          <p:nvPr/>
        </p:nvSpPr>
        <p:spPr>
          <a:xfrm>
            <a:off x="4724280" y="640080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1dc5"/>
                </a:solidFill>
                <a:uFillTx/>
                <a:latin typeface="Arial"/>
              </a:rPr>
              <a:t>www.pagedepot.com/.../ GOTHIC%20CHAPBOOKSX.HT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re characterist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39243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7600" indent="-3240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, pain, de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240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uel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240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otic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240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acters with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errant psychological states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240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ts are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canny, macabre, or melodramatically violent bordering between reality and unre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5" descr=""/>
          <p:cNvPicPr/>
          <p:nvPr/>
        </p:nvPicPr>
        <p:blipFill>
          <a:blip r:embed="rId1"/>
          <a:stretch/>
        </p:blipFill>
        <p:spPr>
          <a:xfrm>
            <a:off x="4419720" y="2133720"/>
            <a:ext cx="4495680" cy="29970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6"/>
          <p:cNvSpPr/>
          <p:nvPr/>
        </p:nvSpPr>
        <p:spPr>
          <a:xfrm>
            <a:off x="4495680" y="548640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pantip.com/cafe/chalermthai/newmovie/hauntedcastle/hc.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urpo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3924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5600" indent="-3380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voke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or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versus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ror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in the reader because of situations bordering reality/unre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38840" indent="10656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ten used to teach a 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5600" indent="-3380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lack a Medieval setting but will develop an atmosphere of gloom and t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198432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fferentiating between the tw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3924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wful apprehension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bed distinc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hing grotes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appalling, unrealis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s on physical character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9243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ickening realizatio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ggestive of what will happ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ends on reader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 imagin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se of uncertain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s an 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angible atmosphere of spiritual psychic dread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merican Goth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5410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ant from the mid-18th Century 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ed to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mantic Period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icizes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myth of new-world innocence by voicing the cultural contradictions that undermine the nation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claim to purity and equality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Teresa A. Godd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lls of historical horrors that make national ident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5" descr="american gothic"/>
          <p:cNvPicPr/>
          <p:nvPr/>
        </p:nvPicPr>
        <p:blipFill>
          <a:blip r:embed="rId1"/>
          <a:stretch/>
        </p:blipFill>
        <p:spPr>
          <a:xfrm>
            <a:off x="5138640" y="1143000"/>
            <a:ext cx="3776760" cy="47242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6"/>
          <p:cNvSpPr/>
          <p:nvPr/>
        </p:nvSpPr>
        <p:spPr>
          <a:xfrm>
            <a:off x="5257800" y="6248520"/>
            <a:ext cx="350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photos1.blogger.com/img/154/1420/1024/american%20gothic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uthern Goth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82677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stomary setting because it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the source of values not necessarily welcome in the rest of the coun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e was the first Southern gothic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n themes: race, alienation, sense of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ness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5" descr="Southern Plantation"/>
          <p:cNvPicPr/>
          <p:nvPr/>
        </p:nvPicPr>
        <p:blipFill>
          <a:blip r:embed="rId1"/>
          <a:stretch/>
        </p:blipFill>
        <p:spPr>
          <a:xfrm>
            <a:off x="1676520" y="1828800"/>
            <a:ext cx="5181480" cy="28162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6"/>
          <p:cNvSpPr/>
          <p:nvPr/>
        </p:nvSpPr>
        <p:spPr>
          <a:xfrm>
            <a:off x="7162920" y="2057400"/>
            <a:ext cx="1981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http://www.madelinecarolgallery.com/images/Southern%20Plantation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8628120" y="5881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yber gothic litera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4838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tions seem unrealistic during this time period but possible in the f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k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hing natural; all man-m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acters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odies are often altered, making them less human-l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knowledge and a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ologically enhanced future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5" descr="ANGEL"/>
          <p:cNvPicPr/>
          <p:nvPr/>
        </p:nvPicPr>
        <p:blipFill>
          <a:blip r:embed="rId1"/>
          <a:stretch/>
        </p:blipFill>
        <p:spPr>
          <a:xfrm>
            <a:off x="5292720" y="609480"/>
            <a:ext cx="3774960" cy="51246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6"/>
          <p:cNvSpPr/>
          <p:nvPr/>
        </p:nvSpPr>
        <p:spPr>
          <a:xfrm>
            <a:off x="5181480" y="6172200"/>
            <a:ext cx="3962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http://darklands.ivory-tower.net/index.php?module=ContentExpress&amp;func=display&amp;ceid=17&amp;meid=-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r assign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3924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1240" indent="-29592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 in groups of 4-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1240" indent="-29592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turns around the circle creating a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thic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tory - campfire style - 3-5 mins. in leng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1240" indent="-29592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notes and write down key plot p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1240" indent="-29592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e down gothic elements in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1240" indent="-29592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prepared to share with the class next time we me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5" descr=""/>
          <p:cNvPicPr/>
          <p:nvPr/>
        </p:nvPicPr>
        <p:blipFill>
          <a:blip r:embed="rId1"/>
          <a:stretch/>
        </p:blipFill>
        <p:spPr>
          <a:xfrm>
            <a:off x="5181480" y="762120"/>
            <a:ext cx="3210120" cy="487656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6"/>
          <p:cNvSpPr/>
          <p:nvPr/>
        </p:nvSpPr>
        <p:spPr>
          <a:xfrm>
            <a:off x="5029200" y="6095880"/>
            <a:ext cx="3657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http://www.illustrationweb.com/artist_pages/artist_images/artist_4/the_pit_and_the_pendulum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urces of tex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76579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60000"/>
                </a:solidFill>
                <a:uFillTx/>
                <a:latin typeface="Arial"/>
                <a:hlinkClick r:id="rId1"/>
              </a:rPr>
              <a:t>http://www.acsu.buffalo.edu/~mdward/essay2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60000"/>
                </a:solidFill>
                <a:uFillTx/>
                <a:latin typeface="Arial"/>
                <a:hlinkClick r:id="rId2"/>
              </a:rPr>
              <a:t>http://www.wwnorton.com/nael/romatic/topic_2/welcome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1905120" y="1917720"/>
            <a:ext cx="20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did it become popul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4457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0920" indent="-3348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er 18th Centu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ed with a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hic Revival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- mid-1700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3000" indent="-3330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ible in gard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3000" indent="-3330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n in architecture (gargoyles) of the Middle 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02840" indent="-30132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740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 - Horace Walpole - Strawberry Hill estate near Lond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02840" indent="-30132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blishe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e Castle of Otranto: a Gothic Stor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17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4038480" cy="29163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4876920" y="53341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www.puzzlehistory.com/gothgrdn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2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2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2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lication to litera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924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4600" indent="-345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kind of romantic, scary no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me from Germany in the late 1700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- early 1800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r among female wri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best seller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5" descr="dungeons"/>
          <p:cNvPicPr/>
          <p:nvPr/>
        </p:nvPicPr>
        <p:blipFill>
          <a:blip r:embed="rId1"/>
          <a:stretch/>
        </p:blipFill>
        <p:spPr>
          <a:xfrm>
            <a:off x="609480" y="2414520"/>
            <a:ext cx="3924360" cy="294336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6"/>
          <p:cNvSpPr/>
          <p:nvPr/>
        </p:nvSpPr>
        <p:spPr>
          <a:xfrm>
            <a:off x="685800" y="5715000"/>
            <a:ext cx="380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www.greatscotland.be/evenementen.h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amous Gothic Writ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5410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4600" indent="-345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n Radcliffe -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Mysteries of Udolp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ne Austen --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orthanger Abbey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arody of Gothic nove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lotte Bronte --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Jane Ey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ily Bronte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-- Wuthering Hei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irley Jackson, Daphne du Maurier, Barbara Michaels, Anne R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" descr="0345409671"/>
          <p:cNvPicPr/>
          <p:nvPr/>
        </p:nvPicPr>
        <p:blipFill>
          <a:blip r:embed="rId1"/>
          <a:stretch/>
        </p:blipFill>
        <p:spPr>
          <a:xfrm>
            <a:off x="6019920" y="1676520"/>
            <a:ext cx="259056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lass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y Shelley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rankenstein (181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most important product of this trad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mes relate to science, poetry, psychology, alienation, politics, education, family relationship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ition: 8-foot tall monster made of separate body pie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1028" descr="Frankenstein"/>
          <p:cNvPicPr/>
          <p:nvPr/>
        </p:nvPicPr>
        <p:blipFill>
          <a:blip r:embed="rId1"/>
          <a:stretch/>
        </p:blipFill>
        <p:spPr>
          <a:xfrm>
            <a:off x="4952880" y="996840"/>
            <a:ext cx="3765600" cy="50230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1029"/>
          <p:cNvSpPr/>
          <p:nvPr/>
        </p:nvSpPr>
        <p:spPr>
          <a:xfrm>
            <a:off x="4724280" y="6400800"/>
            <a:ext cx="441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1dc5"/>
                </a:solidFill>
                <a:uFillTx/>
                <a:latin typeface="Arial"/>
              </a:rPr>
              <a:t>librarycommission.lib.wv.us/ WVLC%20BOOK/Frank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fluence felt elsewhe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5181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5600" indent="-3380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ime of the Ancient Mariner by Coleridge-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eleton ship and the crew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5600" indent="-3380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hristabel by Coleridge-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mosphere, setting, and fragmentary plot of seduction and witch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5600" indent="-3380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anfred by Byron -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 sce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5600" indent="-3380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Even of St. Agnes by Keat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 se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4" descr="ancient_mariner4"/>
          <p:cNvPicPr/>
          <p:nvPr/>
        </p:nvPicPr>
        <p:blipFill>
          <a:blip r:embed="rId1"/>
          <a:stretch/>
        </p:blipFill>
        <p:spPr>
          <a:xfrm>
            <a:off x="5099040" y="2716200"/>
            <a:ext cx="3816360" cy="39132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5"/>
          <p:cNvSpPr/>
          <p:nvPr/>
        </p:nvSpPr>
        <p:spPr>
          <a:xfrm>
            <a:off x="5715000" y="2133720"/>
            <a:ext cx="3124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wilsonsalmanac.com/images2/ancient_mariner4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amous Gothic Writers - cont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3924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gar Allen Po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ven 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1029" descr="Edgar-Allen-Poe's-Tales-of-"/>
          <p:cNvPicPr/>
          <p:nvPr/>
        </p:nvPicPr>
        <p:blipFill>
          <a:blip r:embed="rId1"/>
          <a:stretch/>
        </p:blipFill>
        <p:spPr>
          <a:xfrm>
            <a:off x="5084640" y="1981080"/>
            <a:ext cx="3051360" cy="381024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030"/>
          <p:cNvSpPr/>
          <p:nvPr/>
        </p:nvSpPr>
        <p:spPr>
          <a:xfrm>
            <a:off x="4952880" y="609588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www.3boysproductions.com/MIFF-2002-Fri-Nite-Program.h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1031" descr="Stephen_King_ca-t"/>
          <p:cNvPicPr/>
          <p:nvPr/>
        </p:nvPicPr>
        <p:blipFill>
          <a:blip r:embed="rId2"/>
          <a:stretch/>
        </p:blipFill>
        <p:spPr>
          <a:xfrm>
            <a:off x="533520" y="3124080"/>
            <a:ext cx="3886200" cy="291492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032"/>
          <p:cNvSpPr/>
          <p:nvPr/>
        </p:nvSpPr>
        <p:spPr>
          <a:xfrm>
            <a:off x="762120" y="612792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www.1001-votes.com/vote/fond.php?mcat=24&amp;lg=f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racterist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4000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in Medieval 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k, mysterious, evil t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k castles, palaces, chambers, haunted man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lated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come together to emphasize the sense of ev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5" descr=""/>
          <p:cNvPicPr/>
          <p:nvPr/>
        </p:nvPicPr>
        <p:blipFill>
          <a:blip r:embed="rId1"/>
          <a:stretch/>
        </p:blipFill>
        <p:spPr>
          <a:xfrm>
            <a:off x="5337000" y="1981080"/>
            <a:ext cx="2546640" cy="381024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6"/>
          <p:cNvSpPr/>
          <p:nvPr/>
        </p:nvSpPr>
        <p:spPr>
          <a:xfrm>
            <a:off x="5029200" y="6172200"/>
            <a:ext cx="373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www.encounterspri.com/Articles.h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re characterist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ce of ghosts, spirits, vampires, and other supernatural ent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sterious disappearances and reappear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ernatural or paranormal occur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5" descr=""/>
          <p:cNvPicPr/>
          <p:nvPr/>
        </p:nvPicPr>
        <p:blipFill>
          <a:blip r:embed="rId1"/>
          <a:stretch/>
        </p:blipFill>
        <p:spPr>
          <a:xfrm>
            <a:off x="4648320" y="2219400"/>
            <a:ext cx="3924360" cy="333216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6"/>
          <p:cNvSpPr/>
          <p:nvPr/>
        </p:nvSpPr>
        <p:spPr>
          <a:xfrm>
            <a:off x="4495680" y="609588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penelopesweb.com/gargoyles.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8:41:56Z</dcterms:created>
  <dc:creator>Lori Dunnreier</dc:creator>
  <dc:description/>
  <dc:language>en-US</dc:language>
  <cp:lastModifiedBy>Ernst, Michelle</cp:lastModifiedBy>
  <cp:lastPrinted>2011-11-10T19:12:43Z</cp:lastPrinted>
  <dcterms:modified xsi:type="dcterms:W3CDTF">2015-01-28T20:57:35Z</dcterms:modified>
  <cp:revision>45</cp:revision>
  <dc:subject/>
  <dc:title>Characteristics  of  Gothic Literature</dc:title>
</cp:coreProperties>
</file>