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293-B105-4237-8DF0-6CD7C471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72-DF92-48D1-814A-62B8777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57E84-9155-40F8-98DA-B51331C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77ED4-F06D-4D1C-8B61-4D1486F8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5FDE-51FF-4E15-BA35-65245145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D9CDB-4B73-453B-944A-3495D01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9EFBA-CEF8-430B-876F-7CDB9A2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9783-EBD8-423D-A0C2-508523D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8AA33-2D29-4377-B1D0-903FFEEF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C10A-8F52-42A3-B8C5-ECE798AB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4912B-B318-4925-8901-C14AAC8A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95B03-05B3-4ECA-BA4A-E0E62966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BCF-2CC7-4BFE-B47F-B0F7ADB2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4BA0B-E127-428E-8590-37FE836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50873-970E-47FC-A1BC-660740A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4BBB8-4159-4579-8B4E-BCFF8EF3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F1E0B-FD34-4166-BB26-D3BE9A6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ABB79-6146-4BE7-89BA-1FCD1B4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2A09C-54E1-4A6A-A705-9EF52D35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43952-5C7A-40E8-B5BF-C0569610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00B29-772A-4263-86CD-CB1A9E68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1912B-6945-4E3A-BA07-A1815BA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8CB5F-2428-404F-8AF6-31FF8116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878-5A79-40FB-9DB8-873E7098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DF616-B297-4F56-88E5-C99587FE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62A8-6AB3-494E-B066-2BD3A0C3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6820B-9F82-41C3-9DCA-19DBF8E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46C2B-61BF-4AA5-A8C3-1DB026CD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FC10-73C6-4712-B37B-FE04CCE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94D30-FFF5-47A9-ABCD-C4AC33A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13ED-871F-4852-826D-789BF944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A2BFE-4504-477F-A8F4-7B71D11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EE149-C461-45CB-A0B7-C9EDFED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6BF73-21E3-42B6-BE9D-91078397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CE02-8F3E-4EA2-9BA4-9055790B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DFCC-22E6-4685-91EB-8B24AA1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7FACB-AF14-40E3-82E4-F9BCDB5D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B0AEA-A882-4392-8070-1F11D8E2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30E90-B6CE-44AB-92A5-0900EC6C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04825-EE8D-414C-87FE-61611E58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81793-AC72-4DAB-926C-44574E8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50B7-D667-466A-A27F-41A6467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0DEC7-00AB-443D-AF6D-819F4E7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974F4-7235-4DE4-98DF-C2AD5327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020FE-9508-43F2-9C18-90B3464E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1811-C307-4989-BC6E-2F60162E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1EAB7-89CE-4256-B659-60FA312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51AEA-13F4-430F-A47C-EFE4A29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1D32B-2194-4EAE-A324-43731420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9DBB7-EE45-45C1-9C7D-14858E3C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C8D6E-016F-45CC-B1D8-0AE7EDD7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78F1-8CED-4A83-A6AD-4AC1566D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A4D4-3AC0-4261-B6ED-33F7591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289B-C832-43B4-A6B4-C527B174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55A2-F253-46E8-BA74-03436A3F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FE5-E375-44D6-8234-D347C76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89A-4AD4-4C9D-B7C3-C1B0862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688F-C173-48BE-8477-AB516AC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202B-30E5-4BAA-9E3B-45AD120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32C6-D061-4195-948B-F8106C97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AA00-4B07-4B24-B4BF-2513C83E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DB47-9E62-4244-8E9E-C8B3B064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F68B-7BE8-4676-B59F-1788C65A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DE59-1BA5-48FA-A4B1-88F3832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8F4F-90BE-432C-9FEA-E85C29A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609B-2A27-4CB3-8C0E-963A6F53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DC1B-FB42-41EA-AC45-98E96AAA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503-4CAB-4FC7-86D1-FB2A071F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E573-F814-4156-BCB2-1CCE6D5F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6556-179B-4048-BF85-8286D50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B9998-D5FF-4D72-9D8D-F3FAAEE0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2E0DB-6B72-4311-B0A1-AD71DD1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CD4C-78D2-44F3-94A6-B195C96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2573-E1A9-4A30-ADA3-785D01CA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E3A3-2908-4C2C-B26A-5D223410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30B6-AFE0-4533-95A5-8A7C00AB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C019-79B7-477E-B426-75BE1131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4093-4488-4CBA-B26D-C9A4668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BBF-07D9-48D3-BA7A-791364B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5263-60F0-4D4C-BEB1-CBC2F400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0B68-CD07-42AF-B9B0-27EE5847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7A56-11F3-489C-821C-AC8828F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C3B6-579D-4112-971A-C6AA6E1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1B49B-C13F-4852-9367-3063B9A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B4B5-D8EB-48B1-BC3A-90BE8106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47BE-0D6C-450A-AA84-9E9E0E6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0B65-E7A4-43B7-9FBC-5B1DDAA4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E5F3-5218-4621-B10F-A557FD89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8E8FB-C43C-4352-A990-70828339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199-9E66-4B2C-945C-39349E39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AE15-A729-4C99-976F-25B15409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98423-EA99-4D23-9D87-4B45C30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0CFA-9AC1-4BFA-81DC-FEFEC03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5B35A-CBB6-407E-B88A-DF4E895D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4CAD2-2371-4C94-9996-6C556AFF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9730-99BA-4B99-9A80-20807B0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016F-267C-4EA3-9302-80398510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018A-1A80-4E2A-BAED-0DF07C05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F1F3-79D3-4998-829D-AB2AEC0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E84B-3798-461F-9729-6B112F48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E49-A912-4DE4-9BD8-BE8FB847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C0F1E-FE55-451E-9934-B0F86453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DDE0-2514-4455-966C-7D4E0E03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8D06-CF17-4C22-BAD4-2877C91C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D9AF-FFF6-40F6-A19B-783A3944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41133-52AF-4EB4-87EE-BC10750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28CCD-D750-48AE-BDDA-A39553D4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C4D4-7057-4D36-8596-45B8D3BD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618B-1A61-46F6-B394-BCE79D0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D77DF-B97A-462A-BA4F-B0C67D0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59D20-D458-4C3E-8FC0-111BCA58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973-3A14-42D5-A4B8-329EE28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1E8E8-964A-480C-BC5C-5758A587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3B10-9602-4287-95B8-CE043EC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09ADD-BD86-4629-8481-652BB074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9AF3B-78B2-406C-BD21-687BE541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37AB-D17D-4241-B638-EA246CFB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9CD6C-D22F-4A53-99ED-080B6BA4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FF627-7D42-4EA6-9D67-5410F0E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7E4D-533D-4FA3-9342-320A83C7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B73E-A6F6-49CE-B374-4667ED7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A1F6-C25C-4A8A-8A43-3AF2EF9C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336-177F-4656-A92C-C91F46E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3C458-31ED-4212-A8FD-65222C4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BD028-40BF-44D0-9CF9-E753A53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AE1AF-F140-48E3-BC7F-29B31F0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C8F9-A93A-40D9-99CD-992352B1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1AEE1-BAD0-4359-90D5-2ACF55B9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6A675-12C9-4C7C-9959-3A38B73A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6D7A-0C2C-4511-ACCD-4C55EE7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29619-98C8-4AE4-B96F-A280AD58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93C6-8BB4-469F-9A4E-8F6AC64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2E54B-802D-43BC-95AF-1FDE19F0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C49-F7BD-4B64-9B46-F2FBBFA3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016F0-A626-4DEF-9EB3-33EC03B3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E184-B70E-4D2D-83D1-4BFA2550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EE1B7-E075-4CE8-B624-83C38F6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7389-EC47-4A72-B99A-83217FB0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9AE49-B2F7-43BA-83CB-48871A91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002E4-4B0E-4F33-A26E-7F7FF4E7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EA2AF-8456-4303-A2F8-6DD538CD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0529-09C4-47CA-8BFE-66B84DFE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60E08-041F-46B0-8B98-E8C6389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E64CE-3672-436D-9B02-428EC80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2C06-61C2-478A-A03A-22B90C59CB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C033-ECD9-4C00-B001-4CC09123E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D2A2-B747-4DC6-BC9D-2814FFB95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87E-3B50-4CF5-B46B-1D1A4241F0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EECA-DADB-4166-8F4D-42BB5B5B34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6A5F-176F-4A94-9561-70FA7D78ED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A5E1-4018-4E98-98BC-465B3D87F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E7EB-5DEF-4092-B280-CD603C66F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19B-844D-4932-9F76-D40FF95A9A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23D-A353-4058-8C13-C618FA867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8323-A396-4415-95AD-CC31252F21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3200-C91F-4036-8413-906D3AA56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Kristen ITC"/>
              </a:rPr>
              <a:t>Style, Tone, and Moo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o support the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4" descr="j0157995"/>
          <p:cNvPicPr/>
          <p:nvPr/>
        </p:nvPicPr>
        <p:blipFill>
          <a:blip r:embed="rId1"/>
          <a:stretch/>
        </p:blipFill>
        <p:spPr>
          <a:xfrm>
            <a:off x="4267080" y="45720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j0158007"/>
          <p:cNvPicPr/>
          <p:nvPr/>
        </p:nvPicPr>
        <p:blipFill>
          <a:blip r:embed="rId2"/>
          <a:stretch/>
        </p:blipFill>
        <p:spPr>
          <a:xfrm>
            <a:off x="2590920" y="5105520"/>
            <a:ext cx="4568760" cy="538200"/>
          </a:xfrm>
          <a:prstGeom prst="rect">
            <a:avLst/>
          </a:prstGeom>
          <a:ln w="0">
            <a:noFill/>
          </a:ln>
        </p:spPr>
      </p:pic>
      <p:sp>
        <p:nvSpPr>
          <p:cNvPr id="532" name="PubHalfFrame"/>
          <p:cNvSpPr/>
          <p:nvPr/>
        </p:nvSpPr>
        <p:spPr>
          <a:xfrm>
            <a:off x="228600" y="228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usually falls within one of these types of organizational patter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- Eff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–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ological (sequencing the order of ev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/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ctive (specific to gene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ive (general to specif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sion into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ing (i.e.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st _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you predict which would be writing patterns for giving information? For entertaining? For expressing an opinion? For persuading someone to believe as you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* We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l discuss these styles more in depth next six weeks; for now, just know they exi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analyzing style, you must look at a piece of writing FROM the overall structure of the text TO the small details and word choices.  Be an editor, a critic, to answer the question:  how would I describe this author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 writing styl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is simply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s attitude toward the subj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ou can recognize the tone/attitude by the language/word choices the author uses.  His language will reveal his perspective/opinion (that is, whether it is positive/negative) about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must be inferre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through the use of descriptiv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 is the overall feelings or emotions that are created IN THE REA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the p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move mount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reader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s through their choice of words and level of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identifying the mood of a piece of writing will depend on the number of descriptive words you know to answer the question: How did this paragraph, this passage, this story make the character or make you f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o writers use particular elemen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t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opinion/b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ormational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sitory:  to explain, describe,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s, journals, newspa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text:  provide instructions on how to do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pes, experiments, how to asse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TYLE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author has his or her ow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y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that is, each author uses tone and mood in a particular way that makes his or her writing recogn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read several books by the same author, you become accustomed to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tyle of writing and sometimes you look for authors with a similar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TY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Kristen ITC"/>
              </a:rPr>
              <a:t>the way the author uses words, phrases, and sentences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o, when analyzing an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style, we need to consid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point-of-view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rganization/structure of tex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level of complexity in the writing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verall </a:t>
            </a:r>
            <a:r>
              <a:rPr b="0" i="1" lang="en-US" sz="2800" spc="-1" strike="noStrike">
                <a:solidFill>
                  <a:srgbClr val="ffffff"/>
                </a:solidFill>
                <a:latin typeface="Kristen ITC"/>
              </a:rPr>
              <a:t>tone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Formal or inform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By using these features in writing, different meanings of the content (what the story/text is about) are shown to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Kristen ITC"/>
              </a:rPr>
              <a:t>Style:  Which Point of View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rst person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I, me, my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ent to the store today. When I was in the cereal aisle, I bumped into an old friend and had a nice convers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cond person: (you; instructions/directions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ou should work on getting your room cleaned. First, pick up the clothes on the floor. Then, you need to run a vacuum and dust the tab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ird person – limited: (he/she/it/they/them told thru 1 charac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 could tell from the expression on her face that what he had said upset her.  If only he knew, though, what she was really thin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Third-person Omniscient (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all knowin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he/she/it/they/them told by the author; all character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feelings/thoughts are reveal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he refused to look at Jamie again and instead stared at the stat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Come on!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exclaimed Jamie impatiently.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 time to go.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ara ignored Jamie and continued to gaze upon the statue wishing she, too, could be so still and at peac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Style: Formal vs. Inform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Formal: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ear S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fter examining your job description, I feel I am an excellent candidate. I have many years of experience performing these specific duties. My résumé is attached. Please read it over at your convenience and contact me if you have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incere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ndrew 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Informa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ey, Sara! What's going on tonight? Call me before you guys leave, okay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--B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l vs. Informal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	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the tw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jor categories of sty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writing, professional, to someone you don’t know w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: high-level; busines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ganization of text: very structured; perhaps with sub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dience – usually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mnisicient (except for business lett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tences: structure varies (s/cd/c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69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way we talk to fri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actions 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– low-level; perhaps slang; dialo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ganization of text – more so narrative or note-l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dience – usually personal (more first or third-limi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tences – d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 vary as much in structure; mostly simple or compound sen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s organized in various ways, depending upon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purpose: to inform, to entertain, to express a belief/opinion, to persuade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member these?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9:41:40Z</dcterms:created>
  <dc:creator>vanessah</dc:creator>
  <dc:description/>
  <cp:keywords/>
  <dc:language>en-US</dc:language>
  <cp:lastModifiedBy>Rowell, Sandra</cp:lastModifiedBy>
  <dcterms:modified xsi:type="dcterms:W3CDTF">2016-08-25T18:58:50Z</dcterms:modified>
  <cp:revision>81</cp:revision>
  <dc:subject/>
  <dc:title>Style, Tone, and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51033</vt:lpwstr>
  </property>
</Properties>
</file>