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ACE-0F58-4060-8EC3-FFC6AA6C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1FB-8554-4BCD-AF05-5CF8B519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6C639-F792-46C6-BF2F-8321192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064BB-33A7-4137-80A8-77F5BA69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020AC-D656-452F-A436-700766DA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031B7-FE08-48E0-8300-33B6406A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6E342-5B08-4C46-B9E0-4DBE9844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A37C1-F0ED-4E16-981F-3EA14675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E8567-6271-48D5-A553-3D2E56C5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67EC0-5281-4F4C-AF13-91395CF8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F51EB-0C1A-4BA1-AC7A-C2CE4D33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433FF-5ED6-4181-A0D7-FD8FDCEA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F5A-F195-4820-98F6-F6B2D1FA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271BD-B45A-4E99-AFC7-2725A3DB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0C903-3B47-43E2-A05C-18F8FFBC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2BDE0-A895-40FA-9A5E-9E3A00C0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C3223-1FDF-4DC7-83B9-A0C234CA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53478-0901-4D8F-9649-6E1BC66C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D36AF-4583-4CEE-BA8D-4F1AC411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1F277-292D-445C-8D60-5CB172B6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F983F-77CC-4095-8BD1-C400AF8B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8CA85-C2A2-4884-9465-A410659F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3D3EC-9287-4C6C-BDE6-5D780266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674-AC58-493D-B238-CB982544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9D02E-C5F2-4811-AF2A-06F2CAE5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0037A-6764-48C5-963D-8007EF1E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BC3A1-CDBD-4AD9-897A-4627C5AC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D3E83-B9DD-40C2-9406-FAFFFF94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ACC55-7783-4C5B-9506-15BA7300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BD798-F6F1-4D5B-AEA4-CEB631C1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3B0D7-26E0-4E36-87CE-9514581B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07B3D-02CE-4608-A115-B5BCBC53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DE37F-37F2-4250-A7CB-972A7D06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FBEB6-2433-4B3D-BACE-A5E95145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362A-7C90-4647-9C22-FDC8576C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C7E61-3F6D-438E-B27B-A4143D8D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F795F-C38D-4D53-B3B5-C52EDFAE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FB3D5-3096-4873-B70B-257B78AB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22DCA-6BF9-48F8-8FB2-CCCA2E4A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77524-2546-4164-9CB9-03B76FB6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83F7A-0122-4388-9517-9A72F83D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220CC-6E1B-45C2-868A-D5AC82DA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B6514-4E02-47B9-9788-449AB368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95EF3-A400-4688-8A02-838CA2AC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4C843-0237-4C03-968B-DA92DF4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0E8D-01B9-4D08-9E0B-4F86C959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74B7F-60AD-49D5-B103-96ABA8CF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00024-E892-41FC-B6A5-4682E47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FF1C6-FAB6-4763-ADE1-20EE7C77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BB0B9-A853-4F2F-93E5-AC084AA2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A2F68-9979-4D52-A5A4-DC9F0CEC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FC94-FE4A-4B1A-A130-DB7B700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05AC-B78F-4C21-8FE1-82F5219D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A447-FFC0-48A0-B2FB-2BCA3AD5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3D41-623E-4549-BEE2-76C8E058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8F97-D4DC-4A04-80A0-19AB44CB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B10-5F85-4D0B-8D0B-860A9AF2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C198-E21D-45D5-B0FF-2C289B1D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AED8-6FF8-4982-BEB7-05D83F31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8B40-9C02-472A-971C-1054D971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DE12-36B6-4D3B-A393-AA87D71F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A71D-152B-4899-967D-7A02BA73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85C8-E789-41A8-82DF-67B431ED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43A0-8FF8-43C4-9326-17BA9F59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404B-2AE3-40DF-8B12-804B8753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DFF1-8BB3-4509-AFCF-7C59701D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FCC0-F91E-489F-B424-B038FED4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D31-9E2F-466C-AAF8-E40A845B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F8BF-B697-4D4E-B5CF-94080ECA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9A44-987D-4A49-AC0A-C6080C55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51EC-62E0-41B3-BA07-A9C55B7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64FA-63F0-4826-8229-7B62D29F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F589-5F4F-4064-AC1A-F052316F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94C2-C810-40C2-B738-66C5C9F9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54C7-201E-4C55-9077-E3B90FDB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6EBA-2059-474B-8B34-11E46A03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81CF2-8AD8-4CF0-A6C9-5F281559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3C076-34A7-4654-B284-C3F938E0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7B2-EA96-400F-BB46-807E8CE9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4F8D-01EA-495E-9DEE-A07E37D3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CE643-A566-4E48-B7A0-0896067A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EE6F-A04D-4CCF-82CD-6E58FA2F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D5A7-4BA0-4123-85E0-4DB0119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227D3-FD7B-46C2-AC64-B94B4B8F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6751-F272-496C-AFDE-CEEB397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20A2A-02C7-4FF2-B947-650793EA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0792-17BC-4AC8-BEF4-A11FC3D8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7F09A-96DF-4596-A11A-035388E7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1EA1-E667-4E38-AB4F-DB9F9722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368-5797-4129-B6F4-F2C4D2B6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48C02-0CC2-41CB-BF41-0F2D8467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06B8C-8519-4634-8E89-8F61F31D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0BA2-E188-4828-8EB1-DC167C04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1D3B-0EDF-41F2-8F46-15660FA2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C69A2-A6EF-4653-B5F5-5D15220D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1D072-D5F2-492C-8A36-A260EB19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04930-E027-416F-90BA-2BC24683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0823-821E-404A-A710-E8BC3B4A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4C34C-2832-4137-AEDD-0DC1C299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2E8B8-C84E-4DDA-BB07-F42F24BC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F38-51F3-42DA-BB32-33942392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8F0BA-2C93-419B-BFB6-3C88D74E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D957A-AAB8-4868-AA48-3CC70B0E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CA48C-E31A-42E1-8ED9-CD07CAB3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3C71E-16B8-4B53-B34F-AEB32E18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679B-3EF4-408F-9052-911B31B1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7309E-7A1F-42B7-B9DF-C6D40BB4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3C9AA-F8A0-455C-979F-CA04A77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C9202-332D-4058-BF2B-22EB2A81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E0BE8-A57A-4EC9-AE70-A2CC8BDB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1B824-5185-4FD6-BB53-D7D77833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A81-2A07-4D2E-9219-303E1C97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F8FDC-0089-4E64-95A4-B66C0343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ABAC-B540-4C2C-BEF8-D926BC7F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9997F-1052-40BF-8004-D71E841A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9D30E-EEF0-4D5E-A2D0-A6D4B17B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4A2D7-E1A4-41A7-9145-81DB26EC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2C4D4-12CC-4963-8B17-08DEDF64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DE04E-3010-4274-A3F0-6B7840D8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E682-A022-4C8E-A94C-AC2F8101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8399F-FB71-4E3D-B9E9-CE0F3567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D0E03-D455-4706-BD49-3B33C500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71C-F1F1-484C-A05A-95BE86E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88DF4-B779-4919-80A1-6ABC99A2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CA460-DCD1-411B-B23A-AA4E960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28C7E-4AEF-4324-BC95-1778ADAF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FA99B-E195-49D2-A641-67A87F42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26D63-2307-4256-90EB-9854DA4D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0BD34-5E9E-4579-B4A0-58D1816B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4D1CA-7C30-481C-AA78-DF763747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7FF7F-263F-4D5F-B945-04817232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B9C5C-6019-41BA-AD84-44A62ECF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D72C3-791A-4BDB-8442-20D94309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05A-4E3C-4432-A90E-E10FD9B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D2DF9-5248-47C3-B7C1-4E0B3294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B3C07-2703-4A61-91EA-54AF0938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2AC97-1054-4500-B303-9B81A000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6433-9499-429A-A5E6-065D6F6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0BC7B-6D52-4473-A764-29235B66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ADF35-1726-4214-90A3-94E08D25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1AAAA-9B8F-4483-ADA6-3B8A5442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589A7-D17C-47B6-AB3E-707389A4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AEA92-8B6A-4132-9096-CBEFD9FA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2D4E6-917C-43BD-851E-BF9BB3F0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7D94-F46C-4547-A5B7-7BD8281128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2AE1-32F4-47DA-87AB-D92B81111E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104-067A-49D1-A6BB-FD0473F48F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89FC-CDFB-433D-9497-A47C169E5D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BCCE-B897-42A6-9D54-BC55262E3E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30C4-AF3D-4016-8F19-09D11100E8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A593-F109-4E4F-943C-9DB7A0903E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2C92-1807-416E-9C9D-6FBA7F4452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84B4-11A3-4404-9B62-D4690DB9C3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FD64-ACCE-470C-AAAE-09DD39E708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E3F4-9ABD-4CAB-8409-0E992677EB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5AE7-2039-4261-9994-145E627E13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86200" y="2057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Kristen ITC"/>
              </a:rPr>
              <a:t>Style, Tone, and Moo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to support the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Picture 4" descr="j0157995"/>
          <p:cNvPicPr/>
          <p:nvPr/>
        </p:nvPicPr>
        <p:blipFill>
          <a:blip r:embed="rId1"/>
          <a:stretch/>
        </p:blipFill>
        <p:spPr>
          <a:xfrm>
            <a:off x="4267080" y="457200"/>
            <a:ext cx="4569120" cy="762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j0158007"/>
          <p:cNvPicPr/>
          <p:nvPr/>
        </p:nvPicPr>
        <p:blipFill>
          <a:blip r:embed="rId2"/>
          <a:stretch/>
        </p:blipFill>
        <p:spPr>
          <a:xfrm>
            <a:off x="2590920" y="5105520"/>
            <a:ext cx="4568760" cy="538200"/>
          </a:xfrm>
          <a:prstGeom prst="rect">
            <a:avLst/>
          </a:prstGeom>
          <a:ln w="0">
            <a:noFill/>
          </a:ln>
        </p:spPr>
      </p:pic>
      <p:sp>
        <p:nvSpPr>
          <p:cNvPr id="532" name="PubHalfFrame"/>
          <p:cNvSpPr/>
          <p:nvPr/>
        </p:nvSpPr>
        <p:spPr>
          <a:xfrm>
            <a:off x="228600" y="2286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usually falls within one of these types of organizational patter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- Effe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 –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ological (sequencing the order of even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/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ctive (specific to gener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ductive (general to specif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ision into categ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king (i.e.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st _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you predict which would be writing patterns for giving information? For entertaining? For expressing an opinion? For persuading someone to believe as you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** We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l discuss these styles more in depth next six weeks; for now, just know they exi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en analyzing style, you must look at a piece of writing FROM the overall structure of the text TO the small details and word choices.  Be an editor, a critic, to answer the question:  how would I describe this author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 writing styl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is simply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s attitude toward the subjec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You can recognize the tone/attitude by the language/word choices the author uses.  His language will reveal his perspective/opinion (that is, whether it is positive/negative) about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Kristen ITC"/>
              </a:rPr>
              <a:t>must be inferred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 through the use of descriptive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OD is the overall feelings or emotions that are created IN THE REA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of the pe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move mountain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ir reader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ods through their choice of words and level of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, identifying the mood of a piece of writing will depend on the number of descriptive words you know to answer the question: How did this paragraph, this passage, this story make the character or make you fee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do writers use particular elemen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nt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xpress opinion/bel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formational Tex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sitory:  to explain, describe,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s, journals, newspa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dural text:  provide instructions on how to do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ipes, experiments, how to assem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TYLE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author has his or her ow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y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that is, each author uses tone and mood in a particular way that makes his or her writing recogniz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read several books by the same author, you become accustomed to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style of writing and sometimes you look for authors with a similar sty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TY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Kristen ITC"/>
              </a:rPr>
              <a:t>the way the author uses words, phrases, and sentences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o, when analyzing an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style, we need to conside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point-of-view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rganization/structure of text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level of complexity in the writing,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verall </a:t>
            </a:r>
            <a:r>
              <a:rPr b="0" i="1" lang="en-US" sz="2800" spc="-1" strike="noStrike">
                <a:solidFill>
                  <a:srgbClr val="ffffff"/>
                </a:solidFill>
                <a:latin typeface="Kristen ITC"/>
              </a:rPr>
              <a:t>tone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Formal or inform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By using these features in writing, different meanings of the content (what the story/text is about) are shown to the audi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Kristen ITC"/>
              </a:rPr>
              <a:t>Style:  Which Point of View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rst person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I, me, my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ent to the store today. When I was in the cereal aisle, I bumped into an old friend and had a nice convers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cond person: (you; instructions/directions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ou should work on getting your room cleaned. First, pick up the clothes on the floor. Then, you need to run a vacuum and dust the tabl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ird person – limited: (he/she/it/they/them told thru 1 charac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 could tell from the expression on her face that what he had said upset her.  If only he knew, though, what she was really think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Third-person Omniscient (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all knowing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he/she/it/they/them told by the author; all character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feelings/thoughts are reveale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he refused to look at Jamie again and instead stared at the statu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Come on!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exclaimed Jamie impatiently. 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I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 time to go.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ara ignored Jamie and continued to gaze upon the statue wishing she, too, could be so still and at peac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Style: Formal vs. Inform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Formal: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Dear Si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fter examining your job description, I feel I am an excellent candidate. I have many years of experience performing these specific duties. My résumé is attached. Please read it over at your convenience and contact me if you have question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Sincere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ndrew M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Informal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ey, Sara! What's going on tonight? Call me before you guys leave, okay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--Be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mal vs. Informal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	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the two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jor categories of sty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ademic writing, professional, to someone you don’t know w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: high-level; business-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ganization of text: very structured; perhaps with subtop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udience – usually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mnisicient (except for business lett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ntences: structure varies (s/cd/c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81480" y="1523880"/>
            <a:ext cx="3695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for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way we talk to fri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ractions 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ocabulary – low-level; perhaps slang; dialog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rganization of text – more so narrative or note-li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udience – usually personal (more first or third-limi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tences – do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 vary as much in structure; mostly simple or compound sent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 is organized in various ways, depending upon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purpose: to inform, to entertain, to express a belief/opinion, to persuade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Remember these?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9:41:40Z</dcterms:created>
  <dc:creator>vanessah</dc:creator>
  <dc:description/>
  <cp:keywords/>
  <dc:language>en-US</dc:language>
  <cp:lastModifiedBy>Rowell, Sandra</cp:lastModifiedBy>
  <dcterms:modified xsi:type="dcterms:W3CDTF">2016-08-25T18:58:50Z</dcterms:modified>
  <cp:revision>81</cp:revision>
  <dc:subject/>
  <dc:title>Style, Tone, and M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51033</vt:lpwstr>
  </property>
</Properties>
</file>