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41A-4DB7-4EC3-961F-BB29C0FD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79D-FA81-429C-A374-2635BDC4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357B0-1AB1-4CE0-93BA-9679FA08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A3B1D-20D1-46BA-8CA4-7D4F5F40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20B01-D91C-4EB3-8739-F3F48FB9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A3E76-2EF6-477E-A75F-44E136D8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E92A8-5FA9-4668-900A-16B5897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304B8-93D5-4B7F-85D7-1927D305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BDA21-2410-4D72-989A-639AAC01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28C0B-4718-4C4F-9CEC-2134F4AA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03C27-7DBD-4C3C-9181-8FD080BD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7591B-1E4C-4AAD-8FE9-FF47E71B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8CC-986A-4F93-A5DE-6DEFAF7B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4D4D9-5C95-40DC-87AF-7FC17925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8A011-8AFB-4FC8-BE26-89FBC956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676E7-EAFA-4322-96D3-634F059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04EBC-5D5A-42F1-BEB3-4EEDC774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0C12B-C57C-4F92-9894-F268399C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16C76-AF4D-43D3-BB69-4B0CA9B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14DDB-1CFC-4179-A9CC-36BC6E3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26D34-584A-4022-8BBF-082E56B1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EF84D-96F6-40EB-97CC-948F8967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4A227-C3B8-4599-9BB9-75E3FC40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9E8-EED2-4AC1-8115-7F69848C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6C6A0-1548-4B81-86BB-11584D55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D6D9A-2584-42CD-9206-3743C85E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F87BA-2AAA-4057-8111-49EAB651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9A3D9-C8D6-41E4-96F6-19611898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DEE4B-4BA1-42E7-B610-2EA28412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01847-DCE4-42A8-89C3-05662F69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37683-F82E-4CBA-8614-0435E1DC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827D9-1FE7-488D-8C9D-C01BD369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5EB44-89C6-44F6-BF4D-A44AAEC8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920F9-24EB-4434-9D96-E5CFCBD9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FD6B-C116-4B24-8A67-623BED09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E892F-D4F4-4909-B73B-6606F663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2AFC4-A72F-412A-AC1A-AC0A00F4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3661-8887-45F1-83F8-F342F96A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A003B-F742-4B89-8DC2-3BAAB5FB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3F448-3BE4-4646-A03F-9484CF7D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B3276-EC3E-4DDD-9292-570D2ED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8B1A1-C580-4434-ABE9-8B0145DE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87A7E-665B-46CC-BA8F-D52BDDAE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CE7F8-CEB4-4710-8804-18110CE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EDC51-4949-4D6A-AD95-387DDC7A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56DA-C31F-4067-A0C8-F59E7CC4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C9580-40ED-4A39-8D03-873F94A3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F4006-3EA7-498D-9606-02DCEBCF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E74AC-9FBA-49EC-BCD4-9340E44F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F7597-9E60-4435-99A2-F85301BD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37415-5703-4648-B253-E02DDA56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4CE3-EFCF-40C2-8256-5F43EC6C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148C-898E-4830-BF5F-69A3192F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CACD-36E8-4E0A-8990-03BF382B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6F37-CA25-4D17-84CA-A2470CA9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E7CB-6BDC-431E-A0C1-94451D8C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CE0-8CAA-4B3F-8376-F4BB76CC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76A9-519D-4B89-8855-0DF804D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50C6-D96B-4F6F-9C35-7BA3348C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990D-F250-45C2-9B30-78F5E127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0768-D3A0-4362-B007-C8C24A71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0D8F-CE75-431A-BCF8-CC2281D7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2A3D3-1522-473D-8E17-78C91DD4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B2C4-A677-47F9-B447-EBD7035B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E0CD-8721-4F73-9EC6-024D0594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7547-4BC9-46F9-9671-E8B80E1B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4593-79E7-4EFF-87F0-DA0449BA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7F0-D895-4AA5-8462-40A0348F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08E4-F970-425D-ACEF-A97E186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CB01-830A-402D-8C64-7F7CBABC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DD72-A9DB-4FA7-A79C-D84FD8A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5B1A-78EB-40B9-BFAC-962A157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83EF-DBDE-4FFB-8703-479C04FE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DEA2-7E3E-430B-A73D-ED9FB55D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8994-9FC0-4904-A093-4BCEC0EA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2D30-6A14-4B65-8C1C-21375287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ACA0-C4D5-4E22-B7F0-5F8A01B8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4A9B-BB88-44B8-8882-837B89CD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0DE-948C-42D5-8F8E-42E18F70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0890-988F-4B65-B92A-1D00A1DD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CE1C-BA27-4523-B7C2-5A0E0ABE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AEFF-11A3-427E-9DB2-938E4E6A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D7CA-9602-4A69-8677-2D053437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47F49-F9C8-498D-8781-C15E1921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1EF2-F36A-40B6-9F9A-B44C999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2B15-B8C0-44CE-B226-34E2D36C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165D6-B399-4AF9-8097-EEE746DA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33A6-B866-4A9D-92FC-8FF68620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BFCE-F7C0-4FAB-9C8B-FF8C9666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826-FEE3-4194-A177-90B418C2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22C09-CDC1-4FA0-BC4C-DD3D042E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17F61-AA11-42E9-9A7A-0169874A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02D7C-E9FE-46EB-B875-42DB77DD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57463-5FFE-48E1-B1FA-B9A64070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64F4F-3712-471D-AC79-DF66E443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3C819-4D0F-49BE-AB19-3FACC95B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36A0-3D87-444D-938A-F94B8D75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C59A9-77A4-4CAD-8DBC-9A7B1D7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98E8-B2EE-4EEE-85C8-ACB782DE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0EE8-8472-4E20-B025-D2F03E96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EA2-FA5D-4468-950A-FF934741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E3064-4140-4D02-9239-5A9CEADE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1BD15-E398-4468-9AE9-F2F56CDC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BF677-5C31-410A-A95D-28F7CEAC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BE484-0D3E-468D-B0FD-8A15E352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19AB-3011-480C-8AC2-D7079B5E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D597D-FA9A-4F15-9B56-BF345911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67B8A-310F-4786-AC08-772E5B95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7437E-EF59-46BD-B05E-EC57B24F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19F5B-DF0B-4EAC-A5D1-436EF31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9D6C6-23B6-4539-B9CC-1579483A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400-69A6-4B85-A22A-1C0B04B3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0AF17-348E-487B-9D9A-49DB8CC9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EE9F-0A29-496A-B1A2-09025C6E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E7F0C-CCED-4588-BA39-358A8F04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D235D-1F4A-451A-B7AD-37FC518E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28C50-2756-4A95-93DC-CF4552DF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A763A-57F2-4DA4-B787-AD2B20B8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4603-8F33-4659-9AC7-106A7599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145A7-841F-4C86-BF6F-0BB5CE22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AE162-2F51-4C7E-B45A-AD4429FB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7E9E3-24B5-4293-8B75-6BAD2F03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8C2-F9AB-4B09-B34E-B51515BC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C25DC-77F5-47CA-ABF4-79F5171A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B06C2-7479-484A-9342-1E7623FD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44C3-851A-4176-950F-944F5983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430FB-D2CD-4AAF-81C6-922B5865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43F7F-197E-4E6A-A8DF-5FF1E1E4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A1AD3-E7D6-406F-81BD-E6FB9CF5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8D5A6-5436-40DF-8649-BD5C7114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8605-5201-403D-905A-D0519E9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EF8D6-D0F2-44D9-B120-5EB4FA46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C83F5-0AB0-4B92-A0E9-A483A30F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A7E-96F0-4CE7-B273-4C9BCB9B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3C03D-7022-4C00-8C4F-BAAECBD8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046C7-06E4-4E16-9035-8C835EC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73581-E8C1-40DF-AC90-524AFC3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610F-7761-4EAF-ACBD-648B2AFD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9C5D3-1911-45EB-BD5E-988AD226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86B5-F926-439F-8712-7ECFEA6A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9FE75-6AE7-4419-AE9A-99CD3BED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995CF-CABB-48F9-8963-1E256127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E3ECA-B19B-4222-A2A7-F3F824B8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9211A-49A3-4733-A985-10E480DB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07A2-8819-4274-A723-4C5C7C539F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9E70-5C88-44ED-9B85-82C5AFC36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91CB-DA0E-4AC8-9070-C31CBC3D26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13BB-6EE6-4104-BBDD-6D57E01A26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A9AC-4BC2-4624-A9BC-C88C52EE10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E30F-14A2-4683-9DAC-3A6F85DA77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10F0-09A4-459A-863F-CFC91A2CB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21B1-3816-4CA5-9C5F-9C711A1142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6A1C-1B88-44EF-8780-8BF8D852B6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0F69-25B1-46B3-9BA1-EF45B5A14A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17A4-0894-4066-A67C-6EEE326BF9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509D-8184-4293-BCC4-BF95CCEBB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86200" y="2057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Kristen ITC"/>
              </a:rPr>
              <a:t>Style, Tone, and Moo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to support the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Picture 4" descr="j0157995"/>
          <p:cNvPicPr/>
          <p:nvPr/>
        </p:nvPicPr>
        <p:blipFill>
          <a:blip r:embed="rId1"/>
          <a:stretch/>
        </p:blipFill>
        <p:spPr>
          <a:xfrm>
            <a:off x="4267080" y="457200"/>
            <a:ext cx="4569120" cy="762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j0158007"/>
          <p:cNvPicPr/>
          <p:nvPr/>
        </p:nvPicPr>
        <p:blipFill>
          <a:blip r:embed="rId2"/>
          <a:stretch/>
        </p:blipFill>
        <p:spPr>
          <a:xfrm>
            <a:off x="2590920" y="5105520"/>
            <a:ext cx="4568760" cy="538200"/>
          </a:xfrm>
          <a:prstGeom prst="rect">
            <a:avLst/>
          </a:prstGeom>
          <a:ln w="0">
            <a:noFill/>
          </a:ln>
        </p:spPr>
      </p:pic>
      <p:sp>
        <p:nvSpPr>
          <p:cNvPr id="532" name="PubHalfFrame"/>
          <p:cNvSpPr/>
          <p:nvPr/>
        </p:nvSpPr>
        <p:spPr>
          <a:xfrm>
            <a:off x="228600" y="2286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usually falls within one of these types of organizational patter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- Effe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 –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ological (sequencing the order of even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/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ctive (specific to gener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uctive (general to specif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ision into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ing (i.e.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st _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you predict which would be writing patterns for giving information? For entertaining? For expressing an opinion? For persuading someone to believe as you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* We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l discuss these styles more in depth next six weeks; for now, just know they exi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en analyzing style, you must look at a piece of writing FROM the overall structure of the text TO the small details and word choices.  Be an editor, a critic, to answer the question:  how would I describe this author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 writing styl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is simply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s attitude toward the subjec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You can recognize the tone/attitude by the language/word choices the author uses.  His language will reveal his perspective/opinion (that is, whether it is positive/negative) about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must be inferred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 through the use of descriptiv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 is the overall feelings or emotions that are created IN THE REA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of the pe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move mountai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reader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s through their choice of words and level of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, identifying the mood of a piece of writing will depend on the number of descriptive words you know to answer the question: How did this paragraph, this passage, this story make the character or make you fe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o writers use particular elemen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nt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ress opinion/bel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formational Tex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sitory:  to explain, describe,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s, journals, newspa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al text:  provide instructions on how to do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pes, experiments, how to assem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TYLE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author has his or her ow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y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that is, each author uses tone and mood in a particular way that makes his or her writing recogn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read several books by the same author, you become accustomed to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tyle of writing and sometimes you look for authors with a similar sty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TY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Kristen ITC"/>
              </a:rPr>
              <a:t>the way the author uses words, phrases, and sentences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o, when analyzing an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style, we need to conside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point-of-view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rganization/structure of text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level of complexity in the writing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verall </a:t>
            </a:r>
            <a:r>
              <a:rPr b="0" i="1" lang="en-US" sz="2800" spc="-1" strike="noStrike">
                <a:solidFill>
                  <a:srgbClr val="ffffff"/>
                </a:solidFill>
                <a:latin typeface="Kristen ITC"/>
              </a:rPr>
              <a:t>tone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Formal or inform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By using these features in writing, different meanings of the content (what the story/text is about) are shown to the aud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Kristen ITC"/>
              </a:rPr>
              <a:t>Style:  Which Point of View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rst person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I, me, my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ent to the store today. When I was in the cereal aisle, I bumped into an old friend and had a nice convers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cond person: (you; instructions/directions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ou should work on getting your room cleaned. First, pick up the clothes on the floor. Then, you need to run a vacuum and dust the tabl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ird person – limited: (he/she/it/they/them told thru 1 charac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 could tell from the expression on her face that what he had said upset her.  If only he knew, though, what she was really think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Third-person Omniscient (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all knowing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he/she/it/they/them told by the author; all character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feelings/thoughts are reveal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he refused to look at Jamie again and instead stared at the statu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Come on!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exclaimed Jamie impatiently. 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 time to go.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ara ignored Jamie and continued to gaze upon the statue wishing she, too, could be so still and at peac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Style: Formal vs. Inform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Formal: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ear Si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fter examining your job description, I feel I am an excellent candidate. I have many years of experience performing these specific duties. My résumé is attached. Please read it over at your convenience and contact me if you have ques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incere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ndrew M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Informal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ey, Sara! What's going on tonight? Call me before you guys leave, okay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--B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mal vs. Informal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	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the two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jor categories of sty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ademic writing, professional, to someone you don’t know w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: high-level; business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ganization of text: very structured; perhaps with subtop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udience – usually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mnisicient (except for business lett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tences: structure varies (s/cd/c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1480" y="1523880"/>
            <a:ext cx="3695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for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way we talk to fri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ractions 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cabulary – low-level; perhaps slang; dialo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rganization of text – more so narrative or note-li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udience – usually personal (more first or third-limi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tences – d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 vary as much in structure; mostly simple or compound sent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is organized in various ways, depending upon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purpose: to inform, to entertain, to express a belief/opinion, to persuade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Remember these?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9:41:40Z</dcterms:created>
  <dc:creator>vanessah</dc:creator>
  <dc:description/>
  <cp:keywords/>
  <dc:language>en-US</dc:language>
  <cp:lastModifiedBy>Rowell, Sandra</cp:lastModifiedBy>
  <dcterms:modified xsi:type="dcterms:W3CDTF">2016-08-25T18:58:50Z</dcterms:modified>
  <cp:revision>81</cp:revision>
  <dc:subject/>
  <dc:title>Style, Tone, and M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51033</vt:lpwstr>
  </property>
</Properties>
</file>