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116B-D2DC-4E43-BE38-2496E4FF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F78-F414-4A4A-8AA2-6C53D7D8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EF2AF-330A-49B8-82F8-985E187F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67968-72B2-4AFC-83B8-44C7F886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8247A-22B3-4063-8E3B-D323F0B8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C8154-6776-4F35-AA5D-CEC743B8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89C01-FCC6-420D-B2A2-9D24825D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1BABE-8B6F-4FFE-AAF5-A70701A0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BAC31-2E86-4122-8971-1D7EFD05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4A867-E177-42D5-9068-94C0F06B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9B863-ED97-4262-99E5-5C40E3E0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9BB7F-BD25-4CA6-BEF1-1FA894FD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566-4972-4023-AD16-10CA7B07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AB882-8F9E-4AF1-A3F5-CF4EC420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E95D9-483B-476E-A4B5-4746AFA2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E7824-B9B9-482C-98BF-5537F311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2F53E-AC97-4416-ABE3-DD6C8D98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340D5-7FA5-4488-BD66-E7358DD1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FEEC7-017A-4162-9E41-9B29CC47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A98B0-FAB3-435A-BC6D-8D5C20BE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DFA57-C216-42BA-94C6-F9A285D5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44009-B4DE-40AE-9606-04221F40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732A7-6CC4-490F-B3F6-9E8EF3F6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1200-3BCD-473D-B213-66F6A8DF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225B2-C6DD-4D10-8840-2B394BBA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836B3-5498-4A4B-83CF-EAF3E787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1590F-AA7C-49BC-9447-11E79534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DA928-6CB2-4FB4-9CA6-4DC00D18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3A17F-7C72-4389-8894-7C2811AE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4189B-DD90-416F-8665-ADBC507C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504C9-CB9C-463F-94CE-A4B414C6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29B18-AF4F-4D0A-9F52-02FD426F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A9E04-5D7B-4B2D-95A3-BEF20CF6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59770-E7D0-4E85-AC7C-5CB32DCC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EDA8-FDBF-4BB4-953F-B68811F5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00871-3DAB-439F-80A0-3CA936AC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C4854-29D3-4A9E-A10A-AA454069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546EA-C9AB-4658-BB3B-6B04D8D4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3C460-81A0-428B-A29D-1AE7DBDF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27EE0-66A8-4326-98AD-E2401706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4D8AF-651B-48CE-8E7A-E44FBED4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301D2-AA16-4F0C-B3B1-B838C3BC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8C267-AA87-45BB-B977-27A2B7AB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821C0-D0DA-4C76-87BC-33C057D4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06BBC-26CE-4155-BDD5-3F4EBA0C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5556-A671-491B-866E-83924E5E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CC365-FBA6-4A50-8319-B5964E05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6881F-6E6E-4100-9E7F-49CFCD99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03C1E-591B-42B2-9584-798D0256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33B00-C33F-4FDB-BBE2-5F4C491D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BC5F3-2629-47F1-95A1-991445D4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CBE8-FC8D-4CBF-B308-BC09BD0E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2DFC-EA62-452E-8E92-F0DB098E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0E1E-3B3F-44C0-BC5F-16514CC1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A3D5-F124-4AE6-87D2-D7183597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5417-A14F-43CC-BFB2-E19F755F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8557-F806-4394-8B8A-0A54810F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B428-46ED-4E48-ACBF-51A8E87D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5010-49CB-48C1-8A29-BCBE244F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5CE3-ECEE-4551-AE70-5A58F1B6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EF46-8044-440D-9B90-BB0EDD5E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38AE-E8A2-4E4A-A717-DDF1FBE0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F2DEF-9A71-48D7-B978-D9795E12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E9047-D832-4C46-85A4-5DAB7D9A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5B7C5-3E90-4264-B272-0417C525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F82A0-FA87-4ECE-A9C5-1997E17E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54438-78C9-4721-BE25-38AF70D0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F95-36DB-4FA6-AA07-CD527128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09CDA-B0EE-47EF-9C2A-BACCDE38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EE54E-2E20-4B01-8CDB-1F2EFEA7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83CC2-381B-4623-91FD-4D03A1B5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DAA66-2EAC-4BB0-BDA6-49128C95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15F1D-2683-445B-8405-3C5AC806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50E02-2FCC-4D94-B8AD-B0D132A7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7A238-4D8B-4D3F-90D4-6E9F8E3C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6EC2F-47D7-441B-8257-C11949C2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7617D-93F1-45C0-ACD7-237C3287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97185-540D-4635-8621-E2D439AD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38CA-9082-45A5-9D06-DED8C3C3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7A02E-E94C-4730-9DB3-4AE5DAB5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585D1-F601-4B31-9E8D-5F34C08B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3A00C-F396-4442-852A-0570148E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89278-B966-4407-AD72-6A5C59F8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E402B-75C9-49BE-8678-236F567C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4C314-46EC-4045-8B9A-4F739785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CFD00-1114-47C5-9698-3A2D7A6C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06DA1-4785-420A-A263-4DF53EA4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F20DC-6031-42F6-B18F-1F2A1795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914D4-3574-4315-AD0E-6ABD7488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BD1B-999C-45C8-90FB-CF2B9A1B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46930-EEFE-48CB-B45C-20270C8B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32782-234A-48DD-9194-F3CE7D0A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FEF5E-D031-4875-BC5D-0B1A49CF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20DE1-CF14-4040-86A5-ED3B4753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6D109-B254-4366-8682-33324C12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4F00B-8889-483D-960A-738D9273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AFE85-3343-48C8-A8D2-705134AD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A4B8A-D6C2-4B0C-B163-7FA37E51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E8063-F608-43EE-AB3A-A6862519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83445-B2AA-4A55-A28A-51899438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550-E2BB-4A14-85B6-8F57AD79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74DC7-116D-41BA-BBBC-92CB221C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12381-96E3-482B-9EF7-F9863E5D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4415A-8F1B-4870-9341-54EA73CE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D122E-D2A4-4D67-95F5-8AC7D373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81B6F-B856-4B9E-9712-27628DD9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105DD-0803-4D30-BF54-321AB918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B3289-FEB2-43B3-98D6-5E1130AC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BAD90-A5E9-4AE8-81F9-7D44B72D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5019F-AECA-4A73-ADC9-82D9642B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32CA9-0AAA-4AD3-9103-4F73A84A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6FD-559E-454C-8D1B-89FAA720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FF93E-02C2-47EA-9585-80A5BD87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9038B-37FB-4393-8CD0-98B51683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C108A-E866-42F9-92F1-F0AC30E6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6D47B-C13F-4E50-A4FC-3ECD7122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5ABE9-3FC1-4989-82A8-E13E7D83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87E34-CDE4-4CB0-8A0F-2DB624C7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804CD-CABD-463B-8023-7F022CF5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3CB39-A64B-410A-979C-1E5BF714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A2D05-0B44-441E-AFD3-A9652C97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C5C3B-EAC1-4E93-9640-5CB48631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40D-B515-4A86-9F35-C6913CD4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92AC2-2291-4CD4-95A8-9F2E61B2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F7CCF-6B0C-4A14-A043-0C1A3FAF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F3661-7BC9-4153-BA5A-29D38A5C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A0D5C-A9AD-443C-8A62-7DA4DF55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BDFC8-33AF-4CC1-BDDF-4FC7FA4B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94647-CFC5-4432-9FD9-8DB81E68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4431F-1EB5-4B96-AADD-029FA7E0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67729-DB93-4A4F-874F-1C770F05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8A8D0-69F9-4B8F-83AD-F59F64F5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8AE78-D283-4AED-BDC8-A36BDC5C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65E-8662-4E57-A2B0-4C170B9B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95A07-1DFA-41EB-BB4D-4C09AE55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970E7-1320-4C7B-91FA-FAD1DA0E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F33FE-ACC8-473F-8C64-76A1F0F6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B9464-876F-4531-8302-6D053A56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39838-8F94-4A6E-921B-A5834631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F12F2-A776-420F-83E8-49300600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BB051-9855-4326-993A-6D4F7331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C4D1A-58B3-4048-B47E-D60AEE95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C7800-A199-4721-82B8-7020D3EF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A3DEC-5602-44B2-935A-43C1E82D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FF71-D6D2-4DEA-9B9B-9991290973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9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D464-672B-46D8-A97A-5643AD0278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4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489F-7480-4CFC-BB77-8BD66819B7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8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7841-A627-4051-BE05-4536A2F679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C2DE-1CFC-4AB3-82A3-65322AAAC5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1EFB-79BE-44A3-B501-FD87D6CED7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31AC-D8DF-4F5B-AE4A-2708CC5AF0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F871-AB80-433F-917A-1D037D6D1C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2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4902-80C5-4419-A56C-C2E14C5506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6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2A19-383C-48ED-A194-2354F3E422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188E-30AA-4FC0-814F-74F0BE3864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5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D68E-CD43-4F44-939C-25EE217BCB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86200" y="20574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Kristen ITC"/>
              </a:rPr>
              <a:t>Style, Tone, and Mood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to support the author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 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0" name="Picture 4" descr="j0157995"/>
          <p:cNvPicPr/>
          <p:nvPr/>
        </p:nvPicPr>
        <p:blipFill>
          <a:blip r:embed="rId1"/>
          <a:stretch/>
        </p:blipFill>
        <p:spPr>
          <a:xfrm>
            <a:off x="4267080" y="457200"/>
            <a:ext cx="4569120" cy="7621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j0158007"/>
          <p:cNvPicPr/>
          <p:nvPr/>
        </p:nvPicPr>
        <p:blipFill>
          <a:blip r:embed="rId2"/>
          <a:stretch/>
        </p:blipFill>
        <p:spPr>
          <a:xfrm>
            <a:off x="2590920" y="5105520"/>
            <a:ext cx="4568760" cy="538200"/>
          </a:xfrm>
          <a:prstGeom prst="rect">
            <a:avLst/>
          </a:prstGeom>
          <a:ln w="0">
            <a:noFill/>
          </a:ln>
        </p:spPr>
      </p:pic>
      <p:sp>
        <p:nvSpPr>
          <p:cNvPr id="532" name="PubHalfFrame"/>
          <p:cNvSpPr/>
          <p:nvPr/>
        </p:nvSpPr>
        <p:spPr>
          <a:xfrm>
            <a:off x="228600" y="228600"/>
            <a:ext cx="1828800" cy="1828800"/>
          </a:xfrm>
          <a:custGeom>
            <a:avLst/>
            <a:gdLst>
              <a:gd name="textAreaLeft" fmla="*/ 0 w 1828800"/>
              <a:gd name="textAreaRight" fmla="*/ 1219320 w 1828800"/>
              <a:gd name="textAreaTop" fmla="*/ 0 h 1828800"/>
              <a:gd name="textAreaBottom" fmla="*/ 6094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YLE: Organization of Tex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usually falls within one of these types of organizational patter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- Effec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blem –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ological (sequencing the order of even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are/Contr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uctive (specific to gener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ductive (general to specifi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vision into catego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nking (i.e.,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__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st ___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 you predict which would be writing patterns for giving information? For entertaining? For expressing an opinion? For persuading someone to believe as you d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** We</a:t>
            </a: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l discuss these styles more in depth next six weeks; for now, just know they exis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Y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hen analyzing style, you must look at a piece of writing FROM the overall structure of the text TO the small details and word choices.  Be an editor, a critic, to answer the question:  how would I describe this author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 writing styl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Kristen ITC"/>
              </a:rPr>
              <a:t>TO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TONE is simply the autho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s attitude toward the subjec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You can recognize the tone/attitude by the language/word choices the author uses.  His language will reveal his perspective/opinion (that is, whether it is positive/negative) about th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Ton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Kristen ITC"/>
              </a:rPr>
              <a:t>must be inferred</a:t>
            </a: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 through the use of descriptive wor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Kristen ITC"/>
              </a:rPr>
              <a:t>M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OD is the overall feelings or emotions that are created IN THE READ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 of the pe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move mountain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ir reader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ods through their choice of words and level of det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ain, identifying the mood of a piece of writing will depend on the number of descriptive words you know to answer the question: How did this paragraph, this passage, this story make the character or make you fee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y do writers use particular element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enter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in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ersu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express opinion/belie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formational Tex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sitory:  to explain, describe, in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books, journals, newspa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dural text:  provide instructions on how to do some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ipes, experiments, how to assem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STYLE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author has his or her own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y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that is, each author uses tone and mood in a particular way that makes his or her writing recogniz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read several books by the same author, you become accustomed to the autho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style of writing and sometimes you look for authors with a similar sty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Kristen ITC"/>
              </a:rPr>
              <a:t>STY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TYLE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Kristen ITC"/>
              </a:rPr>
              <a:t>the way the author uses words, phrases, and sentences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Kristen ITC"/>
              </a:rPr>
              <a:t>STY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o, when analyzing an author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s style, we need to consider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point-of-view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organization/structure of text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level of complexity in the writing,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overall </a:t>
            </a:r>
            <a:r>
              <a:rPr b="0" i="1" lang="en-US" sz="2800" spc="-1" strike="noStrike">
                <a:solidFill>
                  <a:srgbClr val="ffffff"/>
                </a:solidFill>
                <a:latin typeface="Kristen ITC"/>
              </a:rPr>
              <a:t>tone</a:t>
            </a: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Formal or inform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By using these features in writing, different meanings of the content (what the story/text is about) are shown to the audi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Kristen ITC"/>
              </a:rPr>
              <a:t>Style:  Which Point of View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rst person: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I, me, my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 went to the store today. When I was in the cereal aisle, I bumped into an old friend and had a nice convers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cond person: (you; instructions/directions)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ou should work on getting your room cleaned. First, pick up the clothes on the floor. Then, you need to run a vacuum and dust the tabl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ird person – limited: (he/she/it/they/them told thru 1 charact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e could tell from the expression on her face that what he had said upset her.  If only he knew, though, what she was really think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Third-person Omniscient (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all knowing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he/she/it/they/them told by the author; all characters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feelings/thoughts are reveale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She refused to look at Jamie again and instead stared at the statu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Come on!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 exclaimed Jamie impatiently.  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It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s time to go.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Sara ignored Jamie and continued to gaze upon the statue wishing she, too, could be so still and at peac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Kristen ITC"/>
              </a:rPr>
              <a:t>.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Kristen ITC"/>
              </a:rPr>
              <a:t>Style: Formal vs. Inform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</a:rPr>
              <a:t>Formal: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Dear Sir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After examining your job description, I feel I am an excellent candidate. I have many years of experience performing these specific duties. My résumé is attached. Please read it over at your convenience and contact me if you have question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Sincerel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Andrew Mey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Kristen ITC"/>
              </a:rPr>
              <a:t>Informal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Hey, Sara! What's going on tonight? Call me before you guys leave, okay?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--Be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mal vs. Informal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	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se are the two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jor categories of sty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orm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ademic writing, professional, to someone you don’t know w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: high-level; business-l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ganization of text: very structured; perhaps with subtop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udience – usually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omnisicient (except for business lette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ntences: structure varies (s/cd/c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81480" y="1523880"/>
            <a:ext cx="3695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Inform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way we talk to fri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tractions 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ocabulary – low-level; perhaps slang; dialog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rganization of text – more so narrative or note-lik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udience – usually personal (more first or third-limit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ntences – do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 vary as much in structure; mostly simple or compound sent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YLE: Organization of Tex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ing is organized in various ways, depending upon the author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purpose: to inform, to entertain, to express a belief/opinion, to persuade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Remember these?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9:41:40Z</dcterms:created>
  <dc:creator>vanessah</dc:creator>
  <dc:description/>
  <cp:keywords/>
  <dc:language>en-US</dc:language>
  <cp:lastModifiedBy>Rowell, Sandra</cp:lastModifiedBy>
  <dcterms:modified xsi:type="dcterms:W3CDTF">2016-08-25T18:58:50Z</dcterms:modified>
  <cp:revision>81</cp:revision>
  <dc:subject/>
  <dc:title>Style, Tone, and M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51033</vt:lpwstr>
  </property>
</Properties>
</file>