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11B79-2050-4A2A-AC93-76FDB928A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1CF74-A080-4DBC-931E-FAB63A038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060D5-40C9-4AD9-A0A8-EF9E335B1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520B4-3244-4CEB-AEFB-47FBB3FD0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31EEF-851F-43DB-ACB9-6CAFB10A8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AE189-88E1-47D7-A4DE-E65110BB3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F6E2D-8F1E-49AF-B1E8-BD1524080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73BA0-9CE1-4BE4-B26E-3EBBD3849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7EA01-0CA0-4A2E-8BFE-1AD0CFCA4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70AF4-7EA2-4982-AA52-3D63ACB4F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36052-A27C-46EE-BBE5-7E2FA4CBB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AED8D-FBA3-438E-9B8A-5B6231783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EAAD4-E3E2-4C92-97A6-07829EE5A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E3E7-D52C-4165-BB49-D90C71C7D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EB5A-05C9-488D-B030-E1C740C2A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8DD8-060E-497B-A63D-46C5F7015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EE47-F3BB-479D-90E0-AA9F1823B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9B8E-6830-406A-B1C9-8CEEBEDF5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A53D-8DD5-4363-ACCA-CD4D50DA7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C707-CD2D-43DC-A7A0-39BF5AFF5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CC44-E651-4936-AC96-661B77A6F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F07F-C7C5-45E5-BF58-1BE9D3C19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6FDD-CB0A-4CFA-9BA8-3F619109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C9A7-4972-4D31-AD10-F4251B0F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1E2F-B084-4A92-A14A-D17BB2FF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70E5B-4A94-49CA-ACB3-B410FB4981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rds.yahoo.com/_ylt=A0S020mSlSNJIXEAJRWJzbkF;_ylu=X3oDMTByMDdkbjdmBHBvcwMyMARzZWMDc3IEdnRpZANJMTAxXzEyMg--/SIG=1gvo16u4d/EXP=1227155218/**http://images.search.yahoo.com/images/view?back=http%253A%252F%252Fimages.search.yahoo.com%252Fsearch%252Fimages%253Fp%253Dcoach%252Byelling%2526fr%253Dyfp-t-501%2526ei%253Dutf-8%2526js%253D1%2526x%253Dwrt&amp;w=512&amp;h=482&amp;imgurl=images.sundaymorningqb.com%252Fimages%252Fadmin%252FGROB.jpg&amp;rurl=http%253A%252F%252Fwww.hiring-revolution.com%252F%253F%2526paged%253D5&amp;size=51.9kB&amp;name=GROB.jpg&amp;p=coach+yelling&amp;type=JPG&amp;oid=42a0d35e8d39206c&amp;no=20&amp;tt=224&amp;sigr=11al9feu3&amp;sigi=11girn4u7&amp;sigb=12tuu1ahr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rds.yahoo.com/_ylt=A0S0207NlSNJL1wAGMyJzbkF;_ylu=X3oDMTBxanJlOHFiBHBvcwMyBHNlYwNzcgR2dGlkA0kxMDFfMTIy/SIG=1i2aeakfl/EXP=1227155277/**http://images.search.yahoo.com/images/view?back=http%253A%252F%252Fimages.search.yahoo.com%252Fsearch%252Fimages%253Fp%253Dmartin%252Bluther%252Bking%2526fr%253Dyfp-t-501%2526ei%253Dutf-8%2526js%253D1%2526x%253Dwrt&amp;w=359&amp;h=312&amp;imgurl=www.pestaola.gr%252Fimages%252Fmartin_luther_king_pointing_finger.jpg&amp;rurl=http%253A%252F%252Fmiasays.livejournal.com%252F&amp;size=25.1kB&amp;name=martin_luther_king_pointing_finger.jpg&amp;p=martin+luther+king&amp;type=JPG&amp;oid=58cc12b50ba1d560&amp;no=2&amp;tt=149,617&amp;sigr=10vhofgjm&amp;sigi=11tdhgac6&amp;sigb=132fc3le0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rds.yahoo.com/_ylt=A0S0207.lSNJs2AAN2GJzbkF;_ylu=X3oDMTBxb29sdm5xBHBvcwMxBHNlYwNzcgR2dGlkA0kxMDFfMTIy/SIG=1i0c0irne/EXP=1227155326/**http://images.search.yahoo.com/images/view?back=http%253A%252F%252Fimages.search.yahoo.com%252Fsearch%252Fimages%253Fp%253Doyster%252Bwith%252Bpearl%252B%2526fr%253Dyfp-t-501%2526ei%253Dutf-8%2526js%253D1%2526x%253Dwrt&amp;w=263&amp;h=231&amp;imgurl=www.thewellnessbuzz.com%252Fimages%252F263_GoldenPearlInOyster.jpg&amp;rurl=http%253A%252F%252Fwww.thewellnessbuzz.com%252Fpages%252F5&amp;size=8.5kB&amp;name=263_GoldenPearlInOyster.jpg&amp;p=oyster+with+pearl&amp;type=JPG&amp;oid=6128718a55efb31a&amp;no=1&amp;tt=13,127&amp;sigr=1161skhhf&amp;sigi=11ql9n1em&amp;sigb=132ed6qoc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rds.yahoo.com/_ylt=A0S020sRliNJNiwAH62JzbkF;_ylu=X3oDMTBxb29sdm5xBHBvcwMxBHNlYwNzcgR2dGlkA0kxMDFfMTIy/SIG=1h02a52e7/EXP=1227155345/**http://images.search.yahoo.com/images/view?back=http%253A%252F%252Fimages.search.yahoo.com%252Fsearch%252Fimages%253Fp%253Dsausages%2526fr%253Dyfp-t-501%2526ei%253Dutf-8%2526js%253D1%2526x%253Dwrt&amp;w=694&amp;h=254&amp;imgurl=www.sikorskisausages.com%252Fassets_pics%252Fbarbecue_sausages_03.jpg&amp;rurl=http%253A%252F%252Fwww.sikorskisausages.com%252Fsitemap.htm&amp;size=47.2kB&amp;name=barbecue_sausages_03.jpg&amp;p=sausages&amp;type=JPG&amp;oid=da266b74c4454a4c&amp;no=1&amp;tt=108,669&amp;sigr=11b3l1tf0&amp;sigi=11tr75h76&amp;sigb=12oq25mfu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rds.yahoo.com/_ylt=A0S0204nliNJPGUAFESJzbkF;_ylu=X3oDMTBxanJqcTc3BHBvcwM2BHNlYwNzcgR2dGlkA0kxMDFfMTIy/SIG=1nmm57s2n/EXP=1227155367/**http://images.search.yahoo.com/images/view?back=http%253A%252F%252Fimages.search.yahoo.com%252Fsearch%252Fimages%253Fp%253Dstudents%2526fr%253Dyfp-t-501%2526ei%253Dutf-8%2526js%253D1%2526x%253Dwrt&amp;w=500&amp;h=375&amp;imgurl=static.flickr.com%252F2290%252F2476307879_ac742b03cf.jpg&amp;rurl=http%253A%252F%252Fwww.flickr.com%252Fphotos%252Ftulayemekli%252F2476307879%252F&amp;size=141.6kB&amp;name=My+Erasmus+students%252Cwhom+I+teach+Turkish&amp;p=students&amp;type=JPG&amp;oid=35541d69453a7ea4&amp;fusr=Tulay+Emekli&amp;tit=My+Erasmus+students%252Cwhom+I+teach+Turkish&amp;hurl=http%253A%252F%252Fwww.flickr.com%252Fphotos%252Ftulayemekli%252F&amp;no=6&amp;tt=7,334,120&amp;sigr=11ko9sojt&amp;sigi=11g346ldc&amp;sigb=12op7om4g&amp;sigh=1192rrtct" TargetMode="Externa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rds.yahoo.com/_ylt=A0S020lEliNJsXsAcBuJzbkF;_ylu=X3oDMTBxanJlOHFiBHBvcwMyBHNlYwNzcgR2dGlkA0kxMDFfMTIy/SIG=1kjdu222b/EXP=1227155396/**http://images.search.yahoo.com/images/view?back=http%253A%252F%252Fimages.search.yahoo.com%252Fsearch%252Fimages%253Fp%253Djohn%252Bf%252Bkennedy%2526fr%253Dyfp-t-501%2526ei%253Dutf-8%2526js%253D1%2526x%253Dwrt&amp;w=300&amp;h=288&amp;imgurl=www.glynn.k12.ga.us%252F%257Epwilliam%252FBHS%252Facademics%252Fjunior%252Fmitts%252Fcrystalw12169%252FKENNEDY1.JPG&amp;rurl=http%253A%252F%252Fwww.glynn.k12.ga.us%252F%257Epwilliam%252FBHS%252Facademics%252Fjunior%252Fmitts%252Fcrystalw12169&amp;size=20.5kB&amp;name=KENNEDY1.JPG&amp;p=john+f+kennedy&amp;type=JPG&amp;oid=52bcb0a63af40ee6&amp;no=2&amp;tt=95,874&amp;sigr=12ddkqlsb&amp;sigi=12jnp6hfc&amp;sigb=12u9urrbt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rds.yahoo.com/_ylt=A0S020xBlyNJyRwBu1uJzbkF;_ylu=X3oDMTBxdnF2MGFlBHBvcwM0BHNlYwNzcgR2dGlkA0kxMDFfMTIy/SIG=1l5q1mpmk/EXP=1227155649/**http://images.search.yahoo.com/images/view?back=http%253A%252F%252Fimages.search.yahoo.com%252Fsearch%252Fimages%253Fp%253Dmonty%252Bpython%252Bmeaning%252Bof%252Blife%2526fr%253Dyfp-t-501%2526ei%253Dutf-8%2526js%253D1%2526x%253Dwrt&amp;w=165&amp;h=236&amp;imgurl=www.submedia.be%252FMH%252Farchives%252Fdvd%252Fmonty%252520python%252520the%252520meaning%252520of%252520life.jpg&amp;rurl=http%253A%252F%252Fwww.submedia.be%252FMH%252Farchives%252Fcomedy&amp;size=15.3kB&amp;name=monty+python+the+meaning+of+life.jpg&amp;p=monty+python+meaning+of+life&amp;type=JPG&amp;oid=04f71d236c9e29b2&amp;no=4&amp;tt=801&amp;sigr=119h3t7k3&amp;sigi=12e16fri9&amp;sigb=13c62sqgf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ds.yahoo.com/_ylt=A0S020kslCNJhnYAHSKJzbkF;_ylu=X3oDMTBxdnF2MGFlBHBvcwM0BHNlYwNzcgR2dGlkA0kxMDFfMTIy/SIG=1kll7t3nu/EXP=1227154860/**http://images.search.yahoo.com/images/view?back=http%253A%252F%252Fimages.search.yahoo.com%252Fsearch%252Fimages%253Fp%253Dauthority%2526fr%253Dyfp-t-501%2526ei%253Dutf-8%2526js%253D1%2526x%253Dwrt&amp;w=500&amp;h=400&amp;imgurl=static.flickr.com%252F54%252F129909751_202614353b.jpg&amp;rurl=http%253A%252F%252Fwww.flickr.com%252Fphotos%252Fkittyanydots%252F129909751%252F&amp;size=78kB&amp;name=authority&amp;p=authority&amp;type=JPG&amp;oid=98654e6f6b48f870&amp;fusr=kittyanydots&amp;tit=authority&amp;hurl=http%253A%252F%252Fwww.flickr.com%252Fphotos%252Fkittyanydots%252F&amp;no=4&amp;tt=928,542&amp;sigr=11k4vof8c&amp;sigi=11do2gctf&amp;sigb=12psg2lae&amp;sigh=11a1f2ddh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ds.yahoo.com/_ylt=A0S020tclCNJWDIA_8CJzbkF;_ylu=X3oDMTBxZmZ1OGltBHBvcwMzBHNlYwNzcgR2dGlkA0kxMDFfMTIy/SIG=1gnu727pr/EXP=1227154908/**http://images.search.yahoo.com/images/view?back=http%253A%252F%252Fimages.search.yahoo.com%252Fsearch%252Fimages%253Fp%253Daristotle%2526y%253DSearch%2526fr%253Dyfp-t-501%2526ei%253Dutf-8%2526js%253D1%2526x%253Dwrt&amp;w=250&amp;h=340&amp;imgurl=www.newageinfo.com%252Fimages%252Faristotle.jpg&amp;rurl=http%253A%252F%252Fwww.newageinfo.com%252Faristotle-alchemist.htm&amp;size=41.6kB&amp;name=aristotle.jpg&amp;p=aristotle&amp;type=JPG&amp;oid=d5595ffeb185ea98&amp;no=3&amp;tt=44,338&amp;sigr=11h94t53n&amp;sigi=117njsbl2&amp;sigb=132vo4ejq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ds.yahoo.com/_ylt=A0S020o4lSNJ_gUBH26JzbkF;_ylu=X3oDMTBxdnF2MGFlBHBvcwM0BHNlYwNzcgR2dGlkA0kxMDFfMTIy/SIG=1l5pvt6pg/EXP=1227155128/**http://images.search.yahoo.com/images/view?back=http%253A%252F%252Fimages.search.yahoo.com%252Fsearch%252Fimages%253Fp%253Dcar%252Bcrash%2526fr%253Dyfp-t-501%2526toggle%253D1%2526cop%253Dmss%2526ei%253DUTF-8&amp;w=500&amp;h=375&amp;imgurl=static.flickr.com%252F82%252F263244453_8c85238dce.jpg&amp;rurl=http%253A%252F%252Fwww.flickr.com%252Fphotos%252Fschaapy%252F263244453%252F&amp;size=202.3kB&amp;name=Dad+Car+Crash&amp;p=car+crash&amp;type=JPG&amp;oid=6ac5faf1b8a0e448&amp;fusr=schaapy&amp;tit=Dad+Car+Crash&amp;hurl=http%253A%252F%252Fwww.flickr.com%252Fphotos%252Fschaapy%252F&amp;no=4&amp;tt=195,189&amp;sigr=11fvpr0ve&amp;sigi=11d1a8i81&amp;sigb=12vpgq7qh&amp;sigh=115sdo5v2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ds.yahoo.com/_ylt=A0S020mEmCNJ7HAAZwCJzbkF;_ylu=X3oDMTBxbmgwbTYyBHBvcwM3BHNlYwNzcgR2dGlkA0kxMDFfMTIy/SIG=1oe7lo6r4/EXP=1227155972/**http://images.search.yahoo.com/images/view?back=http%253A%252F%252Fimages.search.yahoo.com%252Fsearch%252Fimages%253Fp%253Dsemi%252Bon%252Broad%2526fr%253Dyfp-t-501%2526ei%253Dutf-8%2526js%253D1%2526x%253Dwrt&amp;w=375&amp;h=500&amp;imgurl=static.flickr.com%252F28%252F38117555_45976cf8bc.jpg&amp;rurl=http%253A%252F%252Fwww.flickr.com%252Fphotos%252Fgoatopolis%252F38117555%252F&amp;size=58.6kB&amp;name=day+8%253A+semi+on+white+pass+%2528highway+12%2529&amp;p=semi+on+road&amp;type=JPG&amp;oid=31ef058b6ec35c70&amp;fusr=goatopolis&amp;tit=day+8%253A+semi+on+white+pass+%2528highway+12%2529&amp;hurl=http%253A%252F%252Fwww.flickr.com%252Fphotos%252Fgoatopolis%252F&amp;no=7&amp;tt=33,126&amp;sigr=11h7oeo5i&amp;sigi=11cqnkm1e&amp;sigb=12s33hhsm&amp;sigh=118rrsmd6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Rhetorical Strategi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" descr="Unknown.jpeg"/>
          <p:cNvPicPr/>
          <p:nvPr/>
        </p:nvPicPr>
        <p:blipFill>
          <a:blip r:embed="rId1"/>
          <a:stretch/>
        </p:blipFill>
        <p:spPr>
          <a:xfrm>
            <a:off x="2057400" y="2057400"/>
            <a:ext cx="481644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Denver Water"/>
          <p:cNvPicPr/>
          <p:nvPr/>
        </p:nvPicPr>
        <p:blipFill>
          <a:blip r:embed="rId2"/>
          <a:stretch/>
        </p:blipFill>
        <p:spPr>
          <a:xfrm>
            <a:off x="609480" y="990720"/>
            <a:ext cx="77979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Do NOT Drink and Drive"/>
          <p:cNvPicPr/>
          <p:nvPr/>
        </p:nvPicPr>
        <p:blipFill>
          <a:blip r:embed="rId2"/>
          <a:stretch/>
        </p:blipFill>
        <p:spPr>
          <a:xfrm>
            <a:off x="838080" y="914400"/>
            <a:ext cx="7270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http://www.aef.com/images/museum/clio_2007/Print/Australian%20Red%20Cross%20Blood%20Service%20-%20Blood%20Box%20-%20M%20C%20Saatchi%20-%20Sydney.jpg"/>
          <p:cNvPicPr/>
          <p:nvPr/>
        </p:nvPicPr>
        <p:blipFill>
          <a:blip r:embed="rId2"/>
          <a:stretch/>
        </p:blipFill>
        <p:spPr>
          <a:xfrm>
            <a:off x="2057400" y="304920"/>
            <a:ext cx="50180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hetorical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to make your writing/speaking more persuasiv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llel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llel Structure-repetition of grammatically similar words, phrases, clauses, or sentences to emphasize a point or stir the emotions of a reader/listen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to create a sense of rhythm, balance, and order in writing or spee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llel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ach told the players: 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will ge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sleep tonight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will ea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ight meal no closer to an hour before the game,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will d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warm-up exercises before the game.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1320" y="3713040"/>
            <a:ext cx="335268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hetorical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hetorical Question - question not answered by writer bec the answer is obvious or obviously desired. Used in persuasion to encourage the reader/listener to reflect on what the answer must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uch longer must our people endure this injustice?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29400" y="4678200"/>
            <a:ext cx="2514600" cy="21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reference to the Bible or a famous person, event, story. Relies on reader/listener to be familiar with the reference and hidden meaning. Used to stimulate ideas, associations, add extra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I want to persuade you to wash your hands, I may say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u shalt wash thy hands.” I am trusting that you respect the commandments and, hence, my stat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 between two things that are alike in certain respects. Used in persuasion to demonstrate the logic of one idea by showing how it is similar to an accepted id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pils are more like oysters than sausages. The job of teaching is not to stuff them and then seal them up, but to help them reveal the riches within.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Sydney Harr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772240"/>
            <a:ext cx="1238400" cy="1085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Go to full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27920" y="6095880"/>
            <a:ext cx="2116080" cy="762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Go to fullsize ima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505320" y="5829480"/>
            <a:ext cx="138096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807696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etition of initial consonant sounds in words that are close together. Used to call attention to a phrase and fixes it in the reader’s/ listener’s m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.e.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 us go forth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d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.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John F. Kennedy Inaugural speech)  L                       sound is soft, soothing; we                   infer that his presidency                      will be peaceful for 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4495680"/>
            <a:ext cx="205740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hetoric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t of effective expression (speaking &amp; writing) and the persuasive use of languag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 we study rhetor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 it helps us to better appreciat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ls to our ethos, pathos, &amp; logos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ore on this to co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elps us to become more effective persuasive speakers and wri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et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ating an idea using the same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rick Henry: “The war is inevitable – let it come! I repeat it, sir, let it com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s emphasis and stirs emo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920" y="1143000"/>
            <a:ext cx="8076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strongly contrasting words, images, or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F. Kennedy “…ask not what your country can do for you – ask what you can do for your countr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Not that I loved Caesar less, but that I loved Rome more". 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rutus in:  " Julius Caesar" by William Shakespe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6960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or can be used to make you like the writer/speaker and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 you ov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erbole-exaggeration for emphasis/effect 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night she needs a paint scraper to take off her makeu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rcasm 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ama couldn’t tell the truth if you gave him a million dollars.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ony (verbal, situational, dramatic) 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ironic that the window store had all of its windows broken by vandal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tement (From Monty Python -  Army officer loses a leg, and says, It just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ngs a bit.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2400" y="0"/>
            <a:ext cx="13716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d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47920" y="137160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When attempting to persuade,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your audien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, you would not use caustic satire to persuade a potential employer to hire yo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od served here is great if you are a teenager with two dollars in your pocket.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Go to fullsize image"/>
          <p:cNvPicPr/>
          <p:nvPr/>
        </p:nvPicPr>
        <p:blipFill>
          <a:blip r:embed="rId1"/>
          <a:stretch/>
        </p:blipFill>
        <p:spPr>
          <a:xfrm>
            <a:off x="0" y="0"/>
            <a:ext cx="182880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e Voice v. Passive Vo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ctive Voice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ball. The subject of this sentenc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ctive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its the b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assive Voice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as h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the boy. The subject sit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assive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doing nothing while some outside agent performs the 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e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 why it is better rhetoric to use active voic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ctive voice sentences are shor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ghter punched Ali and dodged the uppercut. (Active= 8 wor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i was punched by the fighter, and then an uppercut was dodged by him. (Passive= 14 wor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ctive sentences are clear and to the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use passive voice, you have to use boring phrases like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so-and-so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leave this out and let your sentence become uncl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irplane was flown to Bermuda (by the pilo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car has been driven to Dallas. (By whom? A car thief? The teletubbies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Identify the Evil Passive Voic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re a form of the verb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b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ch as is/am/are/was/were/be/being/been? (Ca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create passive voice without th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you insert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so-and-s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fter the verb? (the dog was fed (by the own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 the subject and main verb. Is the subject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ing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action? Or is it sitting passive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ads readers/listeners to believe something is ethically or legall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otiona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sometimes called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ationalism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leads readers/listeners to recognize that ideas expressed are important to the writer/spe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l-life example of rhetoric in actio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ersuade a student to get to class on time, you might say,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HHHS policy that students serve detention after four tardie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akes this statement effect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tement sounds formal and authoritati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992400"/>
            <a:ext cx="358128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hos, Pathos, Log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k philosopher Aristotle argued that there are three basic ways to persuade an audience that you are righ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29000" y="3733920"/>
            <a:ext cx="1828800" cy="24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h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80880" y="137160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uasive appeal of on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character. Tells us that the author is reliable, and competent, eth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a father, a taxpayer, and have served you as senator for 20 years. I deserve your vote to continue my servic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http://w3.legis.state.ak.us/images/senate/FRE.jpg"/>
          <p:cNvPicPr/>
          <p:nvPr/>
        </p:nvPicPr>
        <p:blipFill>
          <a:blip r:embed="rId1"/>
          <a:stretch/>
        </p:blipFill>
        <p:spPr>
          <a:xfrm>
            <a:off x="7667640" y="4838760"/>
            <a:ext cx="1476360" cy="2019240"/>
          </a:xfrm>
          <a:prstGeom prst="rect">
            <a:avLst/>
          </a:prstGeom>
          <a:ln w="0">
            <a:noFill/>
          </a:ln>
        </p:spPr>
      </p:pic>
      <p:sp>
        <p:nvSpPr>
          <p:cNvPr id="66" name="TextBox 4"/>
          <p:cNvSpPr/>
          <p:nvPr/>
        </p:nvSpPr>
        <p:spPr>
          <a:xfrm>
            <a:off x="5105520" y="632448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K Senator Hollis Fren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th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l to emotion (meant to evoke emotional respon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ine for a moment a tragic collision on the Parks Highway. A family is killed and many others are  injured. The cause is determined to be frost heaves. We must use more state funds to pay for road improvements.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29400" y="0"/>
            <a:ext cx="25146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l to reason/logic (evokes a rational/logical respon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aska’s roads are in a state of disrepair. Without quality roads, our transportation system will falter and hinder our economy. Hence, we must use more state funds to pay for road repairs.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43800" y="0"/>
            <a:ext cx="1600200" cy="21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70-01-01T00:02:03Z</dcterms:created>
  <dc:creator>West Anchorage High School</dc:creator>
  <dc:description/>
  <dc:language>en-US</dc:language>
  <cp:lastModifiedBy>Rowell, Sandra</cp:lastModifiedBy>
  <cp:lastPrinted>2016-09-12T21:33:06Z</cp:lastPrinted>
  <dcterms:modified xsi:type="dcterms:W3CDTF">2016-09-13T21:24:24Z</dcterms:modified>
  <cp:revision>30</cp:revision>
  <dc:subject/>
  <dc:title>Rhetorical Devices</dc:title>
</cp:coreProperties>
</file>