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8A1F-1500-4D4F-B95A-3C8DA457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CBE3-2ABC-479C-AF37-EFB3660D9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EE6C-B150-4FB9-A53E-E0E397952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2676-6D3D-441D-898B-0E5F2642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A28D-F8FE-4671-8E5D-71D3EAEB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CD96-0FC4-46B2-A609-3A8E64B2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E139-08FF-4386-8910-D2D852A7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5DE-92CA-409F-9C36-FFC74970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458-B33F-4451-B66B-57420C24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6644-4E58-42E3-BB67-24EFD9F6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7947-43DC-4EAC-AF7B-1F1DAFDEC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804A-5218-484D-B422-2A63C7027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B03C-167A-47CB-8265-006E1E1D4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441-005D-4EDB-8C83-7D2531CE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C21-51ED-4FAB-B407-D551ABCC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E85-3BED-421F-BFF6-D5C110BE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CE7-D16F-47E6-8DC3-6BF3EB22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82A-3C8E-4C7F-A5BA-56A468F8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5C6-DE78-4410-AEE4-89300DF2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471-9700-40AB-A310-695D28B9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C01-C8DC-4DB6-B751-EA6FFE4B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841-271C-41C7-B8A2-3E709A5E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C8B-86C8-48DB-B021-F7BF681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BC2-7CA8-4CE4-A864-C9D2DD5A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445-E9F9-49B1-B6EA-77FD2CD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3B0E-3A40-4DF6-9D21-D8602FAEC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SlSNJIXEAJRWJzbkF;_ylu=X3oDMTByMDdkbjdmBHBvcwMyMARzZWMDc3IEdnRpZANJMTAxXzEyMg--/SIG=1gvo16u4d/EXP=1227155218/**http://images.search.yahoo.com/images/view?back=http%253A%252F%252Fimages.search.yahoo.com%252Fsearch%252Fimages%253Fp%253Dcoach%252Byelling%2526fr%253Dyfp-t-501%2526ei%253Dutf-8%2526js%253D1%2526x%253Dwrt&amp;w=512&amp;h=482&amp;imgurl=images.sundaymorningqb.com%252Fimages%252Fadmin%252FGROB.jpg&amp;rurl=http%253A%252F%252Fwww.hiring-revolution.com%252F%253F%2526paged%253D5&amp;size=51.9kB&amp;name=GROB.jpg&amp;p=coach+yelling&amp;type=JPG&amp;oid=42a0d35e8d39206c&amp;no=20&amp;tt=224&amp;sigr=11al9feu3&amp;sigi=11girn4u7&amp;sigb=12tuu1ahr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7NlSNJL1wAGMyJzbkF;_ylu=X3oDMTBxanJlOHFiBHBvcwMyBHNlYwNzcgR2dGlkA0kxMDFfMTIy/SIG=1i2aeakfl/EXP=1227155277/**http://images.search.yahoo.com/images/view?back=http%253A%252F%252Fimages.search.yahoo.com%252Fsearch%252Fimages%253Fp%253Dmartin%252Bluther%252Bking%2526fr%253Dyfp-t-501%2526ei%253Dutf-8%2526js%253D1%2526x%253Dwrt&amp;w=359&amp;h=312&amp;imgurl=www.pestaola.gr%252Fimages%252Fmartin_luther_king_pointing_finger.jpg&amp;rurl=http%253A%252F%252Fmiasays.livejournal.com%252F&amp;size=25.1kB&amp;name=martin_luther_king_pointing_finger.jpg&amp;p=martin+luther+king&amp;type=JPG&amp;oid=58cc12b50ba1d560&amp;no=2&amp;tt=149,617&amp;sigr=10vhofgjm&amp;sigi=11tdhgac6&amp;sigb=132fc3le0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7.lSNJs2AAN2GJzbkF;_ylu=X3oDMTBxb29sdm5xBHBvcwMxBHNlYwNzcgR2dGlkA0kxMDFfMTIy/SIG=1i0c0irne/EXP=1227155326/**http://images.search.yahoo.com/images/view?back=http%253A%252F%252Fimages.search.yahoo.com%252Fsearch%252Fimages%253Fp%253Doyster%252Bwith%252Bpearl%252B%2526fr%253Dyfp-t-501%2526ei%253Dutf-8%2526js%253D1%2526x%253Dwrt&amp;w=263&amp;h=231&amp;imgurl=www.thewellnessbuzz.com%252Fimages%252F263_GoldenPearlInOyster.jpg&amp;rurl=http%253A%252F%252Fwww.thewellnessbuzz.com%252Fpages%252F5&amp;size=8.5kB&amp;name=263_GoldenPearlInOyster.jpg&amp;p=oyster+with+pearl&amp;type=JPG&amp;oid=6128718a55efb31a&amp;no=1&amp;tt=13,127&amp;sigr=1161skhhf&amp;sigi=11ql9n1em&amp;sigb=132ed6qoc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rds.yahoo.com/_ylt=A0S020sRliNJNiwAH62JzbkF;_ylu=X3oDMTBxb29sdm5xBHBvcwMxBHNlYwNzcgR2dGlkA0kxMDFfMTIy/SIG=1h02a52e7/EXP=1227155345/**http://images.search.yahoo.com/images/view?back=http%253A%252F%252Fimages.search.yahoo.com%252Fsearch%252Fimages%253Fp%253Dsausages%2526fr%253Dyfp-t-501%2526ei%253Dutf-8%2526js%253D1%2526x%253Dwrt&amp;w=694&amp;h=254&amp;imgurl=www.sikorskisausages.com%252Fassets_pics%252Fbarbecue_sausages_03.jpg&amp;rurl=http%253A%252F%252Fwww.sikorskisausages.com%252Fsitemap.htm&amp;size=47.2kB&amp;name=barbecue_sausages_03.jpg&amp;p=sausages&amp;type=JPG&amp;oid=da266b74c4454a4c&amp;no=1&amp;tt=108,669&amp;sigr=11b3l1tf0&amp;sigi=11tr75h76&amp;sigb=12oq25mfu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rds.yahoo.com/_ylt=A0S0204nliNJPGUAFESJzbkF;_ylu=X3oDMTBxanJqcTc3BHBvcwM2BHNlYwNzcgR2dGlkA0kxMDFfMTIy/SIG=1nmm57s2n/EXP=1227155367/**http://images.search.yahoo.com/images/view?back=http%253A%252F%252Fimages.search.yahoo.com%252Fsearch%252Fimages%253Fp%253Dstudents%2526fr%253Dyfp-t-501%2526ei%253Dutf-8%2526js%253D1%2526x%253Dwrt&amp;w=500&amp;h=375&amp;imgurl=static.flickr.com%252F2290%252F2476307879_ac742b03cf.jpg&amp;rurl=http%253A%252F%252Fwww.flickr.com%252Fphotos%252Ftulayemekli%252F2476307879%252F&amp;size=141.6kB&amp;name=My+Erasmus+students%252Cwhom+I+teach+Turkish&amp;p=students&amp;type=JPG&amp;oid=35541d69453a7ea4&amp;fusr=Tulay+Emekli&amp;tit=My+Erasmus+students%252Cwhom+I+teach+Turkish&amp;hurl=http%253A%252F%252Fwww.flickr.com%252Fphotos%252Ftulayemekli%252F&amp;no=6&amp;tt=7,334,120&amp;sigr=11ko9sojt&amp;sigi=11g346ldc&amp;sigb=12op7om4g&amp;sigh=1192rrtct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lEliNJsXsAcBuJzbkF;_ylu=X3oDMTBxanJlOHFiBHBvcwMyBHNlYwNzcgR2dGlkA0kxMDFfMTIy/SIG=1kjdu222b/EXP=1227155396/**http://images.search.yahoo.com/images/view?back=http%253A%252F%252Fimages.search.yahoo.com%252Fsearch%252Fimages%253Fp%253Djohn%252Bf%252Bkennedy%2526fr%253Dyfp-t-501%2526ei%253Dutf-8%2526js%253D1%2526x%253Dwrt&amp;w=300&amp;h=288&amp;imgurl=www.glynn.k12.ga.us%252F%257Epwilliam%252FBHS%252Facademics%252Fjunior%252Fmitts%252Fcrystalw12169%252FKENNEDY1.JPG&amp;rurl=http%253A%252F%252Fwww.glynn.k12.ga.us%252F%257Epwilliam%252FBHS%252Facademics%252Fjunior%252Fmitts%252Fcrystalw12169&amp;size=20.5kB&amp;name=KENNEDY1.JPG&amp;p=john+f+kennedy&amp;type=JPG&amp;oid=52bcb0a63af40ee6&amp;no=2&amp;tt=95,874&amp;sigr=12ddkqlsb&amp;sigi=12jnp6hfc&amp;sigb=12u9urrb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xBlyNJyRwBu1uJzbkF;_ylu=X3oDMTBxdnF2MGFlBHBvcwM0BHNlYwNzcgR2dGlkA0kxMDFfMTIy/SIG=1l5q1mpmk/EXP=1227155649/**http://images.search.yahoo.com/images/view?back=http%253A%252F%252Fimages.search.yahoo.com%252Fsearch%252Fimages%253Fp%253Dmonty%252Bpython%252Bmeaning%252Bof%252Blife%2526fr%253Dyfp-t-501%2526ei%253Dutf-8%2526js%253D1%2526x%253Dwrt&amp;w=165&amp;h=236&amp;imgurl=www.submedia.be%252FMH%252Farchives%252Fdvd%252Fmonty%252520python%252520the%252520meaning%252520of%252520life.jpg&amp;rurl=http%253A%252F%252Fwww.submedia.be%252FMH%252Farchives%252Fcomedy&amp;size=15.3kB&amp;name=monty+python+the+meaning+of+life.jpg&amp;p=monty+python+meaning+of+life&amp;type=JPG&amp;oid=04f71d236c9e29b2&amp;no=4&amp;tt=801&amp;sigr=119h3t7k3&amp;sigi=12e16fri9&amp;sigb=13c62sqg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kslCNJhnYAHSKJzbkF;_ylu=X3oDMTBxdnF2MGFlBHBvcwM0BHNlYwNzcgR2dGlkA0kxMDFfMTIy/SIG=1kll7t3nu/EXP=1227154860/**http://images.search.yahoo.com/images/view?back=http%253A%252F%252Fimages.search.yahoo.com%252Fsearch%252Fimages%253Fp%253Dauthority%2526fr%253Dyfp-t-501%2526ei%253Dutf-8%2526js%253D1%2526x%253Dwrt&amp;w=500&amp;h=400&amp;imgurl=static.flickr.com%252F54%252F129909751_202614353b.jpg&amp;rurl=http%253A%252F%252Fwww.flickr.com%252Fphotos%252Fkittyanydots%252F129909751%252F&amp;size=78kB&amp;name=authority&amp;p=authority&amp;type=JPG&amp;oid=98654e6f6b48f870&amp;fusr=kittyanydots&amp;tit=authority&amp;hurl=http%253A%252F%252Fwww.flickr.com%252Fphotos%252Fkittyanydots%252F&amp;no=4&amp;tt=928,542&amp;sigr=11k4vof8c&amp;sigi=11do2gctf&amp;sigb=12psg2lae&amp;sigh=11a1f2ddh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tclCNJWDIA_8CJzbkF;_ylu=X3oDMTBxZmZ1OGltBHBvcwMzBHNlYwNzcgR2dGlkA0kxMDFfMTIy/SIG=1gnu727pr/EXP=1227154908/**http://images.search.yahoo.com/images/view?back=http%253A%252F%252Fimages.search.yahoo.com%252Fsearch%252Fimages%253Fp%253Daristotle%2526y%253DSearch%2526fr%253Dyfp-t-501%2526ei%253Dutf-8%2526js%253D1%2526x%253Dwrt&amp;w=250&amp;h=340&amp;imgurl=www.newageinfo.com%252Fimages%252Faristotle.jpg&amp;rurl=http%253A%252F%252Fwww.newageinfo.com%252Faristotle-alchemist.htm&amp;size=41.6kB&amp;name=aristotle.jpg&amp;p=aristotle&amp;type=JPG&amp;oid=d5595ffeb185ea98&amp;no=3&amp;tt=44,338&amp;sigr=11h94t53n&amp;sigi=117njsbl2&amp;sigb=132vo4ej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o4lSNJ_gUBH26JzbkF;_ylu=X3oDMTBxdnF2MGFlBHBvcwM0BHNlYwNzcgR2dGlkA0kxMDFfMTIy/SIG=1l5pvt6pg/EXP=1227155128/**http://images.search.yahoo.com/images/view?back=http%253A%252F%252Fimages.search.yahoo.com%252Fsearch%252Fimages%253Fp%253Dcar%252Bcrash%2526fr%253Dyfp-t-501%2526toggle%253D1%2526cop%253Dmss%2526ei%253DUTF-8&amp;w=500&amp;h=375&amp;imgurl=static.flickr.com%252F82%252F263244453_8c85238dce.jpg&amp;rurl=http%253A%252F%252Fwww.flickr.com%252Fphotos%252Fschaapy%252F263244453%252F&amp;size=202.3kB&amp;name=Dad+Car+Crash&amp;p=car+crash&amp;type=JPG&amp;oid=6ac5faf1b8a0e448&amp;fusr=schaapy&amp;tit=Dad+Car+Crash&amp;hurl=http%253A%252F%252Fwww.flickr.com%252Fphotos%252Fschaapy%252F&amp;no=4&amp;tt=195,189&amp;sigr=11fvpr0ve&amp;sigi=11d1a8i81&amp;sigb=12vpgq7qh&amp;sigh=115sdo5v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0S020mEmCNJ7HAAZwCJzbkF;_ylu=X3oDMTBxbmgwbTYyBHBvcwM3BHNlYwNzcgR2dGlkA0kxMDFfMTIy/SIG=1oe7lo6r4/EXP=1227155972/**http://images.search.yahoo.com/images/view?back=http%253A%252F%252Fimages.search.yahoo.com%252Fsearch%252Fimages%253Fp%253Dsemi%252Bon%252Broad%2526fr%253Dyfp-t-501%2526ei%253Dutf-8%2526js%253D1%2526x%253Dwrt&amp;w=375&amp;h=500&amp;imgurl=static.flickr.com%252F28%252F38117555_45976cf8bc.jpg&amp;rurl=http%253A%252F%252Fwww.flickr.com%252Fphotos%252Fgoatopolis%252F38117555%252F&amp;size=58.6kB&amp;name=day+8%253A+semi+on+white+pass+%2528highway+12%2529&amp;p=semi+on+road&amp;type=JPG&amp;oid=31ef058b6ec35c70&amp;fusr=goatopolis&amp;tit=day+8%253A+semi+on+white+pass+%2528highway+12%2529&amp;hurl=http%253A%252F%252Fwww.flickr.com%252Fphotos%252Fgoatopolis%252F&amp;no=7&amp;tt=33,126&amp;sigr=11h7oeo5i&amp;sigi=11cqnkm1e&amp;sigb=12s33hhsm&amp;sigh=118rrsmd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Rhetorical Strateg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Unknown.jpeg"/>
          <p:cNvPicPr/>
          <p:nvPr/>
        </p:nvPicPr>
        <p:blipFill>
          <a:blip r:embed="rId1"/>
          <a:stretch/>
        </p:blipFill>
        <p:spPr>
          <a:xfrm>
            <a:off x="2057400" y="2057400"/>
            <a:ext cx="4816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enver Water"/>
          <p:cNvPicPr/>
          <p:nvPr/>
        </p:nvPicPr>
        <p:blipFill>
          <a:blip r:embed="rId2"/>
          <a:stretch/>
        </p:blipFill>
        <p:spPr>
          <a:xfrm>
            <a:off x="609480" y="990720"/>
            <a:ext cx="7797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o NOT Drink and Drive"/>
          <p:cNvPicPr/>
          <p:nvPr/>
        </p:nvPicPr>
        <p:blipFill>
          <a:blip r:embed="rId2"/>
          <a:stretch/>
        </p:blipFill>
        <p:spPr>
          <a:xfrm>
            <a:off x="838080" y="914400"/>
            <a:ext cx="7270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aef.com/images/museum/clio_2007/Print/Australian%20Red%20Cross%20Blood%20Service%20-%20Blood%20Box%20-%20M%20C%20Saatchi%20-%20Sydney.jpg"/>
          <p:cNvPicPr/>
          <p:nvPr/>
        </p:nvPicPr>
        <p:blipFill>
          <a:blip r:embed="rId2"/>
          <a:stretch/>
        </p:blipFill>
        <p:spPr>
          <a:xfrm>
            <a:off x="2057400" y="304920"/>
            <a:ext cx="501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make your writing/speaking more persuasi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Structure-repetition of grammatically similar words, phrases, clauses, or sentences to emphasize a point or stir the emotions of a reader/liste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reate a sense of rhythm, balance, and order in writing o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ach told the players: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g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eep tonigh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e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ght meal no closer to an hour before the game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warm-up exercises before the game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713040"/>
            <a:ext cx="33526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toric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torical Question - question not answered by writer bec the answer is obvious or obviously desired. Used in persuasion to encourage the reader/listener to reflect on what the answer mu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longer must our people endure this injustice?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678200"/>
            <a:ext cx="25146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reference to the Bible or a famous person, event, story. Relies on reader/listener to be familiar with the reference and hidden meaning. Used to stimulate ideas, associations, add extra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ant to persuade you to wash your hands, I may sa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 shalt wash thy hands.” I am trusting that you respect the commandments and, hence, my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between two things that are alike in certain respects. Used in persuasion to demonstrate the logic of one idea by showing how it is similar to an accepte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are more like oysters than sausages. The job of teaching is not to stuff them and then seal them up, but to help them reveal the riches withi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ydney Har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772240"/>
            <a:ext cx="1238400" cy="108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7920" y="6095880"/>
            <a:ext cx="211608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05320" y="5829480"/>
            <a:ext cx="13809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 of initial consonant sounds in words that are close together. Used to call attention to a phrase and fixes it in the reader’s/ listener’s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us go forth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ohn F. Kennedy Inaugural speech)  L                       sound is soft, soothing; we                   infer that his presidency                      will be peaceful for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495680"/>
            <a:ext cx="2057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hetor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 of effective expression (speaking &amp; writing) and the persuasive use of languag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we study rhetor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t helps us to better appreci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s to our ethos, pathos, &amp; logo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e on this to 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us to become more effective persuasive speakers and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ing an idea using the sam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: “The war is inevitable – let it come! I repeat it, sir, let it 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emphasis and stirs 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114300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trongly contrasting words, images, o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. Kennedy “…ask not what your country can do for you – ask what you can do for your countr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Not that I loved Caesar less, but that I loved Rome more".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rutus in:  " Julius Caesar" by William Shakespe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or can be used to make you like the writer/speaker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you o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bole-exaggeration for emphasis/effect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ight she needs a paint scraper to take off her makeu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rcasm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ma couldn’t tell the truth if you gave him a million dollars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y (verbal, situational, dramatic)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ronic that the window store had all of its windows broken by vandal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tement (From Monty Python -  Army officer loses a leg, and says, It jus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ngs a bit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920" y="13716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When attempting to persuade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your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you would not use caustic satire to persuade a potential employer to hire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od served here is great if you are a teenager with two dollars in your pocket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Go to fullsize image"/>
          <p:cNvPicPr/>
          <p:nvPr/>
        </p:nvPicPr>
        <p:blipFill>
          <a:blip r:embed="rId1"/>
          <a:stretch/>
        </p:blipFill>
        <p:spPr>
          <a:xfrm>
            <a:off x="0" y="0"/>
            <a:ext cx="1828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Voice v. Passive 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Voi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all. The subject of this sent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ts the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ssive Voic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s h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boy. The subject si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ss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oing nothing while some outside agent performs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why it is better rhetoric to use active v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ve voice sentences are sho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hter punched Ali and dodged the uppercut. (Active= 8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 was punched by the fighter, and then an uppercut was dodged by him. (Passive= 14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tive sentences are clear and to the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use passive voice, you have to use boring phrases lik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o-and-s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leave this out and let your sentence become un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rplane was flown to Bermuda (by the pilo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car has been driven to Dallas. (By whom? A car thief? The teletubbi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dentify the Evil Passive Vo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form of the verb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as is/am/are/was/were/be/being/been? (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create passive voice without th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you inser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o-and-s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the verb? (the dog was fed (by the 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the subject and main verb. Is the subjec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action? Or is it sitting pass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ds readers/listeners to believe something is ethically or legal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ometimes call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ationalism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eads readers/listeners to recognize that ideas expressed are important to the writer/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-life example of rhetoric in a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suade a student to get to class on time, you might say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HHS policy that students serve detention after four tard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this statemen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ment sounds formal and authoritat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992400"/>
            <a:ext cx="35812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, Pathos, L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philosopher Aristotle argued that there are three basic ways to persuade an audience that you are righ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733920"/>
            <a:ext cx="18288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3716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sive appeal of o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haracter. Tells us that the author is reliable, and competent, eth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father, a taxpayer, and have served you as senator for 20 years. I deserve your vote to continue my servi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3.legis.state.ak.us/images/senate/FRE.jpg"/>
          <p:cNvPicPr/>
          <p:nvPr/>
        </p:nvPicPr>
        <p:blipFill>
          <a:blip r:embed="rId1"/>
          <a:stretch/>
        </p:blipFill>
        <p:spPr>
          <a:xfrm>
            <a:off x="7667640" y="4838760"/>
            <a:ext cx="1476360" cy="2019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05520" y="63244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 Senator Hollis Fre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 to emotion (meant to evoke emotional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for a moment a tragic collision on the Parks Highway. A family is killed and many others are  injured. The cause is determined to be frost heaves. We must use more state funds to pay for road improvement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l to reason/logic (evokes a rational/logical respo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ska’s roads are in a state of disrepair. Without quality roads, our transportation system will falter and hinder our economy. Hence, we must use more state funds to pay for road repairs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0"/>
            <a:ext cx="16002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02:03Z</dcterms:created>
  <dc:creator>West Anchorage High School</dc:creator>
  <dc:description/>
  <dc:language>en-US</dc:language>
  <cp:lastModifiedBy>Rowell, Sandra</cp:lastModifiedBy>
  <cp:lastPrinted>2016-09-12T21:33:06Z</cp:lastPrinted>
  <dcterms:modified xsi:type="dcterms:W3CDTF">2016-09-13T21:24:24Z</dcterms:modified>
  <cp:revision>30</cp:revision>
  <dc:subject/>
  <dc:title>Rhetorical Devices</dc:title>
</cp:coreProperties>
</file>